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636-C4C0-44D5-B5A5-95503A69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039-A203-41D9-B74A-C1AB0902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2E0-3FB3-4775-8E13-E933D795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0AC-16D2-4A15-8679-341DA702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A43-9810-4037-BDA2-DC93898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698-258B-4FF8-9F9C-43C9E30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D2A-32BA-410F-9118-12B9DFB1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85E-62D4-4647-9E94-C97AD8F4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49C-A751-4272-A9D4-A5AF3A80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197-22B4-4F17-9048-1048882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43C-D31E-4E1F-96E8-11F163A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4A8-22B6-44AE-883F-0D1719B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577-3CB6-4073-8BDB-883CAC324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flipH="1" rot="10800000">
            <a:off x="7162920" y="37335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 flipH="1" rot="10800000">
            <a:off x="2514600" y="53280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10800000"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 rot="10800000"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 flipH="1" rot="10800000">
            <a:off x="7086600" y="6091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flipH="1" rot="10800000"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flipH="1" rot="10800000">
            <a:off x="7086600" y="464796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" descr="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" descr="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" descr="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" descr="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" descr="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" descr="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andrew10043</cp:lastModifiedBy>
  <dcterms:modified xsi:type="dcterms:W3CDTF">2006-02-10T19:02:31Z</dcterms:modified>
  <cp:revision>5</cp:revision>
  <dc:subject/>
  <dc:title>PowerPoint Presentation</dc:title>
</cp:coreProperties>
</file>