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A4E-A491-4940-97D4-B0D48D9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B08-FE01-4304-B7D0-8B613A29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3CA-E67A-4104-8D03-CBA4992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274-1462-4EDD-A34F-DE796648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930-89ED-4E86-B2BE-98E1304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FA2-1FC0-4EA9-B1EE-2CA9882C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DAB-A0E4-4F3A-AEE1-3C2A3C2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DB5-7E71-44BE-AA54-CFA258EC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6CD-3E5F-4286-B7FA-11BAF06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D5A-9F8D-44C9-BD06-3CEBC7B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E14-733B-4B77-9F79-B8C74BA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28F-C122-408E-9BE1-DC7C8E5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D5D-8053-424A-9D66-C1A2841BC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" descr="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" descr="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" descr="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" descr="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" descr="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" descr="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andrew10043</cp:lastModifiedBy>
  <dcterms:modified xsi:type="dcterms:W3CDTF">2006-02-10T19:02:31Z</dcterms:modified>
  <cp:revision>5</cp:revision>
  <dc:subject/>
  <dc:title>PowerPoint Presentation</dc:title>
</cp:coreProperties>
</file>