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EF4B-127D-4284-85AA-5AA09BB1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C080-1D16-46BB-8350-4B7BAFFC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D40-5864-42AD-97AF-C5863B1B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FFAA-D369-42DD-A908-A1CFC7AA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ECFF-EBE7-4CFE-A45A-15BE2E44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E4D2-DF7C-45D9-A968-95BBD692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33A4-D194-4958-912A-A773D2A6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5731-8156-450D-84FD-B8F7849F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B578-9207-4055-BB5D-FF2316EE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1D93-6D84-4EB2-BC4D-E19371AC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7E91-008A-45B4-8781-30C037BA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8413-EFBD-4C19-AE7A-97B1AA90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59BB-2FF2-4502-8C3B-19BC0927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6F83-634B-4065-A066-9C70A3AC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8EDA-27B1-445E-BB9A-97D1B35C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CD45-6338-4E75-94DD-AEF51C38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0A42-A34A-412E-87E0-7E96CA2D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4033-60EA-4FC8-902D-CD74A8DB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CF85-87E1-47A8-8178-96A2F2C3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CDDD-DD09-4F73-909A-2723DE53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97E-4990-4726-BBFD-ED7FDAA2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D63B-6B38-4406-96DB-033D012F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C9B-3FB9-4DB5-B013-79873F96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77E9-CFF8-48B1-A5A5-3799D6C5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F58F-BE0D-4CE8-AEF3-8B8A47860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C68E-FAAF-49E2-A54A-F653A0F3C7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96960" y="45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ock Ty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1073160" y="1606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ck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5238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gneo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798720" y="14209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Sedimentar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R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88480" y="1560600"/>
            <a:ext cx="161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etamorph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o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783480" y="1535040"/>
            <a:ext cx="185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very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609480" y="2133720"/>
            <a:ext cx="7925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rths most abundant rocks, formed from melted rock that cools and harde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2077560" y="2819520"/>
            <a:ext cx="517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gneous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685800" y="21337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material, also called molten rock while inside the eart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2684160" y="2286000"/>
            <a:ext cx="394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agm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1523880" y="251460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type of molten rock erupts onto Earth’s surfa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2604600" y="2438280"/>
            <a:ext cx="32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av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914400" y="22860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process or proces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molten rock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es igneous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1088280" y="2514600"/>
            <a:ext cx="730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cooling and harden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838080" y="236232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ate at which lava cools controls the size of this within igneous rocks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415440" y="2849400"/>
            <a:ext cx="859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crystals or crystal form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533520" y="2209680"/>
            <a:ext cx="8305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is a naturally occurring solid mixture composed of minerals, small rock fragments, organic matter, or glas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"/>
          <p:cNvSpPr/>
          <p:nvPr/>
        </p:nvSpPr>
        <p:spPr>
          <a:xfrm>
            <a:off x="1143000" y="198108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ologists classify igneous rocks by this; it refers to grain size and grain arrangeme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2759400" y="2666880"/>
            <a:ext cx="384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extur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1143000" y="2057400"/>
            <a:ext cx="769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ck and mineral fragments that are loose or suspended in water, mineral or organic matter deposited by water, air, or ice are call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2077560" y="2843280"/>
            <a:ext cx="484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sediment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533520" y="1981080"/>
            <a:ext cx="78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cess by which rock sediments are removed and transported away by water, wind, or i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2530440" y="2895480"/>
            <a:ext cx="394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ros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304920" y="2133720"/>
            <a:ext cx="8610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conditions in the air above the Earth such as wind, rain or temperature, especially at a particular time over a particular are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2531160" y="2286000"/>
            <a:ext cx="40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weath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"/>
          <p:cNvSpPr/>
          <p:nvPr/>
        </p:nvSpPr>
        <p:spPr>
          <a:xfrm>
            <a:off x="685800" y="198108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cess by which unconsolidated material converts into coherent, solid rock, through compaction or cementation; this process turns sediment into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2077920" y="2895480"/>
            <a:ext cx="490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ithific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438280" y="29718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768240" y="1789200"/>
            <a:ext cx="7696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is proces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ly breaks rocks down into smaller and smaller pieces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while anothe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 proces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olves a reaction with water that decomposes rock into smaller pie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838080" y="2646360"/>
            <a:ext cx="792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mechanical weath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hemical weathering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609480" y="2438280"/>
            <a:ext cx="7696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amorphic rocks form when parent rocks go through this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"/>
          <p:cNvSpPr/>
          <p:nvPr/>
        </p:nvSpPr>
        <p:spPr>
          <a:xfrm>
            <a:off x="1774800" y="2666880"/>
            <a:ext cx="600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queezed, heated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 exposed to hot fluids.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793800" y="2241720"/>
            <a:ext cx="77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ch metamorphic rock has one of thes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4"/>
          <p:cNvSpPr/>
          <p:nvPr/>
        </p:nvSpPr>
        <p:spPr>
          <a:xfrm>
            <a:off x="2001240" y="2514600"/>
            <a:ext cx="521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parent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"/>
          <p:cNvSpPr/>
          <p:nvPr/>
        </p:nvSpPr>
        <p:spPr>
          <a:xfrm>
            <a:off x="533520" y="2057400"/>
            <a:ext cx="8229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results when uneven pressures cause flat minerals to line up, giving the rock a layered appearan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1922760" y="2514600"/>
            <a:ext cx="419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foli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4"/>
          <p:cNvSpPr/>
          <p:nvPr/>
        </p:nvSpPr>
        <p:spPr>
          <a:xfrm>
            <a:off x="433440" y="2438280"/>
            <a:ext cx="8177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is process the rocks do not melt. They remain solid, but the texture and, sometimes, the mineral composition of the parent rock chang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1699560" y="2951280"/>
            <a:ext cx="524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 is metamorphis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"/>
          <p:cNvSpPr/>
          <p:nvPr/>
        </p:nvSpPr>
        <p:spPr>
          <a:xfrm>
            <a:off x="685800" y="23623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rock type builds up in layer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4"/>
          <p:cNvSpPr/>
          <p:nvPr/>
        </p:nvSpPr>
        <p:spPr>
          <a:xfrm>
            <a:off x="1219320" y="220968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st obvious characteristic in metamorphic Rocks but not present in all metamorphic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2455920" y="2819520"/>
            <a:ext cx="419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foli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4"/>
          <p:cNvSpPr/>
          <p:nvPr/>
        </p:nvSpPr>
        <p:spPr>
          <a:xfrm>
            <a:off x="457200" y="20574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ment is made from limestone, which contains tiny sediments this is known as what type of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4"/>
          <p:cNvSpPr/>
          <p:nvPr/>
        </p:nvSpPr>
        <p:spPr>
          <a:xfrm>
            <a:off x="1625040" y="3124080"/>
            <a:ext cx="616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edimentary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762120" y="25146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type of rock, through cooling and hardening, forms glas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4"/>
          <p:cNvSpPr/>
          <p:nvPr/>
        </p:nvSpPr>
        <p:spPr>
          <a:xfrm>
            <a:off x="2153520" y="3048120"/>
            <a:ext cx="517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gneous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762120" y="2209680"/>
            <a:ext cx="7619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cks that are squeezed, heated, or exposed to hot fluids create rocks like marble that are commonly used to make statu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4"/>
          <p:cNvSpPr/>
          <p:nvPr/>
        </p:nvSpPr>
        <p:spPr>
          <a:xfrm>
            <a:off x="1473840" y="3103560"/>
            <a:ext cx="638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etamorphic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5"/>
          <p:cNvSpPr/>
          <p:nvPr/>
        </p:nvSpPr>
        <p:spPr>
          <a:xfrm>
            <a:off x="228600" y="254628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process creates sedimentary rock, through compaction and/or cementa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4"/>
          <p:cNvSpPr/>
          <p:nvPr/>
        </p:nvSpPr>
        <p:spPr>
          <a:xfrm>
            <a:off x="1925640" y="2690640"/>
            <a:ext cx="490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ithific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1625040" y="2819520"/>
            <a:ext cx="616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edimentary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1219320" y="2530440"/>
            <a:ext cx="6933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 thousands of years, each type of rock can change into one of the others, this process is call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4"/>
          <p:cNvSpPr/>
          <p:nvPr/>
        </p:nvSpPr>
        <p:spPr>
          <a:xfrm>
            <a:off x="1622520" y="3048120"/>
            <a:ext cx="57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Rock Cyc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5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m_button"/>
          <p:cNvPicPr/>
          <p:nvPr/>
        </p:nvPicPr>
        <p:blipFill>
          <a:blip r:embed="rId2"/>
          <a:stretch/>
        </p:blipFill>
        <p:spPr>
          <a:xfrm>
            <a:off x="380880" y="601992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6"/>
          <p:cNvSpPr/>
          <p:nvPr/>
        </p:nvSpPr>
        <p:spPr>
          <a:xfrm>
            <a:off x="803160" y="1752480"/>
            <a:ext cx="8001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is the natural process that decays or breaks substances into smaller parts, and this is the natural process of depositing a substance onto rocks or soil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850760" y="2766960"/>
            <a:ext cx="5344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decompos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deposi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"/>
          <p:cNvSpPr/>
          <p:nvPr/>
        </p:nvSpPr>
        <p:spPr>
          <a:xfrm>
            <a:off x="685800" y="23623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ock type formed underground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rough heat and pressur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1397880" y="3200400"/>
            <a:ext cx="638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etamorphic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914400" y="2438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e are the individual particles in a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2909520" y="28195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rai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Kristy Aycock</cp:lastModifiedBy>
  <cp:lastPrinted>2000-08-14T13:17:55Z</cp:lastPrinted>
  <dcterms:modified xsi:type="dcterms:W3CDTF">2017-06-25T23:45:24Z</dcterms:modified>
  <cp:revision>49</cp:revision>
  <dc:subject/>
  <dc:title>Jeopardy</dc:title>
</cp:coreProperties>
</file>