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B1E-861C-456B-88D8-407544E2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9E6-DB48-42AD-ADB0-8463E505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208-B2BF-4664-89ED-E4B95F56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E5F-43F2-42EB-9E87-5186084E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3A0C-02B8-4FFC-8BA5-B8088158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F110-384B-4860-A505-D0C5988E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0291-4832-47A1-821B-28152336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A8B8-F7CD-4F53-9B97-E5F254F8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E5A-8EF9-43E3-9A70-909A9A1D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1538-9928-4509-8AB8-D907A3B1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1E96-E1AE-47F4-95B9-6173F23D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1E3-4659-489F-876A-29022FDA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6940-54AD-4A22-9C20-186BD2BB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9D3E-573F-412E-8AF7-842FEED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872C-D142-4930-A8AC-C424C21E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3255-DE9B-4271-9C56-B34ABF7F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D8E1-8BC4-44DE-90E6-CF72E12A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0C0-37B9-4251-90BC-C7A44ABE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386-458E-48CC-A805-33FA4F67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43F-5972-41D7-A8AA-3C5A72A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BBE-4DF3-493D-A894-8878FFB6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5C0-7330-4B77-9BFF-B1A69B6E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351-6B72-43A1-8E39-9EB0112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AD8-074F-4566-8C35-5C0DB2E1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7649-DA5B-4708-9DF0-E7F83686C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CD3B-DC55-4689-869A-2FB7E5E30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6960" y="45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ck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1073160" y="160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gneo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98720" y="14209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edimenta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8480" y="15606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tamorph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783480" y="153504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ery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609480" y="213372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s most abundant rocks, formed from melted rock that cools and harde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2077560" y="28195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685800" y="2133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terial, also called molten rock while inside the ear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2684160" y="2286000"/>
            <a:ext cx="39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agm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523880" y="25146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molten rock erupts onto Earth’s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2604600" y="2438280"/>
            <a:ext cx="32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av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914400" y="22860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or proce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molten roc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s igneous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088280" y="2514600"/>
            <a:ext cx="73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oling and harden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838080" y="23623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lava cools controls the size of this within igneous rock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15440" y="2849400"/>
            <a:ext cx="859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rystals or crystal form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3520" y="220968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a naturally occurring solid mixture composed of minerals, small rock fragments, organic matter, or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143000" y="19810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logists classify igneous rocks by this; it refers to grain size and grain arrangem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759400" y="2666880"/>
            <a:ext cx="38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extu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143000" y="2057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 and mineral fragments that are loose or suspended in water, mineral or organic matter deposited by water, air, or ice are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077560" y="2843280"/>
            <a:ext cx="484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sediment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33520" y="198108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rock sediments are removed and transported away by water, wind, or 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530440" y="2895480"/>
            <a:ext cx="39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ros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304920" y="2133720"/>
            <a:ext cx="8610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nditions in the air above the Earth such as wind, rain or temperature, especially at a particular time over a particular ar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2531160" y="2286000"/>
            <a:ext cx="40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685800" y="19810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unconsolidated material converts into coherent, solid rock, through compaction or cementation; this process turns sediment into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077920" y="289548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438280" y="29718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768240" y="178920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ly breaks rocks down into smaller and smaller pieces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ile anoth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olves a reaction with water that decomposes rock into smaller pie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838080" y="264636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 weath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eather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09480" y="24382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amorphic rocks form when parent rocks go through this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1774800" y="2666880"/>
            <a:ext cx="600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queezed, heated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 exposed to hot fluids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793800" y="224172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metamorphic rock has one of the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001240" y="251460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parent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533520" y="205740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results when uneven pressures cause flat minerals to line up, giving the rock a layered appear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922760" y="251460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33440" y="2438280"/>
            <a:ext cx="8177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is process the rocks do not melt. They remain solid, but the texture and, sometimes, the mineral composition of the parent rock chang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1699560" y="2951280"/>
            <a:ext cx="524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 is metamorphis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685800" y="23623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rock type builds up in laye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1219320" y="22096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st obvious characteristic in metamorphic Rocks but not present in all metamorphic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2455920" y="281952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457200" y="20574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ment is made from limestone, which contains tiny sediments this is known as what type of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1625040" y="312408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762120" y="2514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rock, through cooling and hardening, forms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2153520" y="30481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762120" y="22096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s that are squeezed, heated, or exposed to hot fluids create rocks like marble that are commonly used to make statu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1473840" y="310356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228600" y="2546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creates sedimentary rock, through compaction and/or cement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925640" y="269064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1625040" y="281952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219320" y="253044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ousands of years, each type of rock can change into one of the others, this process is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"/>
          <p:cNvSpPr/>
          <p:nvPr/>
        </p:nvSpPr>
        <p:spPr>
          <a:xfrm>
            <a:off x="1622520" y="3048120"/>
            <a:ext cx="57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Rock Cyc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_button"/>
          <p:cNvPicPr/>
          <p:nvPr/>
        </p:nvPicPr>
        <p:blipFill>
          <a:blip r:embed="rId2"/>
          <a:stretch/>
        </p:blipFill>
        <p:spPr>
          <a:xfrm>
            <a:off x="380880" y="60199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803160" y="17524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the natural process that decays or breaks substances into smaller parts, and this is the natural process of depositing a substance onto rocks or soil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850760" y="2766960"/>
            <a:ext cx="534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ecompos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deposi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68580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ock type formed underground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ough heat and pressu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397880" y="320040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91440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are the individual particles in a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2909520" y="28195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ai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Kristy Aycock</cp:lastModifiedBy>
  <cp:lastPrinted>2000-08-14T13:17:55Z</cp:lastPrinted>
  <dcterms:modified xsi:type="dcterms:W3CDTF">2017-06-25T23:45:24Z</dcterms:modified>
  <cp:revision>49</cp:revision>
  <dc:subject/>
  <dc:title>Jeopardy</dc:title>
</cp:coreProperties>
</file>