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E08-9B3B-4EAE-80ED-42E9A4EF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3E3-AC20-4768-9760-307E02C3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9CE-FF4D-4D5E-A8C0-BE7970D8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751-7B46-44B8-B3C8-55832AA2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8590-3A9C-4770-987A-39B24441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5981-1923-47B3-9923-44FF48A1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A19E-9CD0-4310-BF3C-A95D3624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51F0-F9F9-4C3C-97C9-6BB80777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32BD-23D6-4675-9343-0DBC4833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3030-A6A3-4980-8967-812F17D9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1424-DAB5-4793-AB3C-32C08D0D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749-09A5-4301-8C54-5E6F2C71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15C0-2805-4AB0-9881-EE88950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3AFD-9E2A-4544-A8BA-ADC04982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B515-696F-4092-B3EF-3E0C9E9F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21FA-DB57-4526-9D30-ED42EFCF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67F9-2399-4DFC-9DFE-74BA8521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A94-A008-42C7-AF07-014BFEA5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1C7-4F49-496B-BF55-FAA92A74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9E9-7A99-435E-BB74-6138AA49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261-C37E-442F-864D-97DBCCA1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42C-422E-47B4-A49A-149559AD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3C1-89B1-4D19-8EBF-277C81B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87D-3C16-4D99-AB80-9AB28D04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1F57-6242-4209-BF7C-EE57F2484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2739-800D-4A21-9E69-89936FCF9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6960" y="45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ck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1073160" y="1606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ck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238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gneo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798720" y="14209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edimentar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88480" y="156060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tamorph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783480" y="1535040"/>
            <a:ext cx="18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ery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609480" y="2133720"/>
            <a:ext cx="792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rths most abundant rocks, formed from melted rock that cools and harde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2077560" y="2819520"/>
            <a:ext cx="51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gneou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685800" y="2133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aterial, also called molten rock while inside the eart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2684160" y="2286000"/>
            <a:ext cx="39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agm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1523880" y="25146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type of molten rock erupts onto Earth’s surf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2604600" y="2438280"/>
            <a:ext cx="32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av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914400" y="22860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rocess or proce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molten roc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es igneous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1088280" y="2514600"/>
            <a:ext cx="730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oling and harden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838080" y="23623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e at which lava cools controls the size of this within igneous rock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415440" y="2849400"/>
            <a:ext cx="859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rystals or crystal form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33520" y="2209680"/>
            <a:ext cx="830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a naturally occurring solid mixture composed of minerals, small rock fragments, organic matter, or gla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1143000" y="19810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logists classify igneous rocks by this; it refers to grain size and grain arrangeme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759400" y="2666880"/>
            <a:ext cx="38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extur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1143000" y="205740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ck and mineral fragments that are loose or suspended in water, mineral or organic matter deposited by water, air, or ice are call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077560" y="2843280"/>
            <a:ext cx="484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sediment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33520" y="198108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cess by which rock sediments are removed and transported away by water, wind, or i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2530440" y="2895480"/>
            <a:ext cx="394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ros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304920" y="2133720"/>
            <a:ext cx="8610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onditions in the air above the Earth such as wind, rain or temperature, especially at a particular time over a particular ar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2531160" y="2286000"/>
            <a:ext cx="40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weath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"/>
          <p:cNvSpPr/>
          <p:nvPr/>
        </p:nvSpPr>
        <p:spPr>
          <a:xfrm>
            <a:off x="685800" y="19810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cess by which unconsolidated material converts into coherent, solid rock, through compaction or cementation; this process turns sediment into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2077920" y="289548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thific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438280" y="29718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768240" y="178920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proces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ly breaks rocks down into smaller and smaller pieces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while anoth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proces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olves a reaction with water that decomposes rock into smaller pie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838080" y="264636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mechanical weath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eather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609480" y="243828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amorphic rocks form when parent rocks go through this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1774800" y="2666880"/>
            <a:ext cx="600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queezed, heated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 exposed to hot fluids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793800" y="224172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ch metamorphic rock has one of thes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2001240" y="2514600"/>
            <a:ext cx="52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parent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533520" y="205740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results when uneven pressures cause flat minerals to line up, giving the rock a layered appear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1922760" y="251460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oli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433440" y="2438280"/>
            <a:ext cx="8177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is process the rocks do not melt. They remain solid, but the texture and, sometimes, the mineral composition of the parent rock chang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1699560" y="2951280"/>
            <a:ext cx="524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 is metamorphis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685800" y="23623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rock type builds up in layer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"/>
          <p:cNvSpPr/>
          <p:nvPr/>
        </p:nvSpPr>
        <p:spPr>
          <a:xfrm>
            <a:off x="1219320" y="22096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st obvious characteristic in metamorphic Rocks but not present in all metamorphic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2455920" y="281952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oli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457200" y="20574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ment is made from limestone, which contains tiny sediments this is known as what type of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1625040" y="312408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edimentary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762120" y="2514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type of rock, through cooling and hardening, forms gla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2153520" y="3048120"/>
            <a:ext cx="51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gneous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762120" y="2209680"/>
            <a:ext cx="761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cks that are squeezed, heated, or exposed to hot fluids create rocks like marble that are commonly used to make statu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1473840" y="3103560"/>
            <a:ext cx="63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tamorphic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228600" y="25462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rocess creates sedimentary rock, through compaction and/or cement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1925640" y="269064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thific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1625040" y="281952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edimentary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219320" y="2530440"/>
            <a:ext cx="693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ousands of years, each type of rock can change into one of the others, this process is call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"/>
          <p:cNvSpPr/>
          <p:nvPr/>
        </p:nvSpPr>
        <p:spPr>
          <a:xfrm>
            <a:off x="1622520" y="3048120"/>
            <a:ext cx="57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Rock Cyc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_button"/>
          <p:cNvPicPr/>
          <p:nvPr/>
        </p:nvPicPr>
        <p:blipFill>
          <a:blip r:embed="rId2"/>
          <a:stretch/>
        </p:blipFill>
        <p:spPr>
          <a:xfrm>
            <a:off x="380880" y="60199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"/>
          <p:cNvSpPr/>
          <p:nvPr/>
        </p:nvSpPr>
        <p:spPr>
          <a:xfrm>
            <a:off x="803160" y="17524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the natural process that decays or breaks substances into smaller parts, and this is the natural process of depositing a substance onto rocks or soil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850760" y="2766960"/>
            <a:ext cx="534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decompos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deposi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685800" y="23623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ock type formed underground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rough heat and pressu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397880" y="3200400"/>
            <a:ext cx="63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tamorphic ro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914400" y="2438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are the individual particles in a ro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2909520" y="2819520"/>
            <a:ext cx="34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rai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Kristy Aycock</cp:lastModifiedBy>
  <cp:lastPrinted>2000-08-14T13:17:55Z</cp:lastPrinted>
  <dcterms:modified xsi:type="dcterms:W3CDTF">2017-06-25T23:45:24Z</dcterms:modified>
  <cp:revision>49</cp:revision>
  <dc:subject/>
  <dc:title>Jeopardy</dc:title>
</cp:coreProperties>
</file>