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9381-8505-4167-A0C5-6190DBE3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D721-5B57-422F-9EFC-99F0D44D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56BE-0444-48D4-85A1-5F25467DD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44FA-304A-4B55-985A-87E080471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3323-6A47-415C-A771-543ABF5D9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CC74-0223-4E65-92CA-7AFB191F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B82E-0CCF-4D8E-A04D-6196317F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6978-5421-4FAD-95E8-FD036C37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6AFC-0FD2-462F-93DA-BEC4FCE6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30D4-4269-4050-A7D9-DC196ED3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2450-509E-4078-8617-8A6FAE60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8E52-7F6C-425B-88AD-3576B8A6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3865-A42E-4FF4-8A9F-75F25D45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9638-C52B-4BDB-BA6E-A2C31357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DA3D-7FD7-43A1-AB0F-7CA5A253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C3DE-1CDE-4847-9B33-CF84CA3C7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03DA-D062-4BAF-BDD4-79B1A0B02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EB05-204E-4DFE-87A0-D9B4B990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C41B-A482-4E8D-BB11-88F3B667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FBB2-EB8D-4845-A3DE-1A48F7A4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A172-B9AB-4C5B-9992-20DB4DF3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037B-FABD-4F72-A9A4-E926FBDC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6C04-8DF5-4AD2-AB25-A7F67DE2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1CB2-E099-476B-AC74-AE5A5229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B2F3-F0CF-420B-927E-947C588F9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8267-D148-469B-9AC9-555AEB3B17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96960" y="45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ock Ty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1073160" y="1606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ock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52388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gneou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oc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798720" y="142092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Sedimentar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Roc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388480" y="1560600"/>
            <a:ext cx="161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etamorphi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oc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783480" y="1535040"/>
            <a:ext cx="185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very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"/>
          <p:cNvSpPr/>
          <p:nvPr/>
        </p:nvSpPr>
        <p:spPr>
          <a:xfrm>
            <a:off x="609480" y="2133720"/>
            <a:ext cx="7925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arths most abundant rocks, formed from melted rock that cools and harde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4"/>
          <p:cNvSpPr/>
          <p:nvPr/>
        </p:nvSpPr>
        <p:spPr>
          <a:xfrm>
            <a:off x="2077560" y="2819520"/>
            <a:ext cx="517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igneous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4"/>
          <p:cNvSpPr/>
          <p:nvPr/>
        </p:nvSpPr>
        <p:spPr>
          <a:xfrm>
            <a:off x="685800" y="2133720"/>
            <a:ext cx="792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material, also called molten rock while inside the earth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4"/>
          <p:cNvSpPr/>
          <p:nvPr/>
        </p:nvSpPr>
        <p:spPr>
          <a:xfrm>
            <a:off x="2684160" y="2286000"/>
            <a:ext cx="394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agm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1523880" y="2514600"/>
            <a:ext cx="701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type of molten rock erupts onto Earth’s surfa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4"/>
          <p:cNvSpPr/>
          <p:nvPr/>
        </p:nvSpPr>
        <p:spPr>
          <a:xfrm>
            <a:off x="2604600" y="2438280"/>
            <a:ext cx="322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lav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914400" y="228600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process or proces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molten rock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es igneous rock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4"/>
          <p:cNvSpPr/>
          <p:nvPr/>
        </p:nvSpPr>
        <p:spPr>
          <a:xfrm>
            <a:off x="1088280" y="2514600"/>
            <a:ext cx="730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cooling and harden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4"/>
          <p:cNvSpPr/>
          <p:nvPr/>
        </p:nvSpPr>
        <p:spPr>
          <a:xfrm>
            <a:off x="838080" y="236232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rate at which lava cools controls the size of this within igneous rocks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"/>
          <p:cNvSpPr/>
          <p:nvPr/>
        </p:nvSpPr>
        <p:spPr>
          <a:xfrm>
            <a:off x="415440" y="2849400"/>
            <a:ext cx="859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crystals or crystal form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533520" y="2209680"/>
            <a:ext cx="8305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is a naturally occurring solid mixture composed of minerals, small rock fragments, organic matter, or glas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4"/>
          <p:cNvSpPr/>
          <p:nvPr/>
        </p:nvSpPr>
        <p:spPr>
          <a:xfrm>
            <a:off x="1143000" y="1981080"/>
            <a:ext cx="685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ologists classify igneous rocks by this; it refers to grain size and grain arrangeme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2759400" y="2666880"/>
            <a:ext cx="384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extur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6"/>
          <p:cNvSpPr/>
          <p:nvPr/>
        </p:nvSpPr>
        <p:spPr>
          <a:xfrm>
            <a:off x="1143000" y="2057400"/>
            <a:ext cx="7696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ock and mineral fragments that are loose or suspended in water, mineral or organic matter deposited by water, air, or ice are called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2077560" y="2843280"/>
            <a:ext cx="484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are sediment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4"/>
          <p:cNvSpPr/>
          <p:nvPr/>
        </p:nvSpPr>
        <p:spPr>
          <a:xfrm>
            <a:off x="533520" y="1981080"/>
            <a:ext cx="7848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rocess by which rock sediments are removed and transported away by water, wind, or i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4"/>
          <p:cNvSpPr/>
          <p:nvPr/>
        </p:nvSpPr>
        <p:spPr>
          <a:xfrm>
            <a:off x="2530440" y="2895480"/>
            <a:ext cx="394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ros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4"/>
          <p:cNvSpPr/>
          <p:nvPr/>
        </p:nvSpPr>
        <p:spPr>
          <a:xfrm>
            <a:off x="304920" y="2133720"/>
            <a:ext cx="8610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conditions in the air above the Earth such as wind, rain or temperature, especially at a particular time over a particular are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4"/>
          <p:cNvSpPr/>
          <p:nvPr/>
        </p:nvSpPr>
        <p:spPr>
          <a:xfrm>
            <a:off x="2531160" y="2286000"/>
            <a:ext cx="406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weath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"/>
          <p:cNvSpPr/>
          <p:nvPr/>
        </p:nvSpPr>
        <p:spPr>
          <a:xfrm>
            <a:off x="685800" y="1981080"/>
            <a:ext cx="7772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rocess by which unconsolidated material converts into coherent, solid rock, through compaction or cementation; this process turns sediment into rock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4"/>
          <p:cNvSpPr/>
          <p:nvPr/>
        </p:nvSpPr>
        <p:spPr>
          <a:xfrm>
            <a:off x="2077920" y="2895480"/>
            <a:ext cx="490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lithific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438280" y="29718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4"/>
          <p:cNvSpPr/>
          <p:nvPr/>
        </p:nvSpPr>
        <p:spPr>
          <a:xfrm>
            <a:off x="768240" y="1789200"/>
            <a:ext cx="7696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This process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hysically breaks rocks down into smaller and smaller pieces 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while anothe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 process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olves a reaction with water that decomposes rock into smaller pie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4"/>
          <p:cNvSpPr/>
          <p:nvPr/>
        </p:nvSpPr>
        <p:spPr>
          <a:xfrm>
            <a:off x="838080" y="2646360"/>
            <a:ext cx="7925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mechanical weather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chemical weathering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4"/>
          <p:cNvSpPr/>
          <p:nvPr/>
        </p:nvSpPr>
        <p:spPr>
          <a:xfrm>
            <a:off x="609480" y="2438280"/>
            <a:ext cx="7696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tamorphic rocks form when parent rocks go through this pro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4"/>
          <p:cNvSpPr/>
          <p:nvPr/>
        </p:nvSpPr>
        <p:spPr>
          <a:xfrm>
            <a:off x="1774800" y="2666880"/>
            <a:ext cx="6000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queezed, heated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 exposed to hot fluids.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4"/>
          <p:cNvSpPr/>
          <p:nvPr/>
        </p:nvSpPr>
        <p:spPr>
          <a:xfrm>
            <a:off x="793800" y="2241720"/>
            <a:ext cx="77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ach metamorphic rock has one of thes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4"/>
          <p:cNvSpPr/>
          <p:nvPr/>
        </p:nvSpPr>
        <p:spPr>
          <a:xfrm>
            <a:off x="2001240" y="2514600"/>
            <a:ext cx="521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 parent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4"/>
          <p:cNvSpPr/>
          <p:nvPr/>
        </p:nvSpPr>
        <p:spPr>
          <a:xfrm>
            <a:off x="533520" y="2057400"/>
            <a:ext cx="8229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results when uneven pressures cause flat minerals to line up, giving the rock a layered appearan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4"/>
          <p:cNvSpPr/>
          <p:nvPr/>
        </p:nvSpPr>
        <p:spPr>
          <a:xfrm>
            <a:off x="1922760" y="2514600"/>
            <a:ext cx="419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foli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4"/>
          <p:cNvSpPr/>
          <p:nvPr/>
        </p:nvSpPr>
        <p:spPr>
          <a:xfrm>
            <a:off x="433440" y="2438280"/>
            <a:ext cx="81770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is process the rocks do not melt. They remain solid, but the texture and, sometimes, the mineral composition of the parent rock chang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4"/>
          <p:cNvSpPr/>
          <p:nvPr/>
        </p:nvSpPr>
        <p:spPr>
          <a:xfrm>
            <a:off x="1699560" y="2951280"/>
            <a:ext cx="524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 is metamorphism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"/>
          <p:cNvSpPr/>
          <p:nvPr/>
        </p:nvSpPr>
        <p:spPr>
          <a:xfrm>
            <a:off x="685800" y="236232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is rock type builds up in layer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4"/>
          <p:cNvSpPr/>
          <p:nvPr/>
        </p:nvSpPr>
        <p:spPr>
          <a:xfrm>
            <a:off x="1219320" y="2209680"/>
            <a:ext cx="685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st obvious characteristic in metamorphic Rocks but not present in all metamorphic roc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4"/>
          <p:cNvSpPr/>
          <p:nvPr/>
        </p:nvSpPr>
        <p:spPr>
          <a:xfrm>
            <a:off x="2455920" y="2819520"/>
            <a:ext cx="419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foli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4"/>
          <p:cNvSpPr/>
          <p:nvPr/>
        </p:nvSpPr>
        <p:spPr>
          <a:xfrm>
            <a:off x="457200" y="205740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ement is made from limestone, which contains tiny sediments this is known as what type of rock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4"/>
          <p:cNvSpPr/>
          <p:nvPr/>
        </p:nvSpPr>
        <p:spPr>
          <a:xfrm>
            <a:off x="1625040" y="3124080"/>
            <a:ext cx="616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edimentary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762120" y="251460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type of rock, through cooling and hardening, forms glas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4"/>
          <p:cNvSpPr/>
          <p:nvPr/>
        </p:nvSpPr>
        <p:spPr>
          <a:xfrm>
            <a:off x="2153520" y="3048120"/>
            <a:ext cx="517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igneous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4"/>
          <p:cNvSpPr/>
          <p:nvPr/>
        </p:nvSpPr>
        <p:spPr>
          <a:xfrm>
            <a:off x="762120" y="2209680"/>
            <a:ext cx="7619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ocks that are squeezed, heated, or exposed to hot fluids create rocks like marble that are commonly used to make statu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4"/>
          <p:cNvSpPr/>
          <p:nvPr/>
        </p:nvSpPr>
        <p:spPr>
          <a:xfrm>
            <a:off x="1473840" y="3103560"/>
            <a:ext cx="638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etamorphic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5"/>
          <p:cNvSpPr/>
          <p:nvPr/>
        </p:nvSpPr>
        <p:spPr>
          <a:xfrm>
            <a:off x="228600" y="2546280"/>
            <a:ext cx="8610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process creates sedimentary rock, through compaction and/or cementatio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4"/>
          <p:cNvSpPr/>
          <p:nvPr/>
        </p:nvSpPr>
        <p:spPr>
          <a:xfrm>
            <a:off x="1925640" y="2690640"/>
            <a:ext cx="490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lithific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1625040" y="2819520"/>
            <a:ext cx="616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edimentary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"/>
          <p:cNvSpPr/>
          <p:nvPr/>
        </p:nvSpPr>
        <p:spPr>
          <a:xfrm>
            <a:off x="1219320" y="2530440"/>
            <a:ext cx="6933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ver thousands of years, each type of rock can change into one of the others, this process is called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4"/>
          <p:cNvSpPr/>
          <p:nvPr/>
        </p:nvSpPr>
        <p:spPr>
          <a:xfrm>
            <a:off x="1622520" y="3048120"/>
            <a:ext cx="57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he Rock Cyc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5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m_button"/>
          <p:cNvPicPr/>
          <p:nvPr/>
        </p:nvPicPr>
        <p:blipFill>
          <a:blip r:embed="rId2"/>
          <a:stretch/>
        </p:blipFill>
        <p:spPr>
          <a:xfrm>
            <a:off x="380880" y="601992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6"/>
          <p:cNvSpPr/>
          <p:nvPr/>
        </p:nvSpPr>
        <p:spPr>
          <a:xfrm>
            <a:off x="803160" y="1752480"/>
            <a:ext cx="8001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is the natural process that decays or breaks substances into smaller parts, and this is the natural process of depositing a substance onto rocks or soil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850760" y="2766960"/>
            <a:ext cx="5344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decomposi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d deposi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"/>
          <p:cNvSpPr/>
          <p:nvPr/>
        </p:nvSpPr>
        <p:spPr>
          <a:xfrm>
            <a:off x="685800" y="236232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rock type formed underground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rough heat and pressur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1397880" y="3200400"/>
            <a:ext cx="638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etamorphic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4"/>
          <p:cNvSpPr/>
          <p:nvPr/>
        </p:nvSpPr>
        <p:spPr>
          <a:xfrm>
            <a:off x="914400" y="243828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se are the individual particles in a rock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4"/>
          <p:cNvSpPr/>
          <p:nvPr/>
        </p:nvSpPr>
        <p:spPr>
          <a:xfrm>
            <a:off x="2909520" y="2819520"/>
            <a:ext cx="34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rai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Kristy Aycock</cp:lastModifiedBy>
  <cp:lastPrinted>2000-08-14T13:17:55Z</cp:lastPrinted>
  <dcterms:modified xsi:type="dcterms:W3CDTF">2017-06-25T23:45:24Z</dcterms:modified>
  <cp:revision>49</cp:revision>
  <dc:subject/>
  <dc:title>Jeopardy</dc:title>
</cp:coreProperties>
</file>