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DDAB-CBA5-47B6-BFB9-60B74B4A3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6C74-A7C1-4690-A859-1C8F1083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2810-4A12-4DF5-85F4-742E9A7AE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C6F5-2891-4E1B-88DA-34309289B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D1DD-F22C-49DD-B9E1-BECD0E91F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99CC-6A3D-491E-A379-8CFBD68E1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69EF-796A-4035-95D2-7B9D2560E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EB91-53F5-4EF0-B671-6BF00D2CC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952A-CFE4-45AD-A4BF-2F31FF5AE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DB92-34EC-4B8D-BB30-A71CB357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870F-A36C-46F6-91CD-453DE6B5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3BCC-11C3-45B1-ADBE-D04CE6C7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BD0F3-45C7-4D2E-B7A7-FC740090A6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ecff"/>
                </a:solidFill>
                <a:latin typeface="Arial"/>
              </a:rPr>
              <a:t>www.numeracysoftwar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.xml"/><Relationship Id="rId3" Type="http://schemas.openxmlformats.org/officeDocument/2006/relationships/slide" Target="slide12.xml"/><Relationship Id="rId4" Type="http://schemas.openxmlformats.org/officeDocument/2006/relationships/slide" Target="slide17.xml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4.png"/><Relationship Id="rId4" Type="http://schemas.openxmlformats.org/officeDocument/2006/relationships/image" Target="../media/image12.png"/><Relationship Id="rId5" Type="http://schemas.openxmlformats.org/officeDocument/2006/relationships/image" Target="../media/image4.png"/><Relationship Id="rId6" Type="http://schemas.openxmlformats.org/officeDocument/2006/relationships/image" Target="../media/image12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4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7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png"/><Relationship Id="rId3" Type="http://schemas.openxmlformats.org/officeDocument/2006/relationships/image" Target="../media/image2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4.png"/><Relationship Id="rId4" Type="http://schemas.openxmlformats.org/officeDocument/2006/relationships/image" Target="../media/image12.png"/><Relationship Id="rId5" Type="http://schemas.openxmlformats.org/officeDocument/2006/relationships/image" Target="../media/image4.png"/><Relationship Id="rId6" Type="http://schemas.openxmlformats.org/officeDocument/2006/relationships/image" Target="../media/image12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4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7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png"/><Relationship Id="rId3" Type="http://schemas.openxmlformats.org/officeDocument/2006/relationships/image" Target="../media/image2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84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Partitioning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41280" y="2354400"/>
            <a:ext cx="8491680" cy="23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5271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3300"/>
                </a:solidFill>
                <a:uFillTx/>
                <a:latin typeface="Arial"/>
                <a:hlinkClick r:id="rId1" action="ppaction://hlinksldjump"/>
              </a:rPr>
              <a:t>Two-digit numbers (horizon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271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3300"/>
                </a:solidFill>
                <a:uFillTx/>
                <a:latin typeface="Arial"/>
                <a:hlinkClick r:id="rId2" action="ppaction://hlinksldjump"/>
              </a:rPr>
              <a:t>Two-digit numbers (vertic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271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3300"/>
                </a:solidFill>
                <a:uFillTx/>
                <a:latin typeface="Arial"/>
                <a:hlinkClick r:id="rId3" action="ppaction://hlinksldjump"/>
              </a:rPr>
              <a:t>Three-digit numbers (horizon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271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3300"/>
                </a:solidFill>
                <a:uFillTx/>
                <a:latin typeface="Arial"/>
                <a:hlinkClick r:id="rId4" action="ppaction://hlinksldjump"/>
              </a:rPr>
              <a:t>Three-digit numbers (vertic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62000" y="5068800"/>
            <a:ext cx="717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ick on the HOME button to return to this page at any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ick to partition this nu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T6" descr=""/>
          <p:cNvPicPr/>
          <p:nvPr/>
        </p:nvPicPr>
        <p:blipFill>
          <a:blip r:embed="rId1"/>
          <a:stretch/>
        </p:blipFill>
        <p:spPr>
          <a:xfrm>
            <a:off x="3271680" y="1752480"/>
            <a:ext cx="2953080" cy="1400400"/>
          </a:xfrm>
          <a:prstGeom prst="rect">
            <a:avLst/>
          </a:prstGeom>
          <a:ln w="0">
            <a:noFill/>
          </a:ln>
        </p:spPr>
      </p:pic>
      <p:pic>
        <p:nvPicPr>
          <p:cNvPr id="105" name="U7" descr=""/>
          <p:cNvPicPr/>
          <p:nvPr/>
        </p:nvPicPr>
        <p:blipFill>
          <a:blip r:embed="rId2"/>
          <a:stretch/>
        </p:blipFill>
        <p:spPr>
          <a:xfrm>
            <a:off x="4253040" y="1752480"/>
            <a:ext cx="1971720" cy="1400400"/>
          </a:xfrm>
          <a:prstGeom prst="rect">
            <a:avLst/>
          </a:prstGeom>
          <a:ln w="0">
            <a:noFill/>
          </a:ln>
        </p:spPr>
      </p:pic>
      <p:pic>
        <p:nvPicPr>
          <p:cNvPr id="106" name="U7" descr=""/>
          <p:cNvPicPr/>
          <p:nvPr/>
        </p:nvPicPr>
        <p:blipFill>
          <a:blip r:embed="rId3"/>
          <a:stretch/>
        </p:blipFill>
        <p:spPr>
          <a:xfrm>
            <a:off x="4253040" y="3427560"/>
            <a:ext cx="1971720" cy="1400040"/>
          </a:xfrm>
          <a:prstGeom prst="rect">
            <a:avLst/>
          </a:prstGeom>
          <a:ln w="0">
            <a:noFill/>
          </a:ln>
        </p:spPr>
      </p:pic>
      <p:pic>
        <p:nvPicPr>
          <p:cNvPr id="107" name="T6" descr=""/>
          <p:cNvPicPr/>
          <p:nvPr/>
        </p:nvPicPr>
        <p:blipFill>
          <a:blip r:embed="rId4"/>
          <a:stretch/>
        </p:blipFill>
        <p:spPr>
          <a:xfrm>
            <a:off x="3271680" y="1752480"/>
            <a:ext cx="2953080" cy="14004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85800" y="5730840"/>
            <a:ext cx="77724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Click to see another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" action="ppaction://hlinkshowjump?jump=firstslide"/>
          </p:cNvPr>
          <p:cNvSpPr/>
          <p:nvPr/>
        </p:nvSpPr>
        <p:spPr>
          <a:xfrm>
            <a:off x="8572680" y="5791320"/>
            <a:ext cx="457200" cy="5126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12640"/>
              <a:gd name="textAreaBottom" fmla="*/ 483120 h 512640"/>
            </a:gdLst>
            <a:ahLst/>
            <a:rect l="textAreaLeft" t="textAreaTop" r="textAreaRight" b="textAreaBottom"/>
            <a:pathLst>
              <a:path w="21600" h="24217">
                <a:moveTo>
                  <a:pt x="0" y="0"/>
                </a:moveTo>
                <a:lnTo>
                  <a:pt x="21600" y="0"/>
                </a:lnTo>
                <a:lnTo>
                  <a:pt x="21600" y="24217"/>
                </a:lnTo>
                <a:lnTo>
                  <a:pt x="0" y="24217"/>
                </a:lnTo>
                <a:close/>
              </a:path>
              <a:path fill="lightenLess" w="21600" h="242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17">
                <a:moveTo>
                  <a:pt x="21600" y="0"/>
                </a:moveTo>
                <a:lnTo>
                  <a:pt x="21600" y="24217"/>
                </a:lnTo>
                <a:lnTo>
                  <a:pt x="20200" y="22817"/>
                </a:lnTo>
                <a:lnTo>
                  <a:pt x="20200" y="1400"/>
                </a:lnTo>
                <a:close/>
              </a:path>
              <a:path fill="darkenLess" w="21600" h="24217">
                <a:moveTo>
                  <a:pt x="21600" y="24217"/>
                </a:moveTo>
                <a:lnTo>
                  <a:pt x="0" y="24217"/>
                </a:lnTo>
                <a:lnTo>
                  <a:pt x="1400" y="22817"/>
                </a:lnTo>
                <a:lnTo>
                  <a:pt x="20200" y="22817"/>
                </a:lnTo>
                <a:close/>
              </a:path>
              <a:path fill="lighten" w="21600" h="24217">
                <a:moveTo>
                  <a:pt x="0" y="242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17"/>
                </a:lnTo>
                <a:close/>
              </a:path>
              <a:path fill="darken" w="21600" h="24217">
                <a:moveTo>
                  <a:pt x="10800" y="5146"/>
                </a:moveTo>
                <a:lnTo>
                  <a:pt x="13376" y="7757"/>
                </a:ln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lnTo>
                  <a:pt x="17763" y="12109"/>
                </a:lnTo>
                <a:lnTo>
                  <a:pt x="16109" y="12109"/>
                </a:lnTo>
                <a:lnTo>
                  <a:pt x="16109" y="19298"/>
                </a:lnTo>
                <a:lnTo>
                  <a:pt x="5491" y="19298"/>
                </a:lnTo>
                <a:lnTo>
                  <a:pt x="5491" y="12109"/>
                </a:lnTo>
                <a:lnTo>
                  <a:pt x="3837" y="12109"/>
                </a:lnTo>
                <a:close/>
              </a:path>
              <a:path fill="darkenLess" w="21600" h="24217">
                <a:moveTo>
                  <a:pt x="13376" y="7757"/>
                </a:move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close/>
              </a:path>
              <a:path fill="darkenLess" w="21600" h="24217">
                <a:moveTo>
                  <a:pt x="9877" y="15607"/>
                </a:moveTo>
                <a:lnTo>
                  <a:pt x="11723" y="15607"/>
                </a:lnTo>
                <a:lnTo>
                  <a:pt x="11723" y="19298"/>
                </a:lnTo>
                <a:lnTo>
                  <a:pt x="16109" y="19298"/>
                </a:lnTo>
                <a:lnTo>
                  <a:pt x="16109" y="12109"/>
                </a:lnTo>
                <a:lnTo>
                  <a:pt x="5491" y="12109"/>
                </a:lnTo>
                <a:lnTo>
                  <a:pt x="5491" y="19298"/>
                </a:lnTo>
                <a:lnTo>
                  <a:pt x="9877" y="1929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ick to partition this nu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T4" descr=""/>
          <p:cNvPicPr/>
          <p:nvPr/>
        </p:nvPicPr>
        <p:blipFill>
          <a:blip r:embed="rId1"/>
          <a:stretch/>
        </p:blipFill>
        <p:spPr>
          <a:xfrm>
            <a:off x="3259080" y="1758960"/>
            <a:ext cx="2952720" cy="1400040"/>
          </a:xfrm>
          <a:prstGeom prst="rect">
            <a:avLst/>
          </a:prstGeom>
          <a:ln w="0">
            <a:noFill/>
          </a:ln>
        </p:spPr>
      </p:pic>
      <p:pic>
        <p:nvPicPr>
          <p:cNvPr id="112" name="U8" descr=""/>
          <p:cNvPicPr/>
          <p:nvPr/>
        </p:nvPicPr>
        <p:blipFill>
          <a:blip r:embed="rId2"/>
          <a:stretch/>
        </p:blipFill>
        <p:spPr>
          <a:xfrm>
            <a:off x="4240080" y="1758960"/>
            <a:ext cx="1971720" cy="1400040"/>
          </a:xfrm>
          <a:prstGeom prst="rect">
            <a:avLst/>
          </a:prstGeom>
          <a:ln w="0">
            <a:noFill/>
          </a:ln>
        </p:spPr>
      </p:pic>
      <p:pic>
        <p:nvPicPr>
          <p:cNvPr id="113" name="U8" descr=""/>
          <p:cNvPicPr/>
          <p:nvPr/>
        </p:nvPicPr>
        <p:blipFill>
          <a:blip r:embed="rId3"/>
          <a:stretch/>
        </p:blipFill>
        <p:spPr>
          <a:xfrm>
            <a:off x="4240080" y="3436920"/>
            <a:ext cx="1971720" cy="1400040"/>
          </a:xfrm>
          <a:prstGeom prst="rect">
            <a:avLst/>
          </a:prstGeom>
          <a:ln w="0">
            <a:noFill/>
          </a:ln>
        </p:spPr>
      </p:pic>
      <p:pic>
        <p:nvPicPr>
          <p:cNvPr id="114" name="T4" descr=""/>
          <p:cNvPicPr/>
          <p:nvPr/>
        </p:nvPicPr>
        <p:blipFill>
          <a:blip r:embed="rId4"/>
          <a:stretch/>
        </p:blipFill>
        <p:spPr>
          <a:xfrm>
            <a:off x="3259080" y="1758960"/>
            <a:ext cx="2952720" cy="14000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5730840"/>
            <a:ext cx="90298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The next example is a 3 digit number (horizont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572680" y="5791320"/>
            <a:ext cx="457200" cy="5126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12640"/>
              <a:gd name="textAreaBottom" fmla="*/ 483120 h 512640"/>
            </a:gdLst>
            <a:ahLst/>
            <a:rect l="textAreaLeft" t="textAreaTop" r="textAreaRight" b="textAreaBottom"/>
            <a:pathLst>
              <a:path w="21600" h="24217">
                <a:moveTo>
                  <a:pt x="0" y="0"/>
                </a:moveTo>
                <a:lnTo>
                  <a:pt x="21600" y="0"/>
                </a:lnTo>
                <a:lnTo>
                  <a:pt x="21600" y="24217"/>
                </a:lnTo>
                <a:lnTo>
                  <a:pt x="0" y="24217"/>
                </a:lnTo>
                <a:close/>
              </a:path>
              <a:path fill="lightenLess" w="21600" h="242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17">
                <a:moveTo>
                  <a:pt x="21600" y="0"/>
                </a:moveTo>
                <a:lnTo>
                  <a:pt x="21600" y="24217"/>
                </a:lnTo>
                <a:lnTo>
                  <a:pt x="20200" y="22817"/>
                </a:lnTo>
                <a:lnTo>
                  <a:pt x="20200" y="1400"/>
                </a:lnTo>
                <a:close/>
              </a:path>
              <a:path fill="darkenLess" w="21600" h="24217">
                <a:moveTo>
                  <a:pt x="21600" y="24217"/>
                </a:moveTo>
                <a:lnTo>
                  <a:pt x="0" y="24217"/>
                </a:lnTo>
                <a:lnTo>
                  <a:pt x="1400" y="22817"/>
                </a:lnTo>
                <a:lnTo>
                  <a:pt x="20200" y="22817"/>
                </a:lnTo>
                <a:close/>
              </a:path>
              <a:path fill="lighten" w="21600" h="24217">
                <a:moveTo>
                  <a:pt x="0" y="242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17"/>
                </a:lnTo>
                <a:close/>
              </a:path>
              <a:path fill="darken" w="21600" h="24217">
                <a:moveTo>
                  <a:pt x="10800" y="5146"/>
                </a:moveTo>
                <a:lnTo>
                  <a:pt x="13376" y="7757"/>
                </a:ln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lnTo>
                  <a:pt x="17763" y="12109"/>
                </a:lnTo>
                <a:lnTo>
                  <a:pt x="16109" y="12109"/>
                </a:lnTo>
                <a:lnTo>
                  <a:pt x="16109" y="19298"/>
                </a:lnTo>
                <a:lnTo>
                  <a:pt x="5491" y="19298"/>
                </a:lnTo>
                <a:lnTo>
                  <a:pt x="5491" y="12109"/>
                </a:lnTo>
                <a:lnTo>
                  <a:pt x="3837" y="12109"/>
                </a:lnTo>
                <a:close/>
              </a:path>
              <a:path fill="darkenLess" w="21600" h="24217">
                <a:moveTo>
                  <a:pt x="13376" y="7757"/>
                </a:move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close/>
              </a:path>
              <a:path fill="darkenLess" w="21600" h="24217">
                <a:moveTo>
                  <a:pt x="9877" y="15607"/>
                </a:moveTo>
                <a:lnTo>
                  <a:pt x="11723" y="15607"/>
                </a:lnTo>
                <a:lnTo>
                  <a:pt x="11723" y="19298"/>
                </a:lnTo>
                <a:lnTo>
                  <a:pt x="16109" y="19298"/>
                </a:lnTo>
                <a:lnTo>
                  <a:pt x="16109" y="12109"/>
                </a:lnTo>
                <a:lnTo>
                  <a:pt x="5491" y="12109"/>
                </a:lnTo>
                <a:lnTo>
                  <a:pt x="5491" y="19298"/>
                </a:lnTo>
                <a:lnTo>
                  <a:pt x="9877" y="1929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ick to partition this nu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H2" descr=""/>
          <p:cNvPicPr/>
          <p:nvPr/>
        </p:nvPicPr>
        <p:blipFill>
          <a:blip r:embed="rId1"/>
          <a:stretch/>
        </p:blipFill>
        <p:spPr>
          <a:xfrm>
            <a:off x="155520" y="2025720"/>
            <a:ext cx="3943440" cy="1400040"/>
          </a:xfrm>
          <a:prstGeom prst="rect">
            <a:avLst/>
          </a:prstGeom>
          <a:ln w="0">
            <a:noFill/>
          </a:ln>
        </p:spPr>
      </p:pic>
      <p:pic>
        <p:nvPicPr>
          <p:cNvPr id="119" name="T5" descr=""/>
          <p:cNvPicPr/>
          <p:nvPr/>
        </p:nvPicPr>
        <p:blipFill>
          <a:blip r:embed="rId2"/>
          <a:stretch/>
        </p:blipFill>
        <p:spPr>
          <a:xfrm>
            <a:off x="1146240" y="2025720"/>
            <a:ext cx="2952720" cy="1400040"/>
          </a:xfrm>
          <a:prstGeom prst="rect">
            <a:avLst/>
          </a:prstGeom>
          <a:ln w="0">
            <a:noFill/>
          </a:ln>
        </p:spPr>
      </p:pic>
      <p:pic>
        <p:nvPicPr>
          <p:cNvPr id="120" name="U4" descr=""/>
          <p:cNvPicPr/>
          <p:nvPr/>
        </p:nvPicPr>
        <p:blipFill>
          <a:blip r:embed="rId3"/>
          <a:stretch/>
        </p:blipFill>
        <p:spPr>
          <a:xfrm>
            <a:off x="2127240" y="2025720"/>
            <a:ext cx="1971720" cy="1400040"/>
          </a:xfrm>
          <a:prstGeom prst="rect">
            <a:avLst/>
          </a:prstGeom>
          <a:ln w="0">
            <a:noFill/>
          </a:ln>
        </p:spPr>
      </p:pic>
      <p:pic>
        <p:nvPicPr>
          <p:cNvPr id="121" name="T5" descr=""/>
          <p:cNvPicPr/>
          <p:nvPr/>
        </p:nvPicPr>
        <p:blipFill>
          <a:blip r:embed="rId4"/>
          <a:stretch/>
        </p:blipFill>
        <p:spPr>
          <a:xfrm>
            <a:off x="1146240" y="2025720"/>
            <a:ext cx="2952720" cy="1400040"/>
          </a:xfrm>
          <a:prstGeom prst="rect">
            <a:avLst/>
          </a:prstGeom>
          <a:ln w="0">
            <a:noFill/>
          </a:ln>
        </p:spPr>
      </p:pic>
      <p:pic>
        <p:nvPicPr>
          <p:cNvPr id="122" name="U4" descr=""/>
          <p:cNvPicPr/>
          <p:nvPr/>
        </p:nvPicPr>
        <p:blipFill>
          <a:blip r:embed="rId5"/>
          <a:stretch/>
        </p:blipFill>
        <p:spPr>
          <a:xfrm>
            <a:off x="7051680" y="2025720"/>
            <a:ext cx="1971720" cy="1400040"/>
          </a:xfrm>
          <a:prstGeom prst="rect">
            <a:avLst/>
          </a:prstGeom>
          <a:ln w="0">
            <a:noFill/>
          </a:ln>
        </p:spPr>
      </p:pic>
      <p:pic>
        <p:nvPicPr>
          <p:cNvPr id="123" name="T5" descr=""/>
          <p:cNvPicPr/>
          <p:nvPr/>
        </p:nvPicPr>
        <p:blipFill>
          <a:blip r:embed="rId6"/>
          <a:stretch/>
        </p:blipFill>
        <p:spPr>
          <a:xfrm>
            <a:off x="4098960" y="2025720"/>
            <a:ext cx="2952720" cy="1400040"/>
          </a:xfrm>
          <a:prstGeom prst="rect">
            <a:avLst/>
          </a:prstGeom>
          <a:ln w="0">
            <a:noFill/>
          </a:ln>
        </p:spPr>
      </p:pic>
      <p:pic>
        <p:nvPicPr>
          <p:cNvPr id="124" name="H2" descr=""/>
          <p:cNvPicPr/>
          <p:nvPr/>
        </p:nvPicPr>
        <p:blipFill>
          <a:blip r:embed="rId7"/>
          <a:stretch/>
        </p:blipFill>
        <p:spPr>
          <a:xfrm>
            <a:off x="155520" y="2025720"/>
            <a:ext cx="3943440" cy="14000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85800" y="5730840"/>
            <a:ext cx="77724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Click to see another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" action="ppaction://hlinkshowjump?jump=firstslide"/>
          </p:cNvPr>
          <p:cNvSpPr/>
          <p:nvPr/>
        </p:nvSpPr>
        <p:spPr>
          <a:xfrm>
            <a:off x="8572680" y="5791320"/>
            <a:ext cx="457200" cy="5126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12640"/>
              <a:gd name="textAreaBottom" fmla="*/ 483120 h 512640"/>
            </a:gdLst>
            <a:ahLst/>
            <a:rect l="textAreaLeft" t="textAreaTop" r="textAreaRight" b="textAreaBottom"/>
            <a:pathLst>
              <a:path w="21600" h="24217">
                <a:moveTo>
                  <a:pt x="0" y="0"/>
                </a:moveTo>
                <a:lnTo>
                  <a:pt x="21600" y="0"/>
                </a:lnTo>
                <a:lnTo>
                  <a:pt x="21600" y="24217"/>
                </a:lnTo>
                <a:lnTo>
                  <a:pt x="0" y="24217"/>
                </a:lnTo>
                <a:close/>
              </a:path>
              <a:path fill="lightenLess" w="21600" h="242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17">
                <a:moveTo>
                  <a:pt x="21600" y="0"/>
                </a:moveTo>
                <a:lnTo>
                  <a:pt x="21600" y="24217"/>
                </a:lnTo>
                <a:lnTo>
                  <a:pt x="20200" y="22817"/>
                </a:lnTo>
                <a:lnTo>
                  <a:pt x="20200" y="1400"/>
                </a:lnTo>
                <a:close/>
              </a:path>
              <a:path fill="darkenLess" w="21600" h="24217">
                <a:moveTo>
                  <a:pt x="21600" y="24217"/>
                </a:moveTo>
                <a:lnTo>
                  <a:pt x="0" y="24217"/>
                </a:lnTo>
                <a:lnTo>
                  <a:pt x="1400" y="22817"/>
                </a:lnTo>
                <a:lnTo>
                  <a:pt x="20200" y="22817"/>
                </a:lnTo>
                <a:close/>
              </a:path>
              <a:path fill="lighten" w="21600" h="24217">
                <a:moveTo>
                  <a:pt x="0" y="242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17"/>
                </a:lnTo>
                <a:close/>
              </a:path>
              <a:path fill="darken" w="21600" h="24217">
                <a:moveTo>
                  <a:pt x="10800" y="5146"/>
                </a:moveTo>
                <a:lnTo>
                  <a:pt x="13376" y="7757"/>
                </a:ln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lnTo>
                  <a:pt x="17763" y="12109"/>
                </a:lnTo>
                <a:lnTo>
                  <a:pt x="16109" y="12109"/>
                </a:lnTo>
                <a:lnTo>
                  <a:pt x="16109" y="19298"/>
                </a:lnTo>
                <a:lnTo>
                  <a:pt x="5491" y="19298"/>
                </a:lnTo>
                <a:lnTo>
                  <a:pt x="5491" y="12109"/>
                </a:lnTo>
                <a:lnTo>
                  <a:pt x="3837" y="12109"/>
                </a:lnTo>
                <a:close/>
              </a:path>
              <a:path fill="darkenLess" w="21600" h="24217">
                <a:moveTo>
                  <a:pt x="13376" y="7757"/>
                </a:move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close/>
              </a:path>
              <a:path fill="darkenLess" w="21600" h="24217">
                <a:moveTo>
                  <a:pt x="9877" y="15607"/>
                </a:moveTo>
                <a:lnTo>
                  <a:pt x="11723" y="15607"/>
                </a:lnTo>
                <a:lnTo>
                  <a:pt x="11723" y="19298"/>
                </a:lnTo>
                <a:lnTo>
                  <a:pt x="16109" y="19298"/>
                </a:lnTo>
                <a:lnTo>
                  <a:pt x="16109" y="12109"/>
                </a:lnTo>
                <a:lnTo>
                  <a:pt x="5491" y="12109"/>
                </a:lnTo>
                <a:lnTo>
                  <a:pt x="5491" y="19298"/>
                </a:lnTo>
                <a:lnTo>
                  <a:pt x="9877" y="1929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ick to partition this nu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H7" descr=""/>
          <p:cNvPicPr/>
          <p:nvPr/>
        </p:nvPicPr>
        <p:blipFill>
          <a:blip r:embed="rId1"/>
          <a:stretch/>
        </p:blipFill>
        <p:spPr>
          <a:xfrm>
            <a:off x="142920" y="2017800"/>
            <a:ext cx="3933720" cy="1400040"/>
          </a:xfrm>
          <a:prstGeom prst="rect">
            <a:avLst/>
          </a:prstGeom>
          <a:ln w="0">
            <a:noFill/>
          </a:ln>
        </p:spPr>
      </p:pic>
      <p:pic>
        <p:nvPicPr>
          <p:cNvPr id="129" name="T9" descr=""/>
          <p:cNvPicPr/>
          <p:nvPr/>
        </p:nvPicPr>
        <p:blipFill>
          <a:blip r:embed="rId2"/>
          <a:stretch/>
        </p:blipFill>
        <p:spPr>
          <a:xfrm>
            <a:off x="1123920" y="2017800"/>
            <a:ext cx="2952720" cy="1400040"/>
          </a:xfrm>
          <a:prstGeom prst="rect">
            <a:avLst/>
          </a:prstGeom>
          <a:ln w="0">
            <a:noFill/>
          </a:ln>
        </p:spPr>
      </p:pic>
      <p:pic>
        <p:nvPicPr>
          <p:cNvPr id="130" name="U2" descr=""/>
          <p:cNvPicPr/>
          <p:nvPr/>
        </p:nvPicPr>
        <p:blipFill>
          <a:blip r:embed="rId3"/>
          <a:stretch/>
        </p:blipFill>
        <p:spPr>
          <a:xfrm>
            <a:off x="2104920" y="2017800"/>
            <a:ext cx="1971720" cy="1400040"/>
          </a:xfrm>
          <a:prstGeom prst="rect">
            <a:avLst/>
          </a:prstGeom>
          <a:ln w="0">
            <a:noFill/>
          </a:ln>
        </p:spPr>
      </p:pic>
      <p:pic>
        <p:nvPicPr>
          <p:cNvPr id="131" name="T9" descr=""/>
          <p:cNvPicPr/>
          <p:nvPr/>
        </p:nvPicPr>
        <p:blipFill>
          <a:blip r:embed="rId4"/>
          <a:stretch/>
        </p:blipFill>
        <p:spPr>
          <a:xfrm>
            <a:off x="1123920" y="2017800"/>
            <a:ext cx="2952720" cy="1400040"/>
          </a:xfrm>
          <a:prstGeom prst="rect">
            <a:avLst/>
          </a:prstGeom>
          <a:ln w="0">
            <a:noFill/>
          </a:ln>
        </p:spPr>
      </p:pic>
      <p:pic>
        <p:nvPicPr>
          <p:cNvPr id="132" name="U2" descr=""/>
          <p:cNvPicPr/>
          <p:nvPr/>
        </p:nvPicPr>
        <p:blipFill>
          <a:blip r:embed="rId5"/>
          <a:stretch/>
        </p:blipFill>
        <p:spPr>
          <a:xfrm>
            <a:off x="7031160" y="2017800"/>
            <a:ext cx="1971720" cy="1400040"/>
          </a:xfrm>
          <a:prstGeom prst="rect">
            <a:avLst/>
          </a:prstGeom>
          <a:ln w="0">
            <a:noFill/>
          </a:ln>
        </p:spPr>
      </p:pic>
      <p:pic>
        <p:nvPicPr>
          <p:cNvPr id="133" name="T9" descr=""/>
          <p:cNvPicPr/>
          <p:nvPr/>
        </p:nvPicPr>
        <p:blipFill>
          <a:blip r:embed="rId6"/>
          <a:stretch/>
        </p:blipFill>
        <p:spPr>
          <a:xfrm>
            <a:off x="4078440" y="2017800"/>
            <a:ext cx="2952720" cy="1400040"/>
          </a:xfrm>
          <a:prstGeom prst="rect">
            <a:avLst/>
          </a:prstGeom>
          <a:ln w="0">
            <a:noFill/>
          </a:ln>
        </p:spPr>
      </p:pic>
      <p:pic>
        <p:nvPicPr>
          <p:cNvPr id="134" name="H7" descr=""/>
          <p:cNvPicPr/>
          <p:nvPr/>
        </p:nvPicPr>
        <p:blipFill>
          <a:blip r:embed="rId7"/>
          <a:stretch/>
        </p:blipFill>
        <p:spPr>
          <a:xfrm>
            <a:off x="142920" y="2017800"/>
            <a:ext cx="3933720" cy="14000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" y="5730840"/>
            <a:ext cx="77724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Click to see another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" action="ppaction://hlinkshowjump?jump=firstslide"/>
          </p:cNvPr>
          <p:cNvSpPr/>
          <p:nvPr/>
        </p:nvSpPr>
        <p:spPr>
          <a:xfrm>
            <a:off x="8572680" y="5791320"/>
            <a:ext cx="457200" cy="5126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12640"/>
              <a:gd name="textAreaBottom" fmla="*/ 483120 h 512640"/>
            </a:gdLst>
            <a:ahLst/>
            <a:rect l="textAreaLeft" t="textAreaTop" r="textAreaRight" b="textAreaBottom"/>
            <a:pathLst>
              <a:path w="21600" h="24217">
                <a:moveTo>
                  <a:pt x="0" y="0"/>
                </a:moveTo>
                <a:lnTo>
                  <a:pt x="21600" y="0"/>
                </a:lnTo>
                <a:lnTo>
                  <a:pt x="21600" y="24217"/>
                </a:lnTo>
                <a:lnTo>
                  <a:pt x="0" y="24217"/>
                </a:lnTo>
                <a:close/>
              </a:path>
              <a:path fill="lightenLess" w="21600" h="242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17">
                <a:moveTo>
                  <a:pt x="21600" y="0"/>
                </a:moveTo>
                <a:lnTo>
                  <a:pt x="21600" y="24217"/>
                </a:lnTo>
                <a:lnTo>
                  <a:pt x="20200" y="22817"/>
                </a:lnTo>
                <a:lnTo>
                  <a:pt x="20200" y="1400"/>
                </a:lnTo>
                <a:close/>
              </a:path>
              <a:path fill="darkenLess" w="21600" h="24217">
                <a:moveTo>
                  <a:pt x="21600" y="24217"/>
                </a:moveTo>
                <a:lnTo>
                  <a:pt x="0" y="24217"/>
                </a:lnTo>
                <a:lnTo>
                  <a:pt x="1400" y="22817"/>
                </a:lnTo>
                <a:lnTo>
                  <a:pt x="20200" y="22817"/>
                </a:lnTo>
                <a:close/>
              </a:path>
              <a:path fill="lighten" w="21600" h="24217">
                <a:moveTo>
                  <a:pt x="0" y="242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17"/>
                </a:lnTo>
                <a:close/>
              </a:path>
              <a:path fill="darken" w="21600" h="24217">
                <a:moveTo>
                  <a:pt x="10800" y="5146"/>
                </a:moveTo>
                <a:lnTo>
                  <a:pt x="13376" y="7757"/>
                </a:ln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lnTo>
                  <a:pt x="17763" y="12109"/>
                </a:lnTo>
                <a:lnTo>
                  <a:pt x="16109" y="12109"/>
                </a:lnTo>
                <a:lnTo>
                  <a:pt x="16109" y="19298"/>
                </a:lnTo>
                <a:lnTo>
                  <a:pt x="5491" y="19298"/>
                </a:lnTo>
                <a:lnTo>
                  <a:pt x="5491" y="12109"/>
                </a:lnTo>
                <a:lnTo>
                  <a:pt x="3837" y="12109"/>
                </a:lnTo>
                <a:close/>
              </a:path>
              <a:path fill="darkenLess" w="21600" h="24217">
                <a:moveTo>
                  <a:pt x="13376" y="7757"/>
                </a:move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close/>
              </a:path>
              <a:path fill="darkenLess" w="21600" h="24217">
                <a:moveTo>
                  <a:pt x="9877" y="15607"/>
                </a:moveTo>
                <a:lnTo>
                  <a:pt x="11723" y="15607"/>
                </a:lnTo>
                <a:lnTo>
                  <a:pt x="11723" y="19298"/>
                </a:lnTo>
                <a:lnTo>
                  <a:pt x="16109" y="19298"/>
                </a:lnTo>
                <a:lnTo>
                  <a:pt x="16109" y="12109"/>
                </a:lnTo>
                <a:lnTo>
                  <a:pt x="5491" y="12109"/>
                </a:lnTo>
                <a:lnTo>
                  <a:pt x="5491" y="19298"/>
                </a:lnTo>
                <a:lnTo>
                  <a:pt x="9877" y="1929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ick to partition this nu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H5" descr=""/>
          <p:cNvPicPr/>
          <p:nvPr/>
        </p:nvPicPr>
        <p:blipFill>
          <a:blip r:embed="rId1"/>
          <a:stretch/>
        </p:blipFill>
        <p:spPr>
          <a:xfrm>
            <a:off x="182520" y="2009880"/>
            <a:ext cx="3933720" cy="1400040"/>
          </a:xfrm>
          <a:prstGeom prst="rect">
            <a:avLst/>
          </a:prstGeom>
          <a:ln w="0">
            <a:noFill/>
          </a:ln>
        </p:spPr>
      </p:pic>
      <p:pic>
        <p:nvPicPr>
          <p:cNvPr id="139" name="T8" descr=""/>
          <p:cNvPicPr/>
          <p:nvPr/>
        </p:nvPicPr>
        <p:blipFill>
          <a:blip r:embed="rId2"/>
          <a:stretch/>
        </p:blipFill>
        <p:spPr>
          <a:xfrm>
            <a:off x="1163520" y="2009880"/>
            <a:ext cx="2952720" cy="1400040"/>
          </a:xfrm>
          <a:prstGeom prst="rect">
            <a:avLst/>
          </a:prstGeom>
          <a:ln w="0">
            <a:noFill/>
          </a:ln>
        </p:spPr>
      </p:pic>
      <p:pic>
        <p:nvPicPr>
          <p:cNvPr id="140" name="U3" descr=""/>
          <p:cNvPicPr/>
          <p:nvPr/>
        </p:nvPicPr>
        <p:blipFill>
          <a:blip r:embed="rId3"/>
          <a:stretch/>
        </p:blipFill>
        <p:spPr>
          <a:xfrm>
            <a:off x="2144880" y="2009880"/>
            <a:ext cx="1971360" cy="1400040"/>
          </a:xfrm>
          <a:prstGeom prst="rect">
            <a:avLst/>
          </a:prstGeom>
          <a:ln w="0">
            <a:noFill/>
          </a:ln>
        </p:spPr>
      </p:pic>
      <p:pic>
        <p:nvPicPr>
          <p:cNvPr id="141" name="T8" descr=""/>
          <p:cNvPicPr/>
          <p:nvPr/>
        </p:nvPicPr>
        <p:blipFill>
          <a:blip r:embed="rId4"/>
          <a:stretch/>
        </p:blipFill>
        <p:spPr>
          <a:xfrm>
            <a:off x="4135320" y="2009880"/>
            <a:ext cx="2952720" cy="1400040"/>
          </a:xfrm>
          <a:prstGeom prst="rect">
            <a:avLst/>
          </a:prstGeom>
          <a:ln w="0">
            <a:noFill/>
          </a:ln>
        </p:spPr>
      </p:pic>
      <p:pic>
        <p:nvPicPr>
          <p:cNvPr id="142" name="U3" descr=""/>
          <p:cNvPicPr/>
          <p:nvPr/>
        </p:nvPicPr>
        <p:blipFill>
          <a:blip r:embed="rId5"/>
          <a:stretch/>
        </p:blipFill>
        <p:spPr>
          <a:xfrm>
            <a:off x="7097760" y="2009880"/>
            <a:ext cx="1971720" cy="1400040"/>
          </a:xfrm>
          <a:prstGeom prst="rect">
            <a:avLst/>
          </a:prstGeom>
          <a:ln w="0">
            <a:noFill/>
          </a:ln>
        </p:spPr>
      </p:pic>
      <p:pic>
        <p:nvPicPr>
          <p:cNvPr id="143" name="T8" descr=""/>
          <p:cNvPicPr/>
          <p:nvPr/>
        </p:nvPicPr>
        <p:blipFill>
          <a:blip r:embed="rId6"/>
          <a:stretch/>
        </p:blipFill>
        <p:spPr>
          <a:xfrm>
            <a:off x="1173240" y="2009880"/>
            <a:ext cx="2952720" cy="1400040"/>
          </a:xfrm>
          <a:prstGeom prst="rect">
            <a:avLst/>
          </a:prstGeom>
          <a:ln w="0">
            <a:noFill/>
          </a:ln>
        </p:spPr>
      </p:pic>
      <p:pic>
        <p:nvPicPr>
          <p:cNvPr id="144" name="H5" descr=""/>
          <p:cNvPicPr/>
          <p:nvPr/>
        </p:nvPicPr>
        <p:blipFill>
          <a:blip r:embed="rId7"/>
          <a:stretch/>
        </p:blipFill>
        <p:spPr>
          <a:xfrm>
            <a:off x="192240" y="2009880"/>
            <a:ext cx="3933720" cy="14000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5800" y="5730840"/>
            <a:ext cx="77724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Click to see another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" action="ppaction://hlinkshowjump?jump=firstslide"/>
          </p:cNvPr>
          <p:cNvSpPr/>
          <p:nvPr/>
        </p:nvSpPr>
        <p:spPr>
          <a:xfrm>
            <a:off x="8572680" y="5791320"/>
            <a:ext cx="457200" cy="5126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12640"/>
              <a:gd name="textAreaBottom" fmla="*/ 483120 h 512640"/>
            </a:gdLst>
            <a:ahLst/>
            <a:rect l="textAreaLeft" t="textAreaTop" r="textAreaRight" b="textAreaBottom"/>
            <a:pathLst>
              <a:path w="21600" h="24217">
                <a:moveTo>
                  <a:pt x="0" y="0"/>
                </a:moveTo>
                <a:lnTo>
                  <a:pt x="21600" y="0"/>
                </a:lnTo>
                <a:lnTo>
                  <a:pt x="21600" y="24217"/>
                </a:lnTo>
                <a:lnTo>
                  <a:pt x="0" y="24217"/>
                </a:lnTo>
                <a:close/>
              </a:path>
              <a:path fill="lightenLess" w="21600" h="242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17">
                <a:moveTo>
                  <a:pt x="21600" y="0"/>
                </a:moveTo>
                <a:lnTo>
                  <a:pt x="21600" y="24217"/>
                </a:lnTo>
                <a:lnTo>
                  <a:pt x="20200" y="22817"/>
                </a:lnTo>
                <a:lnTo>
                  <a:pt x="20200" y="1400"/>
                </a:lnTo>
                <a:close/>
              </a:path>
              <a:path fill="darkenLess" w="21600" h="24217">
                <a:moveTo>
                  <a:pt x="21600" y="24217"/>
                </a:moveTo>
                <a:lnTo>
                  <a:pt x="0" y="24217"/>
                </a:lnTo>
                <a:lnTo>
                  <a:pt x="1400" y="22817"/>
                </a:lnTo>
                <a:lnTo>
                  <a:pt x="20200" y="22817"/>
                </a:lnTo>
                <a:close/>
              </a:path>
              <a:path fill="lighten" w="21600" h="24217">
                <a:moveTo>
                  <a:pt x="0" y="242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17"/>
                </a:lnTo>
                <a:close/>
              </a:path>
              <a:path fill="darken" w="21600" h="24217">
                <a:moveTo>
                  <a:pt x="10800" y="5146"/>
                </a:moveTo>
                <a:lnTo>
                  <a:pt x="13376" y="7757"/>
                </a:ln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lnTo>
                  <a:pt x="17763" y="12109"/>
                </a:lnTo>
                <a:lnTo>
                  <a:pt x="16109" y="12109"/>
                </a:lnTo>
                <a:lnTo>
                  <a:pt x="16109" y="19298"/>
                </a:lnTo>
                <a:lnTo>
                  <a:pt x="5491" y="19298"/>
                </a:lnTo>
                <a:lnTo>
                  <a:pt x="5491" y="12109"/>
                </a:lnTo>
                <a:lnTo>
                  <a:pt x="3837" y="12109"/>
                </a:lnTo>
                <a:close/>
              </a:path>
              <a:path fill="darkenLess" w="21600" h="24217">
                <a:moveTo>
                  <a:pt x="13376" y="7757"/>
                </a:move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close/>
              </a:path>
              <a:path fill="darkenLess" w="21600" h="24217">
                <a:moveTo>
                  <a:pt x="9877" y="15607"/>
                </a:moveTo>
                <a:lnTo>
                  <a:pt x="11723" y="15607"/>
                </a:lnTo>
                <a:lnTo>
                  <a:pt x="11723" y="19298"/>
                </a:lnTo>
                <a:lnTo>
                  <a:pt x="16109" y="19298"/>
                </a:lnTo>
                <a:lnTo>
                  <a:pt x="16109" y="12109"/>
                </a:lnTo>
                <a:lnTo>
                  <a:pt x="5491" y="12109"/>
                </a:lnTo>
                <a:lnTo>
                  <a:pt x="5491" y="19298"/>
                </a:lnTo>
                <a:lnTo>
                  <a:pt x="9877" y="1929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ick to partition this nu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H4" descr=""/>
          <p:cNvPicPr/>
          <p:nvPr/>
        </p:nvPicPr>
        <p:blipFill>
          <a:blip r:embed="rId1"/>
          <a:stretch/>
        </p:blipFill>
        <p:spPr>
          <a:xfrm>
            <a:off x="206280" y="2019240"/>
            <a:ext cx="3934080" cy="1400400"/>
          </a:xfrm>
          <a:prstGeom prst="rect">
            <a:avLst/>
          </a:prstGeom>
          <a:ln w="0">
            <a:noFill/>
          </a:ln>
        </p:spPr>
      </p:pic>
      <p:pic>
        <p:nvPicPr>
          <p:cNvPr id="149" name="U6" descr=""/>
          <p:cNvPicPr/>
          <p:nvPr/>
        </p:nvPicPr>
        <p:blipFill>
          <a:blip r:embed="rId2"/>
          <a:stretch/>
        </p:blipFill>
        <p:spPr>
          <a:xfrm>
            <a:off x="2168640" y="2019240"/>
            <a:ext cx="1971720" cy="1400400"/>
          </a:xfrm>
          <a:prstGeom prst="rect">
            <a:avLst/>
          </a:prstGeom>
          <a:ln w="0">
            <a:noFill/>
          </a:ln>
        </p:spPr>
      </p:pic>
      <p:pic>
        <p:nvPicPr>
          <p:cNvPr id="150" name="H4" descr=""/>
          <p:cNvPicPr/>
          <p:nvPr/>
        </p:nvPicPr>
        <p:blipFill>
          <a:blip r:embed="rId3"/>
          <a:stretch/>
        </p:blipFill>
        <p:spPr>
          <a:xfrm>
            <a:off x="206280" y="2019240"/>
            <a:ext cx="3934080" cy="1400400"/>
          </a:xfrm>
          <a:prstGeom prst="rect">
            <a:avLst/>
          </a:prstGeom>
          <a:ln w="0">
            <a:noFill/>
          </a:ln>
        </p:spPr>
      </p:pic>
      <p:pic>
        <p:nvPicPr>
          <p:cNvPr id="151" name="U6" descr=""/>
          <p:cNvPicPr/>
          <p:nvPr/>
        </p:nvPicPr>
        <p:blipFill>
          <a:blip r:embed="rId4"/>
          <a:stretch/>
        </p:blipFill>
        <p:spPr>
          <a:xfrm>
            <a:off x="6999120" y="2019240"/>
            <a:ext cx="1971720" cy="14004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85800" y="5730840"/>
            <a:ext cx="77724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Click to see another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firstslide"/>
          </p:cNvPr>
          <p:cNvSpPr/>
          <p:nvPr/>
        </p:nvSpPr>
        <p:spPr>
          <a:xfrm>
            <a:off x="8572680" y="5791320"/>
            <a:ext cx="457200" cy="5126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12640"/>
              <a:gd name="textAreaBottom" fmla="*/ 483120 h 512640"/>
            </a:gdLst>
            <a:ahLst/>
            <a:rect l="textAreaLeft" t="textAreaTop" r="textAreaRight" b="textAreaBottom"/>
            <a:pathLst>
              <a:path w="21600" h="24217">
                <a:moveTo>
                  <a:pt x="0" y="0"/>
                </a:moveTo>
                <a:lnTo>
                  <a:pt x="21600" y="0"/>
                </a:lnTo>
                <a:lnTo>
                  <a:pt x="21600" y="24217"/>
                </a:lnTo>
                <a:lnTo>
                  <a:pt x="0" y="24217"/>
                </a:lnTo>
                <a:close/>
              </a:path>
              <a:path fill="lightenLess" w="21600" h="242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17">
                <a:moveTo>
                  <a:pt x="21600" y="0"/>
                </a:moveTo>
                <a:lnTo>
                  <a:pt x="21600" y="24217"/>
                </a:lnTo>
                <a:lnTo>
                  <a:pt x="20200" y="22817"/>
                </a:lnTo>
                <a:lnTo>
                  <a:pt x="20200" y="1400"/>
                </a:lnTo>
                <a:close/>
              </a:path>
              <a:path fill="darkenLess" w="21600" h="24217">
                <a:moveTo>
                  <a:pt x="21600" y="24217"/>
                </a:moveTo>
                <a:lnTo>
                  <a:pt x="0" y="24217"/>
                </a:lnTo>
                <a:lnTo>
                  <a:pt x="1400" y="22817"/>
                </a:lnTo>
                <a:lnTo>
                  <a:pt x="20200" y="22817"/>
                </a:lnTo>
                <a:close/>
              </a:path>
              <a:path fill="lighten" w="21600" h="24217">
                <a:moveTo>
                  <a:pt x="0" y="242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17"/>
                </a:lnTo>
                <a:close/>
              </a:path>
              <a:path fill="darken" w="21600" h="24217">
                <a:moveTo>
                  <a:pt x="10800" y="5146"/>
                </a:moveTo>
                <a:lnTo>
                  <a:pt x="13376" y="7757"/>
                </a:ln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lnTo>
                  <a:pt x="17763" y="12109"/>
                </a:lnTo>
                <a:lnTo>
                  <a:pt x="16109" y="12109"/>
                </a:lnTo>
                <a:lnTo>
                  <a:pt x="16109" y="19298"/>
                </a:lnTo>
                <a:lnTo>
                  <a:pt x="5491" y="19298"/>
                </a:lnTo>
                <a:lnTo>
                  <a:pt x="5491" y="12109"/>
                </a:lnTo>
                <a:lnTo>
                  <a:pt x="3837" y="12109"/>
                </a:lnTo>
                <a:close/>
              </a:path>
              <a:path fill="darkenLess" w="21600" h="24217">
                <a:moveTo>
                  <a:pt x="13376" y="7757"/>
                </a:move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close/>
              </a:path>
              <a:path fill="darkenLess" w="21600" h="24217">
                <a:moveTo>
                  <a:pt x="9877" y="15607"/>
                </a:moveTo>
                <a:lnTo>
                  <a:pt x="11723" y="15607"/>
                </a:lnTo>
                <a:lnTo>
                  <a:pt x="11723" y="19298"/>
                </a:lnTo>
                <a:lnTo>
                  <a:pt x="16109" y="19298"/>
                </a:lnTo>
                <a:lnTo>
                  <a:pt x="16109" y="12109"/>
                </a:lnTo>
                <a:lnTo>
                  <a:pt x="5491" y="12109"/>
                </a:lnTo>
                <a:lnTo>
                  <a:pt x="5491" y="19298"/>
                </a:lnTo>
                <a:lnTo>
                  <a:pt x="9877" y="1929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ick to partition this nu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H6" descr=""/>
          <p:cNvPicPr/>
          <p:nvPr/>
        </p:nvPicPr>
        <p:blipFill>
          <a:blip r:embed="rId1"/>
          <a:stretch/>
        </p:blipFill>
        <p:spPr>
          <a:xfrm>
            <a:off x="187200" y="2027160"/>
            <a:ext cx="3934080" cy="1400400"/>
          </a:xfrm>
          <a:prstGeom prst="rect">
            <a:avLst/>
          </a:prstGeom>
          <a:ln w="0">
            <a:noFill/>
          </a:ln>
        </p:spPr>
      </p:pic>
      <p:pic>
        <p:nvPicPr>
          <p:cNvPr id="156" name="T3" descr=""/>
          <p:cNvPicPr/>
          <p:nvPr/>
        </p:nvPicPr>
        <p:blipFill>
          <a:blip r:embed="rId2"/>
          <a:stretch/>
        </p:blipFill>
        <p:spPr>
          <a:xfrm>
            <a:off x="1158840" y="2027160"/>
            <a:ext cx="2962440" cy="1400400"/>
          </a:xfrm>
          <a:prstGeom prst="rect">
            <a:avLst/>
          </a:prstGeom>
          <a:ln w="0">
            <a:noFill/>
          </a:ln>
        </p:spPr>
      </p:pic>
      <p:pic>
        <p:nvPicPr>
          <p:cNvPr id="157" name="H6" descr=""/>
          <p:cNvPicPr/>
          <p:nvPr/>
        </p:nvPicPr>
        <p:blipFill>
          <a:blip r:embed="rId3"/>
          <a:stretch/>
        </p:blipFill>
        <p:spPr>
          <a:xfrm>
            <a:off x="187200" y="2027160"/>
            <a:ext cx="3934080" cy="1400400"/>
          </a:xfrm>
          <a:prstGeom prst="rect">
            <a:avLst/>
          </a:prstGeom>
          <a:ln w="0">
            <a:noFill/>
          </a:ln>
        </p:spPr>
      </p:pic>
      <p:pic>
        <p:nvPicPr>
          <p:cNvPr id="158" name="T3" descr=""/>
          <p:cNvPicPr/>
          <p:nvPr/>
        </p:nvPicPr>
        <p:blipFill>
          <a:blip r:embed="rId4"/>
          <a:stretch/>
        </p:blipFill>
        <p:spPr>
          <a:xfrm>
            <a:off x="4121280" y="2027160"/>
            <a:ext cx="2962080" cy="14004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87200" y="5730840"/>
            <a:ext cx="88426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The next example shows vertical partitio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8572680" y="5791320"/>
            <a:ext cx="457200" cy="5126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12640"/>
              <a:gd name="textAreaBottom" fmla="*/ 483120 h 512640"/>
            </a:gdLst>
            <a:ahLst/>
            <a:rect l="textAreaLeft" t="textAreaTop" r="textAreaRight" b="textAreaBottom"/>
            <a:pathLst>
              <a:path w="21600" h="24217">
                <a:moveTo>
                  <a:pt x="0" y="0"/>
                </a:moveTo>
                <a:lnTo>
                  <a:pt x="21600" y="0"/>
                </a:lnTo>
                <a:lnTo>
                  <a:pt x="21600" y="24217"/>
                </a:lnTo>
                <a:lnTo>
                  <a:pt x="0" y="24217"/>
                </a:lnTo>
                <a:close/>
              </a:path>
              <a:path fill="lightenLess" w="21600" h="242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17">
                <a:moveTo>
                  <a:pt x="21600" y="0"/>
                </a:moveTo>
                <a:lnTo>
                  <a:pt x="21600" y="24217"/>
                </a:lnTo>
                <a:lnTo>
                  <a:pt x="20200" y="22817"/>
                </a:lnTo>
                <a:lnTo>
                  <a:pt x="20200" y="1400"/>
                </a:lnTo>
                <a:close/>
              </a:path>
              <a:path fill="darkenLess" w="21600" h="24217">
                <a:moveTo>
                  <a:pt x="21600" y="24217"/>
                </a:moveTo>
                <a:lnTo>
                  <a:pt x="0" y="24217"/>
                </a:lnTo>
                <a:lnTo>
                  <a:pt x="1400" y="22817"/>
                </a:lnTo>
                <a:lnTo>
                  <a:pt x="20200" y="22817"/>
                </a:lnTo>
                <a:close/>
              </a:path>
              <a:path fill="lighten" w="21600" h="24217">
                <a:moveTo>
                  <a:pt x="0" y="242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17"/>
                </a:lnTo>
                <a:close/>
              </a:path>
              <a:path fill="darken" w="21600" h="24217">
                <a:moveTo>
                  <a:pt x="10800" y="5146"/>
                </a:moveTo>
                <a:lnTo>
                  <a:pt x="13376" y="7757"/>
                </a:ln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lnTo>
                  <a:pt x="17763" y="12109"/>
                </a:lnTo>
                <a:lnTo>
                  <a:pt x="16109" y="12109"/>
                </a:lnTo>
                <a:lnTo>
                  <a:pt x="16109" y="19298"/>
                </a:lnTo>
                <a:lnTo>
                  <a:pt x="5491" y="19298"/>
                </a:lnTo>
                <a:lnTo>
                  <a:pt x="5491" y="12109"/>
                </a:lnTo>
                <a:lnTo>
                  <a:pt x="3837" y="12109"/>
                </a:lnTo>
                <a:close/>
              </a:path>
              <a:path fill="darkenLess" w="21600" h="24217">
                <a:moveTo>
                  <a:pt x="13376" y="7757"/>
                </a:move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close/>
              </a:path>
              <a:path fill="darkenLess" w="21600" h="24217">
                <a:moveTo>
                  <a:pt x="9877" y="15607"/>
                </a:moveTo>
                <a:lnTo>
                  <a:pt x="11723" y="15607"/>
                </a:lnTo>
                <a:lnTo>
                  <a:pt x="11723" y="19298"/>
                </a:lnTo>
                <a:lnTo>
                  <a:pt x="16109" y="19298"/>
                </a:lnTo>
                <a:lnTo>
                  <a:pt x="16109" y="12109"/>
                </a:lnTo>
                <a:lnTo>
                  <a:pt x="5491" y="12109"/>
                </a:lnTo>
                <a:lnTo>
                  <a:pt x="5491" y="19298"/>
                </a:lnTo>
                <a:lnTo>
                  <a:pt x="9877" y="1929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ick to partition this nu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H2" descr=""/>
          <p:cNvPicPr/>
          <p:nvPr/>
        </p:nvPicPr>
        <p:blipFill>
          <a:blip r:embed="rId1"/>
          <a:stretch/>
        </p:blipFill>
        <p:spPr>
          <a:xfrm>
            <a:off x="3038400" y="1268280"/>
            <a:ext cx="3943440" cy="1400400"/>
          </a:xfrm>
          <a:prstGeom prst="rect">
            <a:avLst/>
          </a:prstGeom>
          <a:ln w="0">
            <a:noFill/>
          </a:ln>
        </p:spPr>
      </p:pic>
      <p:pic>
        <p:nvPicPr>
          <p:cNvPr id="163" name="T5" descr=""/>
          <p:cNvPicPr/>
          <p:nvPr/>
        </p:nvPicPr>
        <p:blipFill>
          <a:blip r:embed="rId2"/>
          <a:stretch/>
        </p:blipFill>
        <p:spPr>
          <a:xfrm>
            <a:off x="4019400" y="1268280"/>
            <a:ext cx="2953080" cy="1400400"/>
          </a:xfrm>
          <a:prstGeom prst="rect">
            <a:avLst/>
          </a:prstGeom>
          <a:ln w="0">
            <a:noFill/>
          </a:ln>
        </p:spPr>
      </p:pic>
      <p:pic>
        <p:nvPicPr>
          <p:cNvPr id="164" name="U4" descr=""/>
          <p:cNvPicPr/>
          <p:nvPr/>
        </p:nvPicPr>
        <p:blipFill>
          <a:blip r:embed="rId3"/>
          <a:stretch/>
        </p:blipFill>
        <p:spPr>
          <a:xfrm>
            <a:off x="5000760" y="1268280"/>
            <a:ext cx="1971720" cy="1400400"/>
          </a:xfrm>
          <a:prstGeom prst="rect">
            <a:avLst/>
          </a:prstGeom>
          <a:ln w="0">
            <a:noFill/>
          </a:ln>
        </p:spPr>
      </p:pic>
      <p:pic>
        <p:nvPicPr>
          <p:cNvPr id="165" name="T5" descr=""/>
          <p:cNvPicPr/>
          <p:nvPr/>
        </p:nvPicPr>
        <p:blipFill>
          <a:blip r:embed="rId4"/>
          <a:stretch/>
        </p:blipFill>
        <p:spPr>
          <a:xfrm>
            <a:off x="4029120" y="1268280"/>
            <a:ext cx="2952720" cy="1400400"/>
          </a:xfrm>
          <a:prstGeom prst="rect">
            <a:avLst/>
          </a:prstGeom>
          <a:ln w="0">
            <a:noFill/>
          </a:ln>
        </p:spPr>
      </p:pic>
      <p:pic>
        <p:nvPicPr>
          <p:cNvPr id="166" name="U4" descr=""/>
          <p:cNvPicPr/>
          <p:nvPr/>
        </p:nvPicPr>
        <p:blipFill>
          <a:blip r:embed="rId5"/>
          <a:stretch/>
        </p:blipFill>
        <p:spPr>
          <a:xfrm>
            <a:off x="5000760" y="4578480"/>
            <a:ext cx="1971720" cy="1400040"/>
          </a:xfrm>
          <a:prstGeom prst="rect">
            <a:avLst/>
          </a:prstGeom>
          <a:ln w="0">
            <a:noFill/>
          </a:ln>
        </p:spPr>
      </p:pic>
      <p:pic>
        <p:nvPicPr>
          <p:cNvPr id="167" name="T5" descr=""/>
          <p:cNvPicPr/>
          <p:nvPr/>
        </p:nvPicPr>
        <p:blipFill>
          <a:blip r:embed="rId6"/>
          <a:stretch/>
        </p:blipFill>
        <p:spPr>
          <a:xfrm>
            <a:off x="4029120" y="2922480"/>
            <a:ext cx="2952720" cy="1400400"/>
          </a:xfrm>
          <a:prstGeom prst="rect">
            <a:avLst/>
          </a:prstGeom>
          <a:ln w="0">
            <a:noFill/>
          </a:ln>
        </p:spPr>
      </p:pic>
      <p:pic>
        <p:nvPicPr>
          <p:cNvPr id="168" name="H2" descr=""/>
          <p:cNvPicPr/>
          <p:nvPr/>
        </p:nvPicPr>
        <p:blipFill>
          <a:blip r:embed="rId7"/>
          <a:stretch/>
        </p:blipFill>
        <p:spPr>
          <a:xfrm>
            <a:off x="3038400" y="1268280"/>
            <a:ext cx="3943440" cy="14004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685800" y="5864400"/>
            <a:ext cx="77724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Click to see another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" action="ppaction://hlinkshowjump?jump=firstslide"/>
          </p:cNvPr>
          <p:cNvSpPr/>
          <p:nvPr/>
        </p:nvSpPr>
        <p:spPr>
          <a:xfrm>
            <a:off x="8572680" y="5791320"/>
            <a:ext cx="457200" cy="5126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12640"/>
              <a:gd name="textAreaBottom" fmla="*/ 483120 h 512640"/>
            </a:gdLst>
            <a:ahLst/>
            <a:rect l="textAreaLeft" t="textAreaTop" r="textAreaRight" b="textAreaBottom"/>
            <a:pathLst>
              <a:path w="21600" h="24217">
                <a:moveTo>
                  <a:pt x="0" y="0"/>
                </a:moveTo>
                <a:lnTo>
                  <a:pt x="21600" y="0"/>
                </a:lnTo>
                <a:lnTo>
                  <a:pt x="21600" y="24217"/>
                </a:lnTo>
                <a:lnTo>
                  <a:pt x="0" y="24217"/>
                </a:lnTo>
                <a:close/>
              </a:path>
              <a:path fill="lightenLess" w="21600" h="242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17">
                <a:moveTo>
                  <a:pt x="21600" y="0"/>
                </a:moveTo>
                <a:lnTo>
                  <a:pt x="21600" y="24217"/>
                </a:lnTo>
                <a:lnTo>
                  <a:pt x="20200" y="22817"/>
                </a:lnTo>
                <a:lnTo>
                  <a:pt x="20200" y="1400"/>
                </a:lnTo>
                <a:close/>
              </a:path>
              <a:path fill="darkenLess" w="21600" h="24217">
                <a:moveTo>
                  <a:pt x="21600" y="24217"/>
                </a:moveTo>
                <a:lnTo>
                  <a:pt x="0" y="24217"/>
                </a:lnTo>
                <a:lnTo>
                  <a:pt x="1400" y="22817"/>
                </a:lnTo>
                <a:lnTo>
                  <a:pt x="20200" y="22817"/>
                </a:lnTo>
                <a:close/>
              </a:path>
              <a:path fill="lighten" w="21600" h="24217">
                <a:moveTo>
                  <a:pt x="0" y="242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17"/>
                </a:lnTo>
                <a:close/>
              </a:path>
              <a:path fill="darken" w="21600" h="24217">
                <a:moveTo>
                  <a:pt x="10800" y="5146"/>
                </a:moveTo>
                <a:lnTo>
                  <a:pt x="13376" y="7757"/>
                </a:ln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lnTo>
                  <a:pt x="17763" y="12109"/>
                </a:lnTo>
                <a:lnTo>
                  <a:pt x="16109" y="12109"/>
                </a:lnTo>
                <a:lnTo>
                  <a:pt x="16109" y="19298"/>
                </a:lnTo>
                <a:lnTo>
                  <a:pt x="5491" y="19298"/>
                </a:lnTo>
                <a:lnTo>
                  <a:pt x="5491" y="12109"/>
                </a:lnTo>
                <a:lnTo>
                  <a:pt x="3837" y="12109"/>
                </a:lnTo>
                <a:close/>
              </a:path>
              <a:path fill="darkenLess" w="21600" h="24217">
                <a:moveTo>
                  <a:pt x="13376" y="7757"/>
                </a:move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close/>
              </a:path>
              <a:path fill="darkenLess" w="21600" h="24217">
                <a:moveTo>
                  <a:pt x="9877" y="15607"/>
                </a:moveTo>
                <a:lnTo>
                  <a:pt x="11723" y="15607"/>
                </a:lnTo>
                <a:lnTo>
                  <a:pt x="11723" y="19298"/>
                </a:lnTo>
                <a:lnTo>
                  <a:pt x="16109" y="19298"/>
                </a:lnTo>
                <a:lnTo>
                  <a:pt x="16109" y="12109"/>
                </a:lnTo>
                <a:lnTo>
                  <a:pt x="5491" y="12109"/>
                </a:lnTo>
                <a:lnTo>
                  <a:pt x="5491" y="19298"/>
                </a:lnTo>
                <a:lnTo>
                  <a:pt x="9877" y="1929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ick to partition this nu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H7" descr=""/>
          <p:cNvPicPr/>
          <p:nvPr/>
        </p:nvPicPr>
        <p:blipFill>
          <a:blip r:embed="rId1"/>
          <a:stretch/>
        </p:blipFill>
        <p:spPr>
          <a:xfrm>
            <a:off x="3049560" y="1268280"/>
            <a:ext cx="3933720" cy="1400400"/>
          </a:xfrm>
          <a:prstGeom prst="rect">
            <a:avLst/>
          </a:prstGeom>
          <a:ln w="0">
            <a:noFill/>
          </a:ln>
        </p:spPr>
      </p:pic>
      <p:pic>
        <p:nvPicPr>
          <p:cNvPr id="173" name="T9" descr=""/>
          <p:cNvPicPr/>
          <p:nvPr/>
        </p:nvPicPr>
        <p:blipFill>
          <a:blip r:embed="rId2"/>
          <a:stretch/>
        </p:blipFill>
        <p:spPr>
          <a:xfrm>
            <a:off x="4030560" y="1268280"/>
            <a:ext cx="2952720" cy="1400400"/>
          </a:xfrm>
          <a:prstGeom prst="rect">
            <a:avLst/>
          </a:prstGeom>
          <a:ln w="0">
            <a:noFill/>
          </a:ln>
        </p:spPr>
      </p:pic>
      <p:pic>
        <p:nvPicPr>
          <p:cNvPr id="174" name="U2" descr=""/>
          <p:cNvPicPr/>
          <p:nvPr/>
        </p:nvPicPr>
        <p:blipFill>
          <a:blip r:embed="rId3"/>
          <a:stretch/>
        </p:blipFill>
        <p:spPr>
          <a:xfrm>
            <a:off x="5011560" y="1268280"/>
            <a:ext cx="1971720" cy="1400400"/>
          </a:xfrm>
          <a:prstGeom prst="rect">
            <a:avLst/>
          </a:prstGeom>
          <a:ln w="0">
            <a:noFill/>
          </a:ln>
        </p:spPr>
      </p:pic>
      <p:pic>
        <p:nvPicPr>
          <p:cNvPr id="175" name="T9" descr=""/>
          <p:cNvPicPr/>
          <p:nvPr/>
        </p:nvPicPr>
        <p:blipFill>
          <a:blip r:embed="rId4"/>
          <a:stretch/>
        </p:blipFill>
        <p:spPr>
          <a:xfrm>
            <a:off x="4030560" y="1268280"/>
            <a:ext cx="2952720" cy="1400400"/>
          </a:xfrm>
          <a:prstGeom prst="rect">
            <a:avLst/>
          </a:prstGeom>
          <a:ln w="0">
            <a:noFill/>
          </a:ln>
        </p:spPr>
      </p:pic>
      <p:pic>
        <p:nvPicPr>
          <p:cNvPr id="176" name="U2" descr=""/>
          <p:cNvPicPr/>
          <p:nvPr/>
        </p:nvPicPr>
        <p:blipFill>
          <a:blip r:embed="rId5"/>
          <a:stretch/>
        </p:blipFill>
        <p:spPr>
          <a:xfrm>
            <a:off x="5011560" y="4579920"/>
            <a:ext cx="1971720" cy="1400040"/>
          </a:xfrm>
          <a:prstGeom prst="rect">
            <a:avLst/>
          </a:prstGeom>
          <a:ln w="0">
            <a:noFill/>
          </a:ln>
        </p:spPr>
      </p:pic>
      <p:pic>
        <p:nvPicPr>
          <p:cNvPr id="177" name="T9" descr=""/>
          <p:cNvPicPr/>
          <p:nvPr/>
        </p:nvPicPr>
        <p:blipFill>
          <a:blip r:embed="rId6"/>
          <a:stretch/>
        </p:blipFill>
        <p:spPr>
          <a:xfrm>
            <a:off x="4030560" y="2916360"/>
            <a:ext cx="2952720" cy="1400040"/>
          </a:xfrm>
          <a:prstGeom prst="rect">
            <a:avLst/>
          </a:prstGeom>
          <a:ln w="0">
            <a:noFill/>
          </a:ln>
        </p:spPr>
      </p:pic>
      <p:pic>
        <p:nvPicPr>
          <p:cNvPr id="178" name="H7" descr=""/>
          <p:cNvPicPr/>
          <p:nvPr/>
        </p:nvPicPr>
        <p:blipFill>
          <a:blip r:embed="rId7"/>
          <a:stretch/>
        </p:blipFill>
        <p:spPr>
          <a:xfrm>
            <a:off x="3049560" y="1268280"/>
            <a:ext cx="3933720" cy="14004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685800" y="5864400"/>
            <a:ext cx="77724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Click to see another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firstslide"/>
          </p:cNvPr>
          <p:cNvSpPr/>
          <p:nvPr/>
        </p:nvSpPr>
        <p:spPr>
          <a:xfrm>
            <a:off x="8572680" y="5791320"/>
            <a:ext cx="457200" cy="5126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12640"/>
              <a:gd name="textAreaBottom" fmla="*/ 483120 h 512640"/>
            </a:gdLst>
            <a:ahLst/>
            <a:rect l="textAreaLeft" t="textAreaTop" r="textAreaRight" b="textAreaBottom"/>
            <a:pathLst>
              <a:path w="21600" h="24217">
                <a:moveTo>
                  <a:pt x="0" y="0"/>
                </a:moveTo>
                <a:lnTo>
                  <a:pt x="21600" y="0"/>
                </a:lnTo>
                <a:lnTo>
                  <a:pt x="21600" y="24217"/>
                </a:lnTo>
                <a:lnTo>
                  <a:pt x="0" y="24217"/>
                </a:lnTo>
                <a:close/>
              </a:path>
              <a:path fill="lightenLess" w="21600" h="242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17">
                <a:moveTo>
                  <a:pt x="21600" y="0"/>
                </a:moveTo>
                <a:lnTo>
                  <a:pt x="21600" y="24217"/>
                </a:lnTo>
                <a:lnTo>
                  <a:pt x="20200" y="22817"/>
                </a:lnTo>
                <a:lnTo>
                  <a:pt x="20200" y="1400"/>
                </a:lnTo>
                <a:close/>
              </a:path>
              <a:path fill="darkenLess" w="21600" h="24217">
                <a:moveTo>
                  <a:pt x="21600" y="24217"/>
                </a:moveTo>
                <a:lnTo>
                  <a:pt x="0" y="24217"/>
                </a:lnTo>
                <a:lnTo>
                  <a:pt x="1400" y="22817"/>
                </a:lnTo>
                <a:lnTo>
                  <a:pt x="20200" y="22817"/>
                </a:lnTo>
                <a:close/>
              </a:path>
              <a:path fill="lighten" w="21600" h="24217">
                <a:moveTo>
                  <a:pt x="0" y="242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17"/>
                </a:lnTo>
                <a:close/>
              </a:path>
              <a:path fill="darken" w="21600" h="24217">
                <a:moveTo>
                  <a:pt x="10800" y="5146"/>
                </a:moveTo>
                <a:lnTo>
                  <a:pt x="13376" y="7757"/>
                </a:ln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lnTo>
                  <a:pt x="17763" y="12109"/>
                </a:lnTo>
                <a:lnTo>
                  <a:pt x="16109" y="12109"/>
                </a:lnTo>
                <a:lnTo>
                  <a:pt x="16109" y="19298"/>
                </a:lnTo>
                <a:lnTo>
                  <a:pt x="5491" y="19298"/>
                </a:lnTo>
                <a:lnTo>
                  <a:pt x="5491" y="12109"/>
                </a:lnTo>
                <a:lnTo>
                  <a:pt x="3837" y="12109"/>
                </a:lnTo>
                <a:close/>
              </a:path>
              <a:path fill="darkenLess" w="21600" h="24217">
                <a:moveTo>
                  <a:pt x="13376" y="7757"/>
                </a:move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close/>
              </a:path>
              <a:path fill="darkenLess" w="21600" h="24217">
                <a:moveTo>
                  <a:pt x="9877" y="15607"/>
                </a:moveTo>
                <a:lnTo>
                  <a:pt x="11723" y="15607"/>
                </a:lnTo>
                <a:lnTo>
                  <a:pt x="11723" y="19298"/>
                </a:lnTo>
                <a:lnTo>
                  <a:pt x="16109" y="19298"/>
                </a:lnTo>
                <a:lnTo>
                  <a:pt x="16109" y="12109"/>
                </a:lnTo>
                <a:lnTo>
                  <a:pt x="5491" y="12109"/>
                </a:lnTo>
                <a:lnTo>
                  <a:pt x="5491" y="19298"/>
                </a:lnTo>
                <a:lnTo>
                  <a:pt x="9877" y="1929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ick to partition this nu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H5" descr=""/>
          <p:cNvPicPr/>
          <p:nvPr/>
        </p:nvPicPr>
        <p:blipFill>
          <a:blip r:embed="rId1"/>
          <a:stretch/>
        </p:blipFill>
        <p:spPr>
          <a:xfrm>
            <a:off x="3049560" y="1319040"/>
            <a:ext cx="3933720" cy="1400400"/>
          </a:xfrm>
          <a:prstGeom prst="rect">
            <a:avLst/>
          </a:prstGeom>
          <a:ln w="0">
            <a:noFill/>
          </a:ln>
        </p:spPr>
      </p:pic>
      <p:pic>
        <p:nvPicPr>
          <p:cNvPr id="183" name="T8" descr=""/>
          <p:cNvPicPr/>
          <p:nvPr/>
        </p:nvPicPr>
        <p:blipFill>
          <a:blip r:embed="rId2"/>
          <a:stretch/>
        </p:blipFill>
        <p:spPr>
          <a:xfrm>
            <a:off x="4030560" y="1319040"/>
            <a:ext cx="2952720" cy="1400400"/>
          </a:xfrm>
          <a:prstGeom prst="rect">
            <a:avLst/>
          </a:prstGeom>
          <a:ln w="0">
            <a:noFill/>
          </a:ln>
        </p:spPr>
      </p:pic>
      <p:pic>
        <p:nvPicPr>
          <p:cNvPr id="184" name="U3" descr=""/>
          <p:cNvPicPr/>
          <p:nvPr/>
        </p:nvPicPr>
        <p:blipFill>
          <a:blip r:embed="rId3"/>
          <a:stretch/>
        </p:blipFill>
        <p:spPr>
          <a:xfrm>
            <a:off x="5011560" y="1319040"/>
            <a:ext cx="1971720" cy="1400400"/>
          </a:xfrm>
          <a:prstGeom prst="rect">
            <a:avLst/>
          </a:prstGeom>
          <a:ln w="0">
            <a:noFill/>
          </a:ln>
        </p:spPr>
      </p:pic>
      <p:pic>
        <p:nvPicPr>
          <p:cNvPr id="185" name="T8" descr=""/>
          <p:cNvPicPr/>
          <p:nvPr/>
        </p:nvPicPr>
        <p:blipFill>
          <a:blip r:embed="rId4"/>
          <a:stretch/>
        </p:blipFill>
        <p:spPr>
          <a:xfrm>
            <a:off x="4030560" y="3005280"/>
            <a:ext cx="2952720" cy="1400040"/>
          </a:xfrm>
          <a:prstGeom prst="rect">
            <a:avLst/>
          </a:prstGeom>
          <a:ln w="0">
            <a:noFill/>
          </a:ln>
        </p:spPr>
      </p:pic>
      <p:pic>
        <p:nvPicPr>
          <p:cNvPr id="186" name="U3" descr=""/>
          <p:cNvPicPr/>
          <p:nvPr/>
        </p:nvPicPr>
        <p:blipFill>
          <a:blip r:embed="rId5"/>
          <a:stretch/>
        </p:blipFill>
        <p:spPr>
          <a:xfrm>
            <a:off x="5011560" y="4676760"/>
            <a:ext cx="1971720" cy="1400040"/>
          </a:xfrm>
          <a:prstGeom prst="rect">
            <a:avLst/>
          </a:prstGeom>
          <a:ln w="0">
            <a:noFill/>
          </a:ln>
        </p:spPr>
      </p:pic>
      <p:pic>
        <p:nvPicPr>
          <p:cNvPr id="187" name="T8" descr=""/>
          <p:cNvPicPr/>
          <p:nvPr/>
        </p:nvPicPr>
        <p:blipFill>
          <a:blip r:embed="rId6"/>
          <a:stretch/>
        </p:blipFill>
        <p:spPr>
          <a:xfrm>
            <a:off x="4030560" y="1319040"/>
            <a:ext cx="2952720" cy="1400400"/>
          </a:xfrm>
          <a:prstGeom prst="rect">
            <a:avLst/>
          </a:prstGeom>
          <a:ln w="0">
            <a:noFill/>
          </a:ln>
        </p:spPr>
      </p:pic>
      <p:pic>
        <p:nvPicPr>
          <p:cNvPr id="188" name="H5" descr=""/>
          <p:cNvPicPr/>
          <p:nvPr/>
        </p:nvPicPr>
        <p:blipFill>
          <a:blip r:embed="rId7"/>
          <a:stretch/>
        </p:blipFill>
        <p:spPr>
          <a:xfrm>
            <a:off x="3049560" y="1319040"/>
            <a:ext cx="3933720" cy="14004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685800" y="5864400"/>
            <a:ext cx="77724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Click to see another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" action="ppaction://hlinkshowjump?jump=firstslide"/>
          </p:cNvPr>
          <p:cNvSpPr/>
          <p:nvPr/>
        </p:nvSpPr>
        <p:spPr>
          <a:xfrm>
            <a:off x="8572680" y="5791320"/>
            <a:ext cx="457200" cy="5126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12640"/>
              <a:gd name="textAreaBottom" fmla="*/ 483120 h 512640"/>
            </a:gdLst>
            <a:ahLst/>
            <a:rect l="textAreaLeft" t="textAreaTop" r="textAreaRight" b="textAreaBottom"/>
            <a:pathLst>
              <a:path w="21600" h="24217">
                <a:moveTo>
                  <a:pt x="0" y="0"/>
                </a:moveTo>
                <a:lnTo>
                  <a:pt x="21600" y="0"/>
                </a:lnTo>
                <a:lnTo>
                  <a:pt x="21600" y="24217"/>
                </a:lnTo>
                <a:lnTo>
                  <a:pt x="0" y="24217"/>
                </a:lnTo>
                <a:close/>
              </a:path>
              <a:path fill="lightenLess" w="21600" h="242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17">
                <a:moveTo>
                  <a:pt x="21600" y="0"/>
                </a:moveTo>
                <a:lnTo>
                  <a:pt x="21600" y="24217"/>
                </a:lnTo>
                <a:lnTo>
                  <a:pt x="20200" y="22817"/>
                </a:lnTo>
                <a:lnTo>
                  <a:pt x="20200" y="1400"/>
                </a:lnTo>
                <a:close/>
              </a:path>
              <a:path fill="darkenLess" w="21600" h="24217">
                <a:moveTo>
                  <a:pt x="21600" y="24217"/>
                </a:moveTo>
                <a:lnTo>
                  <a:pt x="0" y="24217"/>
                </a:lnTo>
                <a:lnTo>
                  <a:pt x="1400" y="22817"/>
                </a:lnTo>
                <a:lnTo>
                  <a:pt x="20200" y="22817"/>
                </a:lnTo>
                <a:close/>
              </a:path>
              <a:path fill="lighten" w="21600" h="24217">
                <a:moveTo>
                  <a:pt x="0" y="242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17"/>
                </a:lnTo>
                <a:close/>
              </a:path>
              <a:path fill="darken" w="21600" h="24217">
                <a:moveTo>
                  <a:pt x="10800" y="5146"/>
                </a:moveTo>
                <a:lnTo>
                  <a:pt x="13376" y="7757"/>
                </a:ln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lnTo>
                  <a:pt x="17763" y="12109"/>
                </a:lnTo>
                <a:lnTo>
                  <a:pt x="16109" y="12109"/>
                </a:lnTo>
                <a:lnTo>
                  <a:pt x="16109" y="19298"/>
                </a:lnTo>
                <a:lnTo>
                  <a:pt x="5491" y="19298"/>
                </a:lnTo>
                <a:lnTo>
                  <a:pt x="5491" y="12109"/>
                </a:lnTo>
                <a:lnTo>
                  <a:pt x="3837" y="12109"/>
                </a:lnTo>
                <a:close/>
              </a:path>
              <a:path fill="darkenLess" w="21600" h="24217">
                <a:moveTo>
                  <a:pt x="13376" y="7757"/>
                </a:move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close/>
              </a:path>
              <a:path fill="darkenLess" w="21600" h="24217">
                <a:moveTo>
                  <a:pt x="9877" y="15607"/>
                </a:moveTo>
                <a:lnTo>
                  <a:pt x="11723" y="15607"/>
                </a:lnTo>
                <a:lnTo>
                  <a:pt x="11723" y="19298"/>
                </a:lnTo>
                <a:lnTo>
                  <a:pt x="16109" y="19298"/>
                </a:lnTo>
                <a:lnTo>
                  <a:pt x="16109" y="12109"/>
                </a:lnTo>
                <a:lnTo>
                  <a:pt x="5491" y="12109"/>
                </a:lnTo>
                <a:lnTo>
                  <a:pt x="5491" y="19298"/>
                </a:lnTo>
                <a:lnTo>
                  <a:pt x="9877" y="1929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ick to partition this nu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T3" descr=""/>
          <p:cNvPicPr/>
          <p:nvPr/>
        </p:nvPicPr>
        <p:blipFill>
          <a:blip r:embed="rId1"/>
          <a:stretch/>
        </p:blipFill>
        <p:spPr>
          <a:xfrm>
            <a:off x="1917720" y="2043000"/>
            <a:ext cx="2962080" cy="1400400"/>
          </a:xfrm>
          <a:prstGeom prst="rect">
            <a:avLst/>
          </a:prstGeom>
          <a:ln w="0">
            <a:noFill/>
          </a:ln>
        </p:spPr>
      </p:pic>
      <p:pic>
        <p:nvPicPr>
          <p:cNvPr id="48" name="U5" descr=""/>
          <p:cNvPicPr/>
          <p:nvPr/>
        </p:nvPicPr>
        <p:blipFill>
          <a:blip r:embed="rId2"/>
          <a:stretch/>
        </p:blipFill>
        <p:spPr>
          <a:xfrm>
            <a:off x="2908440" y="2043000"/>
            <a:ext cx="1971360" cy="1400400"/>
          </a:xfrm>
          <a:prstGeom prst="rect">
            <a:avLst/>
          </a:prstGeom>
          <a:ln w="0">
            <a:noFill/>
          </a:ln>
        </p:spPr>
      </p:pic>
      <p:pic>
        <p:nvPicPr>
          <p:cNvPr id="49" name="U5" descr=""/>
          <p:cNvPicPr/>
          <p:nvPr/>
        </p:nvPicPr>
        <p:blipFill>
          <a:blip r:embed="rId3"/>
          <a:stretch/>
        </p:blipFill>
        <p:spPr>
          <a:xfrm>
            <a:off x="5256360" y="2043000"/>
            <a:ext cx="1971360" cy="1400400"/>
          </a:xfrm>
          <a:prstGeom prst="rect">
            <a:avLst/>
          </a:prstGeom>
          <a:ln w="0">
            <a:noFill/>
          </a:ln>
        </p:spPr>
      </p:pic>
      <p:pic>
        <p:nvPicPr>
          <p:cNvPr id="50" name="T3" descr=""/>
          <p:cNvPicPr/>
          <p:nvPr/>
        </p:nvPicPr>
        <p:blipFill>
          <a:blip r:embed="rId4"/>
          <a:stretch/>
        </p:blipFill>
        <p:spPr>
          <a:xfrm>
            <a:off x="1917720" y="2043000"/>
            <a:ext cx="2962080" cy="1400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5800" y="5730840"/>
            <a:ext cx="77724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Click to see another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" action="ppaction://hlinkshowjump?jump=firstslide"/>
          </p:cNvPr>
          <p:cNvSpPr/>
          <p:nvPr/>
        </p:nvSpPr>
        <p:spPr>
          <a:xfrm>
            <a:off x="8572680" y="5791320"/>
            <a:ext cx="457200" cy="5126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12640"/>
              <a:gd name="textAreaBottom" fmla="*/ 483120 h 512640"/>
            </a:gdLst>
            <a:ahLst/>
            <a:rect l="textAreaLeft" t="textAreaTop" r="textAreaRight" b="textAreaBottom"/>
            <a:pathLst>
              <a:path w="21600" h="24217">
                <a:moveTo>
                  <a:pt x="0" y="0"/>
                </a:moveTo>
                <a:lnTo>
                  <a:pt x="21600" y="0"/>
                </a:lnTo>
                <a:lnTo>
                  <a:pt x="21600" y="24217"/>
                </a:lnTo>
                <a:lnTo>
                  <a:pt x="0" y="24217"/>
                </a:lnTo>
                <a:close/>
              </a:path>
              <a:path fill="lightenLess" w="21600" h="242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17">
                <a:moveTo>
                  <a:pt x="21600" y="0"/>
                </a:moveTo>
                <a:lnTo>
                  <a:pt x="21600" y="24217"/>
                </a:lnTo>
                <a:lnTo>
                  <a:pt x="20200" y="22817"/>
                </a:lnTo>
                <a:lnTo>
                  <a:pt x="20200" y="1400"/>
                </a:lnTo>
                <a:close/>
              </a:path>
              <a:path fill="darkenLess" w="21600" h="24217">
                <a:moveTo>
                  <a:pt x="21600" y="24217"/>
                </a:moveTo>
                <a:lnTo>
                  <a:pt x="0" y="24217"/>
                </a:lnTo>
                <a:lnTo>
                  <a:pt x="1400" y="22817"/>
                </a:lnTo>
                <a:lnTo>
                  <a:pt x="20200" y="22817"/>
                </a:lnTo>
                <a:close/>
              </a:path>
              <a:path fill="lighten" w="21600" h="24217">
                <a:moveTo>
                  <a:pt x="0" y="242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17"/>
                </a:lnTo>
                <a:close/>
              </a:path>
              <a:path fill="darken" w="21600" h="24217">
                <a:moveTo>
                  <a:pt x="10800" y="5146"/>
                </a:moveTo>
                <a:lnTo>
                  <a:pt x="13376" y="7757"/>
                </a:ln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lnTo>
                  <a:pt x="17763" y="12109"/>
                </a:lnTo>
                <a:lnTo>
                  <a:pt x="16109" y="12109"/>
                </a:lnTo>
                <a:lnTo>
                  <a:pt x="16109" y="19298"/>
                </a:lnTo>
                <a:lnTo>
                  <a:pt x="5491" y="19298"/>
                </a:lnTo>
                <a:lnTo>
                  <a:pt x="5491" y="12109"/>
                </a:lnTo>
                <a:lnTo>
                  <a:pt x="3837" y="12109"/>
                </a:lnTo>
                <a:close/>
              </a:path>
              <a:path fill="darkenLess" w="21600" h="24217">
                <a:moveTo>
                  <a:pt x="13376" y="7757"/>
                </a:move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close/>
              </a:path>
              <a:path fill="darkenLess" w="21600" h="24217">
                <a:moveTo>
                  <a:pt x="9877" y="15607"/>
                </a:moveTo>
                <a:lnTo>
                  <a:pt x="11723" y="15607"/>
                </a:lnTo>
                <a:lnTo>
                  <a:pt x="11723" y="19298"/>
                </a:lnTo>
                <a:lnTo>
                  <a:pt x="16109" y="19298"/>
                </a:lnTo>
                <a:lnTo>
                  <a:pt x="16109" y="12109"/>
                </a:lnTo>
                <a:lnTo>
                  <a:pt x="5491" y="12109"/>
                </a:lnTo>
                <a:lnTo>
                  <a:pt x="5491" y="19298"/>
                </a:lnTo>
                <a:lnTo>
                  <a:pt x="9877" y="1929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ick to partition this nu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H4" descr=""/>
          <p:cNvPicPr/>
          <p:nvPr/>
        </p:nvPicPr>
        <p:blipFill>
          <a:blip r:embed="rId1"/>
          <a:stretch/>
        </p:blipFill>
        <p:spPr>
          <a:xfrm>
            <a:off x="3054240" y="1425600"/>
            <a:ext cx="3934080" cy="1400040"/>
          </a:xfrm>
          <a:prstGeom prst="rect">
            <a:avLst/>
          </a:prstGeom>
          <a:ln w="0">
            <a:noFill/>
          </a:ln>
        </p:spPr>
      </p:pic>
      <p:pic>
        <p:nvPicPr>
          <p:cNvPr id="193" name="U6" descr=""/>
          <p:cNvPicPr/>
          <p:nvPr/>
        </p:nvPicPr>
        <p:blipFill>
          <a:blip r:embed="rId2"/>
          <a:stretch/>
        </p:blipFill>
        <p:spPr>
          <a:xfrm>
            <a:off x="5016600" y="1425600"/>
            <a:ext cx="1971720" cy="1400040"/>
          </a:xfrm>
          <a:prstGeom prst="rect">
            <a:avLst/>
          </a:prstGeom>
          <a:ln w="0">
            <a:noFill/>
          </a:ln>
        </p:spPr>
      </p:pic>
      <p:pic>
        <p:nvPicPr>
          <p:cNvPr id="194" name="H4" descr=""/>
          <p:cNvPicPr/>
          <p:nvPr/>
        </p:nvPicPr>
        <p:blipFill>
          <a:blip r:embed="rId3"/>
          <a:stretch/>
        </p:blipFill>
        <p:spPr>
          <a:xfrm>
            <a:off x="3054240" y="1425600"/>
            <a:ext cx="3934080" cy="1400040"/>
          </a:xfrm>
          <a:prstGeom prst="rect">
            <a:avLst/>
          </a:prstGeom>
          <a:ln w="0">
            <a:noFill/>
          </a:ln>
        </p:spPr>
      </p:pic>
      <p:pic>
        <p:nvPicPr>
          <p:cNvPr id="195" name="U6" descr=""/>
          <p:cNvPicPr/>
          <p:nvPr/>
        </p:nvPicPr>
        <p:blipFill>
          <a:blip r:embed="rId4"/>
          <a:stretch/>
        </p:blipFill>
        <p:spPr>
          <a:xfrm>
            <a:off x="5016600" y="4525920"/>
            <a:ext cx="1971720" cy="14000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685800" y="5864400"/>
            <a:ext cx="77724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Click to see another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" action="ppaction://hlinkshowjump?jump=firstslide"/>
          </p:cNvPr>
          <p:cNvSpPr/>
          <p:nvPr/>
        </p:nvSpPr>
        <p:spPr>
          <a:xfrm>
            <a:off x="8572680" y="5791320"/>
            <a:ext cx="457200" cy="5126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12640"/>
              <a:gd name="textAreaBottom" fmla="*/ 483120 h 512640"/>
            </a:gdLst>
            <a:ahLst/>
            <a:rect l="textAreaLeft" t="textAreaTop" r="textAreaRight" b="textAreaBottom"/>
            <a:pathLst>
              <a:path w="21600" h="24217">
                <a:moveTo>
                  <a:pt x="0" y="0"/>
                </a:moveTo>
                <a:lnTo>
                  <a:pt x="21600" y="0"/>
                </a:lnTo>
                <a:lnTo>
                  <a:pt x="21600" y="24217"/>
                </a:lnTo>
                <a:lnTo>
                  <a:pt x="0" y="24217"/>
                </a:lnTo>
                <a:close/>
              </a:path>
              <a:path fill="lightenLess" w="21600" h="242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17">
                <a:moveTo>
                  <a:pt x="21600" y="0"/>
                </a:moveTo>
                <a:lnTo>
                  <a:pt x="21600" y="24217"/>
                </a:lnTo>
                <a:lnTo>
                  <a:pt x="20200" y="22817"/>
                </a:lnTo>
                <a:lnTo>
                  <a:pt x="20200" y="1400"/>
                </a:lnTo>
                <a:close/>
              </a:path>
              <a:path fill="darkenLess" w="21600" h="24217">
                <a:moveTo>
                  <a:pt x="21600" y="24217"/>
                </a:moveTo>
                <a:lnTo>
                  <a:pt x="0" y="24217"/>
                </a:lnTo>
                <a:lnTo>
                  <a:pt x="1400" y="22817"/>
                </a:lnTo>
                <a:lnTo>
                  <a:pt x="20200" y="22817"/>
                </a:lnTo>
                <a:close/>
              </a:path>
              <a:path fill="lighten" w="21600" h="24217">
                <a:moveTo>
                  <a:pt x="0" y="242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17"/>
                </a:lnTo>
                <a:close/>
              </a:path>
              <a:path fill="darken" w="21600" h="24217">
                <a:moveTo>
                  <a:pt x="10800" y="5146"/>
                </a:moveTo>
                <a:lnTo>
                  <a:pt x="13376" y="7757"/>
                </a:ln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lnTo>
                  <a:pt x="17763" y="12109"/>
                </a:lnTo>
                <a:lnTo>
                  <a:pt x="16109" y="12109"/>
                </a:lnTo>
                <a:lnTo>
                  <a:pt x="16109" y="19298"/>
                </a:lnTo>
                <a:lnTo>
                  <a:pt x="5491" y="19298"/>
                </a:lnTo>
                <a:lnTo>
                  <a:pt x="5491" y="12109"/>
                </a:lnTo>
                <a:lnTo>
                  <a:pt x="3837" y="12109"/>
                </a:lnTo>
                <a:close/>
              </a:path>
              <a:path fill="darkenLess" w="21600" h="24217">
                <a:moveTo>
                  <a:pt x="13376" y="7757"/>
                </a:move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close/>
              </a:path>
              <a:path fill="darkenLess" w="21600" h="24217">
                <a:moveTo>
                  <a:pt x="9877" y="15607"/>
                </a:moveTo>
                <a:lnTo>
                  <a:pt x="11723" y="15607"/>
                </a:lnTo>
                <a:lnTo>
                  <a:pt x="11723" y="19298"/>
                </a:lnTo>
                <a:lnTo>
                  <a:pt x="16109" y="19298"/>
                </a:lnTo>
                <a:lnTo>
                  <a:pt x="16109" y="12109"/>
                </a:lnTo>
                <a:lnTo>
                  <a:pt x="5491" y="12109"/>
                </a:lnTo>
                <a:lnTo>
                  <a:pt x="5491" y="19298"/>
                </a:lnTo>
                <a:lnTo>
                  <a:pt x="9877" y="1929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ick to partition this nu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H6" descr=""/>
          <p:cNvPicPr/>
          <p:nvPr/>
        </p:nvPicPr>
        <p:blipFill>
          <a:blip r:embed="rId1"/>
          <a:stretch/>
        </p:blipFill>
        <p:spPr>
          <a:xfrm>
            <a:off x="3017880" y="1407960"/>
            <a:ext cx="3933720" cy="1400400"/>
          </a:xfrm>
          <a:prstGeom prst="rect">
            <a:avLst/>
          </a:prstGeom>
          <a:ln w="0">
            <a:noFill/>
          </a:ln>
        </p:spPr>
      </p:pic>
      <p:pic>
        <p:nvPicPr>
          <p:cNvPr id="200" name="T3" descr=""/>
          <p:cNvPicPr/>
          <p:nvPr/>
        </p:nvPicPr>
        <p:blipFill>
          <a:blip r:embed="rId2"/>
          <a:stretch/>
        </p:blipFill>
        <p:spPr>
          <a:xfrm>
            <a:off x="3989520" y="1407960"/>
            <a:ext cx="2962080" cy="1400400"/>
          </a:xfrm>
          <a:prstGeom prst="rect">
            <a:avLst/>
          </a:prstGeom>
          <a:ln w="0">
            <a:noFill/>
          </a:ln>
        </p:spPr>
      </p:pic>
      <p:pic>
        <p:nvPicPr>
          <p:cNvPr id="201" name="H6" descr=""/>
          <p:cNvPicPr/>
          <p:nvPr/>
        </p:nvPicPr>
        <p:blipFill>
          <a:blip r:embed="rId3"/>
          <a:stretch/>
        </p:blipFill>
        <p:spPr>
          <a:xfrm>
            <a:off x="3017880" y="1407960"/>
            <a:ext cx="3933720" cy="1400400"/>
          </a:xfrm>
          <a:prstGeom prst="rect">
            <a:avLst/>
          </a:prstGeom>
          <a:ln w="0">
            <a:noFill/>
          </a:ln>
        </p:spPr>
      </p:pic>
      <p:pic>
        <p:nvPicPr>
          <p:cNvPr id="202" name="T3" descr=""/>
          <p:cNvPicPr/>
          <p:nvPr/>
        </p:nvPicPr>
        <p:blipFill>
          <a:blip r:embed="rId4"/>
          <a:stretch/>
        </p:blipFill>
        <p:spPr>
          <a:xfrm>
            <a:off x="3989520" y="3086280"/>
            <a:ext cx="2962080" cy="1400040"/>
          </a:xfrm>
          <a:prstGeom prst="rect">
            <a:avLst/>
          </a:prstGeom>
          <a:ln w="0">
            <a:noFill/>
          </a:ln>
        </p:spPr>
      </p:pic>
      <p:sp>
        <p:nvSpPr>
          <p:cNvPr id="203" name="">
            <a:hlinkClick r:id="" action="ppaction://hlinkshowjump?jump=firstslide"/>
          </p:cNvPr>
          <p:cNvSpPr/>
          <p:nvPr/>
        </p:nvSpPr>
        <p:spPr>
          <a:xfrm>
            <a:off x="8572680" y="5791320"/>
            <a:ext cx="457200" cy="5126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12640"/>
              <a:gd name="textAreaBottom" fmla="*/ 483120 h 512640"/>
            </a:gdLst>
            <a:ahLst/>
            <a:rect l="textAreaLeft" t="textAreaTop" r="textAreaRight" b="textAreaBottom"/>
            <a:pathLst>
              <a:path w="21600" h="24217">
                <a:moveTo>
                  <a:pt x="0" y="0"/>
                </a:moveTo>
                <a:lnTo>
                  <a:pt x="21600" y="0"/>
                </a:lnTo>
                <a:lnTo>
                  <a:pt x="21600" y="24217"/>
                </a:lnTo>
                <a:lnTo>
                  <a:pt x="0" y="24217"/>
                </a:lnTo>
                <a:close/>
              </a:path>
              <a:path fill="lightenLess" w="21600" h="242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17">
                <a:moveTo>
                  <a:pt x="21600" y="0"/>
                </a:moveTo>
                <a:lnTo>
                  <a:pt x="21600" y="24217"/>
                </a:lnTo>
                <a:lnTo>
                  <a:pt x="20200" y="22817"/>
                </a:lnTo>
                <a:lnTo>
                  <a:pt x="20200" y="1400"/>
                </a:lnTo>
                <a:close/>
              </a:path>
              <a:path fill="darkenLess" w="21600" h="24217">
                <a:moveTo>
                  <a:pt x="21600" y="24217"/>
                </a:moveTo>
                <a:lnTo>
                  <a:pt x="0" y="24217"/>
                </a:lnTo>
                <a:lnTo>
                  <a:pt x="1400" y="22817"/>
                </a:lnTo>
                <a:lnTo>
                  <a:pt x="20200" y="22817"/>
                </a:lnTo>
                <a:close/>
              </a:path>
              <a:path fill="lighten" w="21600" h="24217">
                <a:moveTo>
                  <a:pt x="0" y="242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17"/>
                </a:lnTo>
                <a:close/>
              </a:path>
              <a:path fill="darken" w="21600" h="24217">
                <a:moveTo>
                  <a:pt x="10800" y="5146"/>
                </a:moveTo>
                <a:lnTo>
                  <a:pt x="13376" y="7757"/>
                </a:ln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lnTo>
                  <a:pt x="17763" y="12109"/>
                </a:lnTo>
                <a:lnTo>
                  <a:pt x="16109" y="12109"/>
                </a:lnTo>
                <a:lnTo>
                  <a:pt x="16109" y="19298"/>
                </a:lnTo>
                <a:lnTo>
                  <a:pt x="5491" y="19298"/>
                </a:lnTo>
                <a:lnTo>
                  <a:pt x="5491" y="12109"/>
                </a:lnTo>
                <a:lnTo>
                  <a:pt x="3837" y="12109"/>
                </a:lnTo>
                <a:close/>
              </a:path>
              <a:path fill="darkenLess" w="21600" h="24217">
                <a:moveTo>
                  <a:pt x="13376" y="7757"/>
                </a:move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close/>
              </a:path>
              <a:path fill="darkenLess" w="21600" h="24217">
                <a:moveTo>
                  <a:pt x="9877" y="15607"/>
                </a:moveTo>
                <a:lnTo>
                  <a:pt x="11723" y="15607"/>
                </a:lnTo>
                <a:lnTo>
                  <a:pt x="11723" y="19298"/>
                </a:lnTo>
                <a:lnTo>
                  <a:pt x="16109" y="19298"/>
                </a:lnTo>
                <a:lnTo>
                  <a:pt x="16109" y="12109"/>
                </a:lnTo>
                <a:lnTo>
                  <a:pt x="5491" y="12109"/>
                </a:lnTo>
                <a:lnTo>
                  <a:pt x="5491" y="19298"/>
                </a:lnTo>
                <a:lnTo>
                  <a:pt x="9877" y="1929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990440"/>
            <a:ext cx="77724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D OF PRES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>
            <a:hlinkClick r:id="" action="ppaction://hlinkshowjump?jump=firstslide"/>
          </p:cNvPr>
          <p:cNvSpPr/>
          <p:nvPr/>
        </p:nvSpPr>
        <p:spPr>
          <a:xfrm>
            <a:off x="8572680" y="5791320"/>
            <a:ext cx="457200" cy="5126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12640"/>
              <a:gd name="textAreaBottom" fmla="*/ 483120 h 512640"/>
            </a:gdLst>
            <a:ahLst/>
            <a:rect l="textAreaLeft" t="textAreaTop" r="textAreaRight" b="textAreaBottom"/>
            <a:pathLst>
              <a:path w="21600" h="24217">
                <a:moveTo>
                  <a:pt x="0" y="0"/>
                </a:moveTo>
                <a:lnTo>
                  <a:pt x="21600" y="0"/>
                </a:lnTo>
                <a:lnTo>
                  <a:pt x="21600" y="24217"/>
                </a:lnTo>
                <a:lnTo>
                  <a:pt x="0" y="24217"/>
                </a:lnTo>
                <a:close/>
              </a:path>
              <a:path fill="lightenLess" w="21600" h="242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17">
                <a:moveTo>
                  <a:pt x="21600" y="0"/>
                </a:moveTo>
                <a:lnTo>
                  <a:pt x="21600" y="24217"/>
                </a:lnTo>
                <a:lnTo>
                  <a:pt x="20200" y="22817"/>
                </a:lnTo>
                <a:lnTo>
                  <a:pt x="20200" y="1400"/>
                </a:lnTo>
                <a:close/>
              </a:path>
              <a:path fill="darkenLess" w="21600" h="24217">
                <a:moveTo>
                  <a:pt x="21600" y="24217"/>
                </a:moveTo>
                <a:lnTo>
                  <a:pt x="0" y="24217"/>
                </a:lnTo>
                <a:lnTo>
                  <a:pt x="1400" y="22817"/>
                </a:lnTo>
                <a:lnTo>
                  <a:pt x="20200" y="22817"/>
                </a:lnTo>
                <a:close/>
              </a:path>
              <a:path fill="lighten" w="21600" h="24217">
                <a:moveTo>
                  <a:pt x="0" y="242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17"/>
                </a:lnTo>
                <a:close/>
              </a:path>
              <a:path fill="darken" w="21600" h="24217">
                <a:moveTo>
                  <a:pt x="10800" y="5146"/>
                </a:moveTo>
                <a:lnTo>
                  <a:pt x="13376" y="7757"/>
                </a:ln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lnTo>
                  <a:pt x="17763" y="12109"/>
                </a:lnTo>
                <a:lnTo>
                  <a:pt x="16109" y="12109"/>
                </a:lnTo>
                <a:lnTo>
                  <a:pt x="16109" y="19298"/>
                </a:lnTo>
                <a:lnTo>
                  <a:pt x="5491" y="19298"/>
                </a:lnTo>
                <a:lnTo>
                  <a:pt x="5491" y="12109"/>
                </a:lnTo>
                <a:lnTo>
                  <a:pt x="3837" y="12109"/>
                </a:lnTo>
                <a:close/>
              </a:path>
              <a:path fill="darkenLess" w="21600" h="24217">
                <a:moveTo>
                  <a:pt x="13376" y="7757"/>
                </a:move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close/>
              </a:path>
              <a:path fill="darkenLess" w="21600" h="24217">
                <a:moveTo>
                  <a:pt x="9877" y="15607"/>
                </a:moveTo>
                <a:lnTo>
                  <a:pt x="11723" y="15607"/>
                </a:lnTo>
                <a:lnTo>
                  <a:pt x="11723" y="19298"/>
                </a:lnTo>
                <a:lnTo>
                  <a:pt x="16109" y="19298"/>
                </a:lnTo>
                <a:lnTo>
                  <a:pt x="16109" y="12109"/>
                </a:lnTo>
                <a:lnTo>
                  <a:pt x="5491" y="12109"/>
                </a:lnTo>
                <a:lnTo>
                  <a:pt x="5491" y="19298"/>
                </a:lnTo>
                <a:lnTo>
                  <a:pt x="9877" y="1929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ick to partition this nu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T7" descr=""/>
          <p:cNvPicPr/>
          <p:nvPr/>
        </p:nvPicPr>
        <p:blipFill>
          <a:blip r:embed="rId1"/>
          <a:stretch/>
        </p:blipFill>
        <p:spPr>
          <a:xfrm>
            <a:off x="1938240" y="2000160"/>
            <a:ext cx="2952720" cy="1400400"/>
          </a:xfrm>
          <a:prstGeom prst="rect">
            <a:avLst/>
          </a:prstGeom>
          <a:ln w="0">
            <a:noFill/>
          </a:ln>
        </p:spPr>
      </p:pic>
      <p:pic>
        <p:nvPicPr>
          <p:cNvPr id="55" name="U4" descr=""/>
          <p:cNvPicPr/>
          <p:nvPr/>
        </p:nvPicPr>
        <p:blipFill>
          <a:blip r:embed="rId2"/>
          <a:stretch/>
        </p:blipFill>
        <p:spPr>
          <a:xfrm>
            <a:off x="2919240" y="2000160"/>
            <a:ext cx="1971720" cy="1400400"/>
          </a:xfrm>
          <a:prstGeom prst="rect">
            <a:avLst/>
          </a:prstGeom>
          <a:ln w="0">
            <a:noFill/>
          </a:ln>
        </p:spPr>
      </p:pic>
      <p:pic>
        <p:nvPicPr>
          <p:cNvPr id="56" name="T7" descr=""/>
          <p:cNvPicPr/>
          <p:nvPr/>
        </p:nvPicPr>
        <p:blipFill>
          <a:blip r:embed="rId3"/>
          <a:stretch/>
        </p:blipFill>
        <p:spPr>
          <a:xfrm>
            <a:off x="1938240" y="2000160"/>
            <a:ext cx="2952720" cy="1400400"/>
          </a:xfrm>
          <a:prstGeom prst="rect">
            <a:avLst/>
          </a:prstGeom>
          <a:ln w="0">
            <a:noFill/>
          </a:ln>
        </p:spPr>
      </p:pic>
      <p:pic>
        <p:nvPicPr>
          <p:cNvPr id="57" name="U4" descr=""/>
          <p:cNvPicPr/>
          <p:nvPr/>
        </p:nvPicPr>
        <p:blipFill>
          <a:blip r:embed="rId4"/>
          <a:stretch/>
        </p:blipFill>
        <p:spPr>
          <a:xfrm>
            <a:off x="5227560" y="2000160"/>
            <a:ext cx="1971720" cy="14004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85800" y="5730840"/>
            <a:ext cx="77724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Click to see another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" action="ppaction://hlinkshowjump?jump=firstslide"/>
          </p:cNvPr>
          <p:cNvSpPr/>
          <p:nvPr/>
        </p:nvSpPr>
        <p:spPr>
          <a:xfrm>
            <a:off x="8572680" y="5791320"/>
            <a:ext cx="457200" cy="5126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12640"/>
              <a:gd name="textAreaBottom" fmla="*/ 483120 h 512640"/>
            </a:gdLst>
            <a:ahLst/>
            <a:rect l="textAreaLeft" t="textAreaTop" r="textAreaRight" b="textAreaBottom"/>
            <a:pathLst>
              <a:path w="21600" h="24217">
                <a:moveTo>
                  <a:pt x="0" y="0"/>
                </a:moveTo>
                <a:lnTo>
                  <a:pt x="21600" y="0"/>
                </a:lnTo>
                <a:lnTo>
                  <a:pt x="21600" y="24217"/>
                </a:lnTo>
                <a:lnTo>
                  <a:pt x="0" y="24217"/>
                </a:lnTo>
                <a:close/>
              </a:path>
              <a:path fill="lightenLess" w="21600" h="242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17">
                <a:moveTo>
                  <a:pt x="21600" y="0"/>
                </a:moveTo>
                <a:lnTo>
                  <a:pt x="21600" y="24217"/>
                </a:lnTo>
                <a:lnTo>
                  <a:pt x="20200" y="22817"/>
                </a:lnTo>
                <a:lnTo>
                  <a:pt x="20200" y="1400"/>
                </a:lnTo>
                <a:close/>
              </a:path>
              <a:path fill="darkenLess" w="21600" h="24217">
                <a:moveTo>
                  <a:pt x="21600" y="24217"/>
                </a:moveTo>
                <a:lnTo>
                  <a:pt x="0" y="24217"/>
                </a:lnTo>
                <a:lnTo>
                  <a:pt x="1400" y="22817"/>
                </a:lnTo>
                <a:lnTo>
                  <a:pt x="20200" y="22817"/>
                </a:lnTo>
                <a:close/>
              </a:path>
              <a:path fill="lighten" w="21600" h="24217">
                <a:moveTo>
                  <a:pt x="0" y="242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17"/>
                </a:lnTo>
                <a:close/>
              </a:path>
              <a:path fill="darken" w="21600" h="24217">
                <a:moveTo>
                  <a:pt x="10800" y="5146"/>
                </a:moveTo>
                <a:lnTo>
                  <a:pt x="13376" y="7757"/>
                </a:ln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lnTo>
                  <a:pt x="17763" y="12109"/>
                </a:lnTo>
                <a:lnTo>
                  <a:pt x="16109" y="12109"/>
                </a:lnTo>
                <a:lnTo>
                  <a:pt x="16109" y="19298"/>
                </a:lnTo>
                <a:lnTo>
                  <a:pt x="5491" y="19298"/>
                </a:lnTo>
                <a:lnTo>
                  <a:pt x="5491" y="12109"/>
                </a:lnTo>
                <a:lnTo>
                  <a:pt x="3837" y="12109"/>
                </a:lnTo>
                <a:close/>
              </a:path>
              <a:path fill="darkenLess" w="21600" h="24217">
                <a:moveTo>
                  <a:pt x="13376" y="7757"/>
                </a:move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close/>
              </a:path>
              <a:path fill="darkenLess" w="21600" h="24217">
                <a:moveTo>
                  <a:pt x="9877" y="15607"/>
                </a:moveTo>
                <a:lnTo>
                  <a:pt x="11723" y="15607"/>
                </a:lnTo>
                <a:lnTo>
                  <a:pt x="11723" y="19298"/>
                </a:lnTo>
                <a:lnTo>
                  <a:pt x="16109" y="19298"/>
                </a:lnTo>
                <a:lnTo>
                  <a:pt x="16109" y="12109"/>
                </a:lnTo>
                <a:lnTo>
                  <a:pt x="5491" y="12109"/>
                </a:lnTo>
                <a:lnTo>
                  <a:pt x="5491" y="19298"/>
                </a:lnTo>
                <a:lnTo>
                  <a:pt x="9877" y="1929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ick to partition this nu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T1" descr=""/>
          <p:cNvPicPr/>
          <p:nvPr/>
        </p:nvPicPr>
        <p:blipFill>
          <a:blip r:embed="rId1"/>
          <a:stretch/>
        </p:blipFill>
        <p:spPr>
          <a:xfrm>
            <a:off x="1998720" y="2036880"/>
            <a:ext cx="2952720" cy="1400040"/>
          </a:xfrm>
          <a:prstGeom prst="rect">
            <a:avLst/>
          </a:prstGeom>
          <a:ln w="0">
            <a:noFill/>
          </a:ln>
        </p:spPr>
      </p:pic>
      <p:pic>
        <p:nvPicPr>
          <p:cNvPr id="62" name="U9" descr=""/>
          <p:cNvPicPr/>
          <p:nvPr/>
        </p:nvPicPr>
        <p:blipFill>
          <a:blip r:embed="rId2"/>
          <a:stretch/>
        </p:blipFill>
        <p:spPr>
          <a:xfrm>
            <a:off x="5311800" y="2036880"/>
            <a:ext cx="1971720" cy="1400040"/>
          </a:xfrm>
          <a:prstGeom prst="rect">
            <a:avLst/>
          </a:prstGeom>
          <a:ln w="0">
            <a:noFill/>
          </a:ln>
        </p:spPr>
      </p:pic>
      <p:pic>
        <p:nvPicPr>
          <p:cNvPr id="63" name="U9" descr=""/>
          <p:cNvPicPr/>
          <p:nvPr/>
        </p:nvPicPr>
        <p:blipFill>
          <a:blip r:embed="rId3"/>
          <a:stretch/>
        </p:blipFill>
        <p:spPr>
          <a:xfrm>
            <a:off x="2979720" y="2036880"/>
            <a:ext cx="1971720" cy="1400040"/>
          </a:xfrm>
          <a:prstGeom prst="rect">
            <a:avLst/>
          </a:prstGeom>
          <a:ln w="0">
            <a:noFill/>
          </a:ln>
        </p:spPr>
      </p:pic>
      <p:pic>
        <p:nvPicPr>
          <p:cNvPr id="64" name="T1" descr=""/>
          <p:cNvPicPr/>
          <p:nvPr/>
        </p:nvPicPr>
        <p:blipFill>
          <a:blip r:embed="rId4"/>
          <a:stretch/>
        </p:blipFill>
        <p:spPr>
          <a:xfrm>
            <a:off x="1998720" y="2036880"/>
            <a:ext cx="2952720" cy="14000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85800" y="5730840"/>
            <a:ext cx="77724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Click to see another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" action="ppaction://hlinkshowjump?jump=firstslide"/>
          </p:cNvPr>
          <p:cNvSpPr/>
          <p:nvPr/>
        </p:nvSpPr>
        <p:spPr>
          <a:xfrm>
            <a:off x="8572680" y="5791320"/>
            <a:ext cx="457200" cy="5126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12640"/>
              <a:gd name="textAreaBottom" fmla="*/ 483120 h 512640"/>
            </a:gdLst>
            <a:ahLst/>
            <a:rect l="textAreaLeft" t="textAreaTop" r="textAreaRight" b="textAreaBottom"/>
            <a:pathLst>
              <a:path w="21600" h="24217">
                <a:moveTo>
                  <a:pt x="0" y="0"/>
                </a:moveTo>
                <a:lnTo>
                  <a:pt x="21600" y="0"/>
                </a:lnTo>
                <a:lnTo>
                  <a:pt x="21600" y="24217"/>
                </a:lnTo>
                <a:lnTo>
                  <a:pt x="0" y="24217"/>
                </a:lnTo>
                <a:close/>
              </a:path>
              <a:path fill="lightenLess" w="21600" h="242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17">
                <a:moveTo>
                  <a:pt x="21600" y="0"/>
                </a:moveTo>
                <a:lnTo>
                  <a:pt x="21600" y="24217"/>
                </a:lnTo>
                <a:lnTo>
                  <a:pt x="20200" y="22817"/>
                </a:lnTo>
                <a:lnTo>
                  <a:pt x="20200" y="1400"/>
                </a:lnTo>
                <a:close/>
              </a:path>
              <a:path fill="darkenLess" w="21600" h="24217">
                <a:moveTo>
                  <a:pt x="21600" y="24217"/>
                </a:moveTo>
                <a:lnTo>
                  <a:pt x="0" y="24217"/>
                </a:lnTo>
                <a:lnTo>
                  <a:pt x="1400" y="22817"/>
                </a:lnTo>
                <a:lnTo>
                  <a:pt x="20200" y="22817"/>
                </a:lnTo>
                <a:close/>
              </a:path>
              <a:path fill="lighten" w="21600" h="24217">
                <a:moveTo>
                  <a:pt x="0" y="242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17"/>
                </a:lnTo>
                <a:close/>
              </a:path>
              <a:path fill="darken" w="21600" h="24217">
                <a:moveTo>
                  <a:pt x="10800" y="5146"/>
                </a:moveTo>
                <a:lnTo>
                  <a:pt x="13376" y="7757"/>
                </a:ln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lnTo>
                  <a:pt x="17763" y="12109"/>
                </a:lnTo>
                <a:lnTo>
                  <a:pt x="16109" y="12109"/>
                </a:lnTo>
                <a:lnTo>
                  <a:pt x="16109" y="19298"/>
                </a:lnTo>
                <a:lnTo>
                  <a:pt x="5491" y="19298"/>
                </a:lnTo>
                <a:lnTo>
                  <a:pt x="5491" y="12109"/>
                </a:lnTo>
                <a:lnTo>
                  <a:pt x="3837" y="12109"/>
                </a:lnTo>
                <a:close/>
              </a:path>
              <a:path fill="darkenLess" w="21600" h="24217">
                <a:moveTo>
                  <a:pt x="13376" y="7757"/>
                </a:move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close/>
              </a:path>
              <a:path fill="darkenLess" w="21600" h="24217">
                <a:moveTo>
                  <a:pt x="9877" y="15607"/>
                </a:moveTo>
                <a:lnTo>
                  <a:pt x="11723" y="15607"/>
                </a:lnTo>
                <a:lnTo>
                  <a:pt x="11723" y="19298"/>
                </a:lnTo>
                <a:lnTo>
                  <a:pt x="16109" y="19298"/>
                </a:lnTo>
                <a:lnTo>
                  <a:pt x="16109" y="12109"/>
                </a:lnTo>
                <a:lnTo>
                  <a:pt x="5491" y="12109"/>
                </a:lnTo>
                <a:lnTo>
                  <a:pt x="5491" y="19298"/>
                </a:lnTo>
                <a:lnTo>
                  <a:pt x="9877" y="1929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ick to partition this nu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T6" descr=""/>
          <p:cNvPicPr/>
          <p:nvPr/>
        </p:nvPicPr>
        <p:blipFill>
          <a:blip r:embed="rId1"/>
          <a:stretch/>
        </p:blipFill>
        <p:spPr>
          <a:xfrm>
            <a:off x="1870200" y="2028960"/>
            <a:ext cx="2952720" cy="1400040"/>
          </a:xfrm>
          <a:prstGeom prst="rect">
            <a:avLst/>
          </a:prstGeom>
          <a:ln w="0">
            <a:noFill/>
          </a:ln>
        </p:spPr>
      </p:pic>
      <p:pic>
        <p:nvPicPr>
          <p:cNvPr id="69" name="U7" descr=""/>
          <p:cNvPicPr/>
          <p:nvPr/>
        </p:nvPicPr>
        <p:blipFill>
          <a:blip r:embed="rId2"/>
          <a:stretch/>
        </p:blipFill>
        <p:spPr>
          <a:xfrm>
            <a:off x="2851200" y="2028960"/>
            <a:ext cx="1971720" cy="1400040"/>
          </a:xfrm>
          <a:prstGeom prst="rect">
            <a:avLst/>
          </a:prstGeom>
          <a:ln w="0">
            <a:noFill/>
          </a:ln>
        </p:spPr>
      </p:pic>
      <p:pic>
        <p:nvPicPr>
          <p:cNvPr id="70" name="U7" descr=""/>
          <p:cNvPicPr/>
          <p:nvPr/>
        </p:nvPicPr>
        <p:blipFill>
          <a:blip r:embed="rId3"/>
          <a:stretch/>
        </p:blipFill>
        <p:spPr>
          <a:xfrm>
            <a:off x="5265720" y="2028960"/>
            <a:ext cx="1971720" cy="1400040"/>
          </a:xfrm>
          <a:prstGeom prst="rect">
            <a:avLst/>
          </a:prstGeom>
          <a:ln w="0">
            <a:noFill/>
          </a:ln>
        </p:spPr>
      </p:pic>
      <p:pic>
        <p:nvPicPr>
          <p:cNvPr id="71" name="T6" descr=""/>
          <p:cNvPicPr/>
          <p:nvPr/>
        </p:nvPicPr>
        <p:blipFill>
          <a:blip r:embed="rId4"/>
          <a:stretch/>
        </p:blipFill>
        <p:spPr>
          <a:xfrm>
            <a:off x="1870200" y="2028960"/>
            <a:ext cx="2952720" cy="14000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85800" y="5730840"/>
            <a:ext cx="77724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Click to see another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" action="ppaction://hlinkshowjump?jump=firstslide"/>
          </p:cNvPr>
          <p:cNvSpPr/>
          <p:nvPr/>
        </p:nvSpPr>
        <p:spPr>
          <a:xfrm>
            <a:off x="8572680" y="5791320"/>
            <a:ext cx="457200" cy="5126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12640"/>
              <a:gd name="textAreaBottom" fmla="*/ 483120 h 512640"/>
            </a:gdLst>
            <a:ahLst/>
            <a:rect l="textAreaLeft" t="textAreaTop" r="textAreaRight" b="textAreaBottom"/>
            <a:pathLst>
              <a:path w="21600" h="24217">
                <a:moveTo>
                  <a:pt x="0" y="0"/>
                </a:moveTo>
                <a:lnTo>
                  <a:pt x="21600" y="0"/>
                </a:lnTo>
                <a:lnTo>
                  <a:pt x="21600" y="24217"/>
                </a:lnTo>
                <a:lnTo>
                  <a:pt x="0" y="24217"/>
                </a:lnTo>
                <a:close/>
              </a:path>
              <a:path fill="lightenLess" w="21600" h="242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17">
                <a:moveTo>
                  <a:pt x="21600" y="0"/>
                </a:moveTo>
                <a:lnTo>
                  <a:pt x="21600" y="24217"/>
                </a:lnTo>
                <a:lnTo>
                  <a:pt x="20200" y="22817"/>
                </a:lnTo>
                <a:lnTo>
                  <a:pt x="20200" y="1400"/>
                </a:lnTo>
                <a:close/>
              </a:path>
              <a:path fill="darkenLess" w="21600" h="24217">
                <a:moveTo>
                  <a:pt x="21600" y="24217"/>
                </a:moveTo>
                <a:lnTo>
                  <a:pt x="0" y="24217"/>
                </a:lnTo>
                <a:lnTo>
                  <a:pt x="1400" y="22817"/>
                </a:lnTo>
                <a:lnTo>
                  <a:pt x="20200" y="22817"/>
                </a:lnTo>
                <a:close/>
              </a:path>
              <a:path fill="lighten" w="21600" h="24217">
                <a:moveTo>
                  <a:pt x="0" y="242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17"/>
                </a:lnTo>
                <a:close/>
              </a:path>
              <a:path fill="darken" w="21600" h="24217">
                <a:moveTo>
                  <a:pt x="10800" y="5146"/>
                </a:moveTo>
                <a:lnTo>
                  <a:pt x="13376" y="7757"/>
                </a:ln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lnTo>
                  <a:pt x="17763" y="12109"/>
                </a:lnTo>
                <a:lnTo>
                  <a:pt x="16109" y="12109"/>
                </a:lnTo>
                <a:lnTo>
                  <a:pt x="16109" y="19298"/>
                </a:lnTo>
                <a:lnTo>
                  <a:pt x="5491" y="19298"/>
                </a:lnTo>
                <a:lnTo>
                  <a:pt x="5491" y="12109"/>
                </a:lnTo>
                <a:lnTo>
                  <a:pt x="3837" y="12109"/>
                </a:lnTo>
                <a:close/>
              </a:path>
              <a:path fill="darkenLess" w="21600" h="24217">
                <a:moveTo>
                  <a:pt x="13376" y="7757"/>
                </a:move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close/>
              </a:path>
              <a:path fill="darkenLess" w="21600" h="24217">
                <a:moveTo>
                  <a:pt x="9877" y="15607"/>
                </a:moveTo>
                <a:lnTo>
                  <a:pt x="11723" y="15607"/>
                </a:lnTo>
                <a:lnTo>
                  <a:pt x="11723" y="19298"/>
                </a:lnTo>
                <a:lnTo>
                  <a:pt x="16109" y="19298"/>
                </a:lnTo>
                <a:lnTo>
                  <a:pt x="16109" y="12109"/>
                </a:lnTo>
                <a:lnTo>
                  <a:pt x="5491" y="12109"/>
                </a:lnTo>
                <a:lnTo>
                  <a:pt x="5491" y="19298"/>
                </a:lnTo>
                <a:lnTo>
                  <a:pt x="9877" y="1929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ick to partition this nu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T4" descr=""/>
          <p:cNvPicPr/>
          <p:nvPr/>
        </p:nvPicPr>
        <p:blipFill>
          <a:blip r:embed="rId1"/>
          <a:stretch/>
        </p:blipFill>
        <p:spPr>
          <a:xfrm>
            <a:off x="1892160" y="2036880"/>
            <a:ext cx="2952720" cy="1400040"/>
          </a:xfrm>
          <a:prstGeom prst="rect">
            <a:avLst/>
          </a:prstGeom>
          <a:ln w="0">
            <a:noFill/>
          </a:ln>
        </p:spPr>
      </p:pic>
      <p:pic>
        <p:nvPicPr>
          <p:cNvPr id="76" name="U8" descr=""/>
          <p:cNvPicPr/>
          <p:nvPr/>
        </p:nvPicPr>
        <p:blipFill>
          <a:blip r:embed="rId2"/>
          <a:stretch/>
        </p:blipFill>
        <p:spPr>
          <a:xfrm>
            <a:off x="2873520" y="2036880"/>
            <a:ext cx="1971360" cy="1400040"/>
          </a:xfrm>
          <a:prstGeom prst="rect">
            <a:avLst/>
          </a:prstGeom>
          <a:ln w="0">
            <a:noFill/>
          </a:ln>
        </p:spPr>
      </p:pic>
      <p:pic>
        <p:nvPicPr>
          <p:cNvPr id="77" name="U8" descr=""/>
          <p:cNvPicPr/>
          <p:nvPr/>
        </p:nvPicPr>
        <p:blipFill>
          <a:blip r:embed="rId3"/>
          <a:stretch/>
        </p:blipFill>
        <p:spPr>
          <a:xfrm>
            <a:off x="5267160" y="2036880"/>
            <a:ext cx="1971720" cy="1400040"/>
          </a:xfrm>
          <a:prstGeom prst="rect">
            <a:avLst/>
          </a:prstGeom>
          <a:ln w="0">
            <a:noFill/>
          </a:ln>
        </p:spPr>
      </p:pic>
      <p:pic>
        <p:nvPicPr>
          <p:cNvPr id="78" name="T4" descr=""/>
          <p:cNvPicPr/>
          <p:nvPr/>
        </p:nvPicPr>
        <p:blipFill>
          <a:blip r:embed="rId4"/>
          <a:stretch/>
        </p:blipFill>
        <p:spPr>
          <a:xfrm>
            <a:off x="1892160" y="2036880"/>
            <a:ext cx="2952720" cy="14000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89000" y="5730840"/>
            <a:ext cx="88408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The next example shows vertical partitio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" action="ppaction://hlinkshowjump?jump=firstslide"/>
          </p:cNvPr>
          <p:cNvSpPr/>
          <p:nvPr/>
        </p:nvSpPr>
        <p:spPr>
          <a:xfrm>
            <a:off x="8572680" y="5791320"/>
            <a:ext cx="457200" cy="5126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12640"/>
              <a:gd name="textAreaBottom" fmla="*/ 483120 h 512640"/>
            </a:gdLst>
            <a:ahLst/>
            <a:rect l="textAreaLeft" t="textAreaTop" r="textAreaRight" b="textAreaBottom"/>
            <a:pathLst>
              <a:path w="21600" h="24217">
                <a:moveTo>
                  <a:pt x="0" y="0"/>
                </a:moveTo>
                <a:lnTo>
                  <a:pt x="21600" y="0"/>
                </a:lnTo>
                <a:lnTo>
                  <a:pt x="21600" y="24217"/>
                </a:lnTo>
                <a:lnTo>
                  <a:pt x="0" y="24217"/>
                </a:lnTo>
                <a:close/>
              </a:path>
              <a:path fill="lightenLess" w="21600" h="242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17">
                <a:moveTo>
                  <a:pt x="21600" y="0"/>
                </a:moveTo>
                <a:lnTo>
                  <a:pt x="21600" y="24217"/>
                </a:lnTo>
                <a:lnTo>
                  <a:pt x="20200" y="22817"/>
                </a:lnTo>
                <a:lnTo>
                  <a:pt x="20200" y="1400"/>
                </a:lnTo>
                <a:close/>
              </a:path>
              <a:path fill="darkenLess" w="21600" h="24217">
                <a:moveTo>
                  <a:pt x="21600" y="24217"/>
                </a:moveTo>
                <a:lnTo>
                  <a:pt x="0" y="24217"/>
                </a:lnTo>
                <a:lnTo>
                  <a:pt x="1400" y="22817"/>
                </a:lnTo>
                <a:lnTo>
                  <a:pt x="20200" y="22817"/>
                </a:lnTo>
                <a:close/>
              </a:path>
              <a:path fill="lighten" w="21600" h="24217">
                <a:moveTo>
                  <a:pt x="0" y="242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17"/>
                </a:lnTo>
                <a:close/>
              </a:path>
              <a:path fill="darken" w="21600" h="24217">
                <a:moveTo>
                  <a:pt x="10800" y="5146"/>
                </a:moveTo>
                <a:lnTo>
                  <a:pt x="13376" y="7757"/>
                </a:ln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lnTo>
                  <a:pt x="17763" y="12109"/>
                </a:lnTo>
                <a:lnTo>
                  <a:pt x="16109" y="12109"/>
                </a:lnTo>
                <a:lnTo>
                  <a:pt x="16109" y="19298"/>
                </a:lnTo>
                <a:lnTo>
                  <a:pt x="5491" y="19298"/>
                </a:lnTo>
                <a:lnTo>
                  <a:pt x="5491" y="12109"/>
                </a:lnTo>
                <a:lnTo>
                  <a:pt x="3837" y="12109"/>
                </a:lnTo>
                <a:close/>
              </a:path>
              <a:path fill="darkenLess" w="21600" h="24217">
                <a:moveTo>
                  <a:pt x="13376" y="7757"/>
                </a:move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close/>
              </a:path>
              <a:path fill="darkenLess" w="21600" h="24217">
                <a:moveTo>
                  <a:pt x="9877" y="15607"/>
                </a:moveTo>
                <a:lnTo>
                  <a:pt x="11723" y="15607"/>
                </a:lnTo>
                <a:lnTo>
                  <a:pt x="11723" y="19298"/>
                </a:lnTo>
                <a:lnTo>
                  <a:pt x="16109" y="19298"/>
                </a:lnTo>
                <a:lnTo>
                  <a:pt x="16109" y="12109"/>
                </a:lnTo>
                <a:lnTo>
                  <a:pt x="5491" y="12109"/>
                </a:lnTo>
                <a:lnTo>
                  <a:pt x="5491" y="19298"/>
                </a:lnTo>
                <a:lnTo>
                  <a:pt x="9877" y="1929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ick to partition this nu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240000" y="1751040"/>
            <a:ext cx="2962080" cy="1400040"/>
            <a:chOff x="3240000" y="1751040"/>
            <a:chExt cx="2962080" cy="1400040"/>
          </a:xfrm>
        </p:grpSpPr>
        <p:pic>
          <p:nvPicPr>
            <p:cNvPr id="83" name="T3" descr=""/>
            <p:cNvPicPr/>
            <p:nvPr/>
          </p:nvPicPr>
          <p:blipFill>
            <a:blip r:embed="rId1"/>
            <a:stretch/>
          </p:blipFill>
          <p:spPr>
            <a:xfrm>
              <a:off x="3240000" y="1751040"/>
              <a:ext cx="2962080" cy="14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U5" descr=""/>
            <p:cNvPicPr/>
            <p:nvPr/>
          </p:nvPicPr>
          <p:blipFill>
            <a:blip r:embed="rId2"/>
            <a:stretch/>
          </p:blipFill>
          <p:spPr>
            <a:xfrm>
              <a:off x="4217760" y="1751040"/>
              <a:ext cx="1971720" cy="1400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T3" descr=""/>
          <p:cNvPicPr/>
          <p:nvPr/>
        </p:nvPicPr>
        <p:blipFill>
          <a:blip r:embed="rId3"/>
          <a:stretch/>
        </p:blipFill>
        <p:spPr>
          <a:xfrm>
            <a:off x="3240000" y="1751040"/>
            <a:ext cx="2962440" cy="1400040"/>
          </a:xfrm>
          <a:prstGeom prst="rect">
            <a:avLst/>
          </a:prstGeom>
          <a:ln w="0">
            <a:noFill/>
          </a:ln>
        </p:spPr>
      </p:pic>
      <p:pic>
        <p:nvPicPr>
          <p:cNvPr id="86" name="U5" descr=""/>
          <p:cNvPicPr/>
          <p:nvPr/>
        </p:nvPicPr>
        <p:blipFill>
          <a:blip r:embed="rId4"/>
          <a:stretch/>
        </p:blipFill>
        <p:spPr>
          <a:xfrm>
            <a:off x="4230720" y="3424320"/>
            <a:ext cx="1971720" cy="14000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85800" y="5730840"/>
            <a:ext cx="77724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Click to see another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" action="ppaction://hlinkshowjump?jump=firstslide"/>
          </p:cNvPr>
          <p:cNvSpPr/>
          <p:nvPr/>
        </p:nvSpPr>
        <p:spPr>
          <a:xfrm>
            <a:off x="8572680" y="5791320"/>
            <a:ext cx="457200" cy="5126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12640"/>
              <a:gd name="textAreaBottom" fmla="*/ 483120 h 512640"/>
            </a:gdLst>
            <a:ahLst/>
            <a:rect l="textAreaLeft" t="textAreaTop" r="textAreaRight" b="textAreaBottom"/>
            <a:pathLst>
              <a:path w="21600" h="24217">
                <a:moveTo>
                  <a:pt x="0" y="0"/>
                </a:moveTo>
                <a:lnTo>
                  <a:pt x="21600" y="0"/>
                </a:lnTo>
                <a:lnTo>
                  <a:pt x="21600" y="24217"/>
                </a:lnTo>
                <a:lnTo>
                  <a:pt x="0" y="24217"/>
                </a:lnTo>
                <a:close/>
              </a:path>
              <a:path fill="lightenLess" w="21600" h="242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17">
                <a:moveTo>
                  <a:pt x="21600" y="0"/>
                </a:moveTo>
                <a:lnTo>
                  <a:pt x="21600" y="24217"/>
                </a:lnTo>
                <a:lnTo>
                  <a:pt x="20200" y="22817"/>
                </a:lnTo>
                <a:lnTo>
                  <a:pt x="20200" y="1400"/>
                </a:lnTo>
                <a:close/>
              </a:path>
              <a:path fill="darkenLess" w="21600" h="24217">
                <a:moveTo>
                  <a:pt x="21600" y="24217"/>
                </a:moveTo>
                <a:lnTo>
                  <a:pt x="0" y="24217"/>
                </a:lnTo>
                <a:lnTo>
                  <a:pt x="1400" y="22817"/>
                </a:lnTo>
                <a:lnTo>
                  <a:pt x="20200" y="22817"/>
                </a:lnTo>
                <a:close/>
              </a:path>
              <a:path fill="lighten" w="21600" h="24217">
                <a:moveTo>
                  <a:pt x="0" y="242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17"/>
                </a:lnTo>
                <a:close/>
              </a:path>
              <a:path fill="darken" w="21600" h="24217">
                <a:moveTo>
                  <a:pt x="10800" y="5146"/>
                </a:moveTo>
                <a:lnTo>
                  <a:pt x="13376" y="7757"/>
                </a:ln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lnTo>
                  <a:pt x="17763" y="12109"/>
                </a:lnTo>
                <a:lnTo>
                  <a:pt x="16109" y="12109"/>
                </a:lnTo>
                <a:lnTo>
                  <a:pt x="16109" y="19298"/>
                </a:lnTo>
                <a:lnTo>
                  <a:pt x="5491" y="19298"/>
                </a:lnTo>
                <a:lnTo>
                  <a:pt x="5491" y="12109"/>
                </a:lnTo>
                <a:lnTo>
                  <a:pt x="3837" y="12109"/>
                </a:lnTo>
                <a:close/>
              </a:path>
              <a:path fill="darkenLess" w="21600" h="24217">
                <a:moveTo>
                  <a:pt x="13376" y="7757"/>
                </a:move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close/>
              </a:path>
              <a:path fill="darkenLess" w="21600" h="24217">
                <a:moveTo>
                  <a:pt x="9877" y="15607"/>
                </a:moveTo>
                <a:lnTo>
                  <a:pt x="11723" y="15607"/>
                </a:lnTo>
                <a:lnTo>
                  <a:pt x="11723" y="19298"/>
                </a:lnTo>
                <a:lnTo>
                  <a:pt x="16109" y="19298"/>
                </a:lnTo>
                <a:lnTo>
                  <a:pt x="16109" y="12109"/>
                </a:lnTo>
                <a:lnTo>
                  <a:pt x="5491" y="12109"/>
                </a:lnTo>
                <a:lnTo>
                  <a:pt x="5491" y="19298"/>
                </a:lnTo>
                <a:lnTo>
                  <a:pt x="9877" y="1929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ick to partition this nu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T7" descr=""/>
          <p:cNvPicPr/>
          <p:nvPr/>
        </p:nvPicPr>
        <p:blipFill>
          <a:blip r:embed="rId1"/>
          <a:stretch/>
        </p:blipFill>
        <p:spPr>
          <a:xfrm>
            <a:off x="3259080" y="1773360"/>
            <a:ext cx="2952720" cy="1400040"/>
          </a:xfrm>
          <a:prstGeom prst="rect">
            <a:avLst/>
          </a:prstGeom>
          <a:ln w="0">
            <a:noFill/>
          </a:ln>
        </p:spPr>
      </p:pic>
      <p:pic>
        <p:nvPicPr>
          <p:cNvPr id="91" name="U4" descr=""/>
          <p:cNvPicPr/>
          <p:nvPr/>
        </p:nvPicPr>
        <p:blipFill>
          <a:blip r:embed="rId2"/>
          <a:stretch/>
        </p:blipFill>
        <p:spPr>
          <a:xfrm>
            <a:off x="4240080" y="1773360"/>
            <a:ext cx="1971720" cy="1400040"/>
          </a:xfrm>
          <a:prstGeom prst="rect">
            <a:avLst/>
          </a:prstGeom>
          <a:ln w="0">
            <a:noFill/>
          </a:ln>
        </p:spPr>
      </p:pic>
      <p:pic>
        <p:nvPicPr>
          <p:cNvPr id="92" name="T7" descr=""/>
          <p:cNvPicPr/>
          <p:nvPr/>
        </p:nvPicPr>
        <p:blipFill>
          <a:blip r:embed="rId3"/>
          <a:stretch/>
        </p:blipFill>
        <p:spPr>
          <a:xfrm>
            <a:off x="3259080" y="1773360"/>
            <a:ext cx="2952720" cy="1400040"/>
          </a:xfrm>
          <a:prstGeom prst="rect">
            <a:avLst/>
          </a:prstGeom>
          <a:ln w="0">
            <a:noFill/>
          </a:ln>
        </p:spPr>
      </p:pic>
      <p:pic>
        <p:nvPicPr>
          <p:cNvPr id="93" name="U4" descr=""/>
          <p:cNvPicPr/>
          <p:nvPr/>
        </p:nvPicPr>
        <p:blipFill>
          <a:blip r:embed="rId4"/>
          <a:stretch/>
        </p:blipFill>
        <p:spPr>
          <a:xfrm>
            <a:off x="4240080" y="3454560"/>
            <a:ext cx="1971720" cy="14000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85800" y="5730840"/>
            <a:ext cx="77724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Click to see another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572680" y="5791320"/>
            <a:ext cx="457200" cy="5126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12640"/>
              <a:gd name="textAreaBottom" fmla="*/ 483120 h 512640"/>
            </a:gdLst>
            <a:ahLst/>
            <a:rect l="textAreaLeft" t="textAreaTop" r="textAreaRight" b="textAreaBottom"/>
            <a:pathLst>
              <a:path w="21600" h="24217">
                <a:moveTo>
                  <a:pt x="0" y="0"/>
                </a:moveTo>
                <a:lnTo>
                  <a:pt x="21600" y="0"/>
                </a:lnTo>
                <a:lnTo>
                  <a:pt x="21600" y="24217"/>
                </a:lnTo>
                <a:lnTo>
                  <a:pt x="0" y="24217"/>
                </a:lnTo>
                <a:close/>
              </a:path>
              <a:path fill="lightenLess" w="21600" h="242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17">
                <a:moveTo>
                  <a:pt x="21600" y="0"/>
                </a:moveTo>
                <a:lnTo>
                  <a:pt x="21600" y="24217"/>
                </a:lnTo>
                <a:lnTo>
                  <a:pt x="20200" y="22817"/>
                </a:lnTo>
                <a:lnTo>
                  <a:pt x="20200" y="1400"/>
                </a:lnTo>
                <a:close/>
              </a:path>
              <a:path fill="darkenLess" w="21600" h="24217">
                <a:moveTo>
                  <a:pt x="21600" y="24217"/>
                </a:moveTo>
                <a:lnTo>
                  <a:pt x="0" y="24217"/>
                </a:lnTo>
                <a:lnTo>
                  <a:pt x="1400" y="22817"/>
                </a:lnTo>
                <a:lnTo>
                  <a:pt x="20200" y="22817"/>
                </a:lnTo>
                <a:close/>
              </a:path>
              <a:path fill="lighten" w="21600" h="24217">
                <a:moveTo>
                  <a:pt x="0" y="242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17"/>
                </a:lnTo>
                <a:close/>
              </a:path>
              <a:path fill="darken" w="21600" h="24217">
                <a:moveTo>
                  <a:pt x="10800" y="5146"/>
                </a:moveTo>
                <a:lnTo>
                  <a:pt x="13376" y="7757"/>
                </a:ln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lnTo>
                  <a:pt x="17763" y="12109"/>
                </a:lnTo>
                <a:lnTo>
                  <a:pt x="16109" y="12109"/>
                </a:lnTo>
                <a:lnTo>
                  <a:pt x="16109" y="19298"/>
                </a:lnTo>
                <a:lnTo>
                  <a:pt x="5491" y="19298"/>
                </a:lnTo>
                <a:lnTo>
                  <a:pt x="5491" y="12109"/>
                </a:lnTo>
                <a:lnTo>
                  <a:pt x="3837" y="12109"/>
                </a:lnTo>
                <a:close/>
              </a:path>
              <a:path fill="darkenLess" w="21600" h="24217">
                <a:moveTo>
                  <a:pt x="13376" y="7757"/>
                </a:move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close/>
              </a:path>
              <a:path fill="darkenLess" w="21600" h="24217">
                <a:moveTo>
                  <a:pt x="9877" y="15607"/>
                </a:moveTo>
                <a:lnTo>
                  <a:pt x="11723" y="15607"/>
                </a:lnTo>
                <a:lnTo>
                  <a:pt x="11723" y="19298"/>
                </a:lnTo>
                <a:lnTo>
                  <a:pt x="16109" y="19298"/>
                </a:lnTo>
                <a:lnTo>
                  <a:pt x="16109" y="12109"/>
                </a:lnTo>
                <a:lnTo>
                  <a:pt x="5491" y="12109"/>
                </a:lnTo>
                <a:lnTo>
                  <a:pt x="5491" y="19298"/>
                </a:lnTo>
                <a:lnTo>
                  <a:pt x="9877" y="1929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ick to partition this nu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T1" descr=""/>
          <p:cNvPicPr/>
          <p:nvPr/>
        </p:nvPicPr>
        <p:blipFill>
          <a:blip r:embed="rId1"/>
          <a:stretch/>
        </p:blipFill>
        <p:spPr>
          <a:xfrm>
            <a:off x="3238560" y="1751040"/>
            <a:ext cx="2952720" cy="1400040"/>
          </a:xfrm>
          <a:prstGeom prst="rect">
            <a:avLst/>
          </a:prstGeom>
          <a:ln w="0">
            <a:noFill/>
          </a:ln>
        </p:spPr>
      </p:pic>
      <p:pic>
        <p:nvPicPr>
          <p:cNvPr id="98" name="U9" descr=""/>
          <p:cNvPicPr/>
          <p:nvPr/>
        </p:nvPicPr>
        <p:blipFill>
          <a:blip r:embed="rId2"/>
          <a:stretch/>
        </p:blipFill>
        <p:spPr>
          <a:xfrm>
            <a:off x="4219560" y="3436920"/>
            <a:ext cx="1971720" cy="1400040"/>
          </a:xfrm>
          <a:prstGeom prst="rect">
            <a:avLst/>
          </a:prstGeom>
          <a:ln w="0">
            <a:noFill/>
          </a:ln>
        </p:spPr>
      </p:pic>
      <p:pic>
        <p:nvPicPr>
          <p:cNvPr id="99" name="U9" descr=""/>
          <p:cNvPicPr/>
          <p:nvPr/>
        </p:nvPicPr>
        <p:blipFill>
          <a:blip r:embed="rId3"/>
          <a:stretch/>
        </p:blipFill>
        <p:spPr>
          <a:xfrm>
            <a:off x="4210200" y="1751040"/>
            <a:ext cx="1971360" cy="1400040"/>
          </a:xfrm>
          <a:prstGeom prst="rect">
            <a:avLst/>
          </a:prstGeom>
          <a:ln w="0">
            <a:noFill/>
          </a:ln>
        </p:spPr>
      </p:pic>
      <p:pic>
        <p:nvPicPr>
          <p:cNvPr id="100" name="T1" descr=""/>
          <p:cNvPicPr/>
          <p:nvPr/>
        </p:nvPicPr>
        <p:blipFill>
          <a:blip r:embed="rId4"/>
          <a:stretch/>
        </p:blipFill>
        <p:spPr>
          <a:xfrm>
            <a:off x="3238560" y="1751040"/>
            <a:ext cx="2952720" cy="14000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85800" y="5730840"/>
            <a:ext cx="77724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Click to see another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firstslide"/>
          </p:cNvPr>
          <p:cNvSpPr/>
          <p:nvPr/>
        </p:nvSpPr>
        <p:spPr>
          <a:xfrm>
            <a:off x="8572680" y="5791320"/>
            <a:ext cx="457200" cy="5126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12640"/>
              <a:gd name="textAreaBottom" fmla="*/ 483120 h 512640"/>
            </a:gdLst>
            <a:ahLst/>
            <a:rect l="textAreaLeft" t="textAreaTop" r="textAreaRight" b="textAreaBottom"/>
            <a:pathLst>
              <a:path w="21600" h="24217">
                <a:moveTo>
                  <a:pt x="0" y="0"/>
                </a:moveTo>
                <a:lnTo>
                  <a:pt x="21600" y="0"/>
                </a:lnTo>
                <a:lnTo>
                  <a:pt x="21600" y="24217"/>
                </a:lnTo>
                <a:lnTo>
                  <a:pt x="0" y="24217"/>
                </a:lnTo>
                <a:close/>
              </a:path>
              <a:path fill="lightenLess" w="21600" h="242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17">
                <a:moveTo>
                  <a:pt x="21600" y="0"/>
                </a:moveTo>
                <a:lnTo>
                  <a:pt x="21600" y="24217"/>
                </a:lnTo>
                <a:lnTo>
                  <a:pt x="20200" y="22817"/>
                </a:lnTo>
                <a:lnTo>
                  <a:pt x="20200" y="1400"/>
                </a:lnTo>
                <a:close/>
              </a:path>
              <a:path fill="darkenLess" w="21600" h="24217">
                <a:moveTo>
                  <a:pt x="21600" y="24217"/>
                </a:moveTo>
                <a:lnTo>
                  <a:pt x="0" y="24217"/>
                </a:lnTo>
                <a:lnTo>
                  <a:pt x="1400" y="22817"/>
                </a:lnTo>
                <a:lnTo>
                  <a:pt x="20200" y="22817"/>
                </a:lnTo>
                <a:close/>
              </a:path>
              <a:path fill="lighten" w="21600" h="24217">
                <a:moveTo>
                  <a:pt x="0" y="242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17"/>
                </a:lnTo>
                <a:close/>
              </a:path>
              <a:path fill="darken" w="21600" h="24217">
                <a:moveTo>
                  <a:pt x="10800" y="5146"/>
                </a:moveTo>
                <a:lnTo>
                  <a:pt x="13376" y="7757"/>
                </a:ln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lnTo>
                  <a:pt x="17763" y="12109"/>
                </a:lnTo>
                <a:lnTo>
                  <a:pt x="16109" y="12109"/>
                </a:lnTo>
                <a:lnTo>
                  <a:pt x="16109" y="19298"/>
                </a:lnTo>
                <a:lnTo>
                  <a:pt x="5491" y="19298"/>
                </a:lnTo>
                <a:lnTo>
                  <a:pt x="5491" y="12109"/>
                </a:lnTo>
                <a:lnTo>
                  <a:pt x="3837" y="12109"/>
                </a:lnTo>
                <a:close/>
              </a:path>
              <a:path fill="darkenLess" w="21600" h="24217">
                <a:moveTo>
                  <a:pt x="13376" y="7757"/>
                </a:move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close/>
              </a:path>
              <a:path fill="darkenLess" w="21600" h="24217">
                <a:moveTo>
                  <a:pt x="9877" y="15607"/>
                </a:moveTo>
                <a:lnTo>
                  <a:pt x="11723" y="15607"/>
                </a:lnTo>
                <a:lnTo>
                  <a:pt x="11723" y="19298"/>
                </a:lnTo>
                <a:lnTo>
                  <a:pt x="16109" y="19298"/>
                </a:lnTo>
                <a:lnTo>
                  <a:pt x="16109" y="12109"/>
                </a:lnTo>
                <a:lnTo>
                  <a:pt x="5491" y="12109"/>
                </a:lnTo>
                <a:lnTo>
                  <a:pt x="5491" y="19298"/>
                </a:lnTo>
                <a:lnTo>
                  <a:pt x="9877" y="1929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7T10:32:34Z</dcterms:created>
  <dc:creator>Richard English</dc:creator>
  <dc:description/>
  <dc:language>en-US</dc:language>
  <cp:lastModifiedBy>Richard English</cp:lastModifiedBy>
  <dcterms:modified xsi:type="dcterms:W3CDTF">2003-03-01T12:21:40Z</dcterms:modified>
  <cp:revision>140</cp:revision>
  <dc:subject/>
  <dc:title>Students Enchanted by Merlin’s Spell! </dc:title>
</cp:coreProperties>
</file>