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559-A2BD-42CD-B5B2-9585CE86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6CA-7F03-4E35-BCBA-18BB1B2C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27F-77E3-46E7-AB29-5CB95E3C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109-130C-4055-8386-68545937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BE1-3729-41EA-95BF-05308665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C38-9212-4E4B-A919-0499703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D7A-A42F-437E-A84D-CD62E648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43E-DA45-4252-A66B-A5E305C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199-67D4-4975-A14D-E4DF675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CF7-A3BE-4D81-8500-8D1605D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851-68D4-4667-A42E-BC0C85B1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05A-2A55-4197-B518-E933C904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AE6-EE18-436B-91E6-7C5C72C4994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2006640"/>
          <a:ext cx="3353040" cy="19558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+5+4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8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1+4+1+4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05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6+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295280" y="3657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533412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read off the digits according to the diagonal place valu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48769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327 x 28 = 91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4920" y="472428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 327 x 28 by another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how your method is similar to this 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9160" y="472428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9160" y="472428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44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5432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3536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9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936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9160" y="4724280"/>
            <a:ext cx="772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: see if you can find each of th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parti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tice multiplication!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940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267080" y="4495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3:30:20Z</dcterms:created>
  <dc:creator>lball</dc:creator>
  <dc:description/>
  <dc:language>en-US</dc:language>
  <cp:lastModifiedBy>08269232</cp:lastModifiedBy>
  <dcterms:modified xsi:type="dcterms:W3CDTF">2007-02-02T05:39:25Z</dcterms:modified>
  <cp:revision>311</cp:revision>
  <dc:subject/>
  <dc:title>485136 Learning Area: Mathematics 1</dc:title>
</cp:coreProperties>
</file>