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911-C044-494A-A3EE-DC29DC73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782-437D-4B87-AE89-F70C619E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472-3B2D-435B-9C4B-AAA0145C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B99-187D-4974-8E3C-27645418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D2C-F9CD-49EF-8C7C-C07CD96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52C-02AD-46C3-9865-B120E8DD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9AE-736C-4FCD-B731-2EDFB8D7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2D4-4A44-4E5E-809D-43554EA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D91-BA57-4601-A938-D989EBD6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CBF-3C62-45B7-B4CD-0924CFF0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2C7-4621-4A35-9299-EACCF6B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D84-67CE-4A82-BC50-DC482B71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4BB3-E5B5-42CF-B28E-DCB9D340715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2006640"/>
          <a:ext cx="3353040" cy="195588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+5+4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48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1+4+1+4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05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6+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295280" y="36576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533412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read off the digits according to the diagonal place value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487692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327 x 28 = 91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4920" y="4724280"/>
            <a:ext cx="67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alculate 327 x 28 by another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how your method is similar to this 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9160" y="472428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9160" y="472428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9160" y="4724280"/>
            <a:ext cx="772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: see if you can find each of the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 parti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tice multiplication!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940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1911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267080" y="4495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3:30:20Z</dcterms:created>
  <dc:creator>lball</dc:creator>
  <dc:description/>
  <dc:language>en-US</dc:language>
  <cp:lastModifiedBy>08269232</cp:lastModifiedBy>
  <dcterms:modified xsi:type="dcterms:W3CDTF">2007-02-02T05:39:25Z</dcterms:modified>
  <cp:revision>311</cp:revision>
  <dc:subject/>
  <dc:title>485136 Learning Area: Mathematics 1</dc:title>
</cp:coreProperties>
</file>