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716-6941-43D6-B75B-D615E823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B00-2B34-48F4-B631-00DE5CA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A27-0630-4939-9519-97BC26CA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3AB-7868-4D02-AF8C-173F8B0A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A0C-E539-431B-8C95-729CEB29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F9F-0DA0-4B2E-88B6-40C21C3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DA2-2D06-462B-A2B3-D8A903F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580-EBA9-4B11-8D75-9F239B32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C6A-ADD0-41E8-8D86-9356641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DB9-DA3A-4514-80C9-1537147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D6D-18C6-46FD-B8E3-029AA46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FB6-8BBF-4C6A-99A4-76E8ACC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6BFA-7064-4DE7-9005-75C07089DE2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2006640"/>
          <a:ext cx="3353040" cy="19558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+5+4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8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1+4+1+4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05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6+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533412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read off the digits according to the diagonal place valu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48769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327 x 28 = 91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4920" y="472428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 327 x 28 by another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how your method is similar to this 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9160" y="47242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160" y="472428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9160" y="4724280"/>
            <a:ext cx="77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: see if you can find each of th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part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tice multiplication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670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3:30:20Z</dcterms:created>
  <dc:creator>lball</dc:creator>
  <dc:description/>
  <dc:language>en-US</dc:language>
  <cp:lastModifiedBy>08269232</cp:lastModifiedBy>
  <dcterms:modified xsi:type="dcterms:W3CDTF">2007-02-02T05:39:25Z</dcterms:modified>
  <cp:revision>311</cp:revision>
  <dc:subject/>
  <dc:title>485136 Learning Area: Mathematics 1</dc:title>
</cp:coreProperties>
</file>