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87A1-1BCF-4C69-A8BB-C7F40545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EA35-4342-4158-B90C-9E865F45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8F1C-F0EB-4321-A52A-38CDB21E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BEED-C527-4C94-80D0-3283641C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7318-5B16-4AB8-A8EB-6FCB8B3F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6D9-6F24-434E-9803-2E1103DA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B77-CC3D-486B-BA82-29A087BA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9DD1-F884-4038-8ED7-011E77AA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3C65-BB50-42D6-9516-C7E7503E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58C5-1D24-43BC-9163-8370B4FE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60F-5763-44A5-8E68-FF395059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F1DA-2FAA-4156-801A-E1A8BD59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4180-4655-40A1-A966-553B31016D0E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438280" y="2006640"/>
          <a:ext cx="3353040" cy="195588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95288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add the diag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+5+4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048120" y="449532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4952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4952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+1+4+1+4=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905120" y="449532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4648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+6+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295280" y="36576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288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6840" y="5334120"/>
            <a:ext cx="87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read off the digits according to the diagonal place value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288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2880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8880" y="4724280"/>
            <a:ext cx="300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is in the ones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in the t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in the hundr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in the 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in the ten-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8880" y="4724280"/>
            <a:ext cx="300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is in the ones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in the t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in the hundr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in the 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in the ten-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24280" y="4876920"/>
            <a:ext cx="3505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327 x 28 = 915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158840" y="2006640"/>
          <a:ext cx="3352680" cy="1942920"/>
        </p:xfrm>
        <a:graphic>
          <a:graphicData uri="http://schemas.openxmlformats.org/drawingml/2006/table">
            <a:tbl>
              <a:tblPr/>
              <a:tblGrid>
                <a:gridCol w="111744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 flipH="1">
            <a:off x="123480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301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444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36852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2301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158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96920" y="243828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1624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495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54320" y="144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0656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83536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936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936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4920" y="4724280"/>
            <a:ext cx="67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calculate 327 x 28 by another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see how your method is similar to this on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158840" y="2006640"/>
          <a:ext cx="3352680" cy="1942920"/>
        </p:xfrm>
        <a:graphic>
          <a:graphicData uri="http://schemas.openxmlformats.org/drawingml/2006/table">
            <a:tbl>
              <a:tblPr/>
              <a:tblGrid>
                <a:gridCol w="111744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 flipH="1">
            <a:off x="123480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301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444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36852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301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158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96920" y="243828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1624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495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54320" y="144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0656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3536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936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936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9160" y="4724280"/>
            <a:ext cx="772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you write out all 6 partial products separately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like th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81480" y="1143000"/>
            <a:ext cx="121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158840" y="2006640"/>
          <a:ext cx="3352680" cy="1942920"/>
        </p:xfrm>
        <a:graphic>
          <a:graphicData uri="http://schemas.openxmlformats.org/drawingml/2006/table">
            <a:tbl>
              <a:tblPr/>
              <a:tblGrid>
                <a:gridCol w="111744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 flipH="1">
            <a:off x="123480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301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3444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336852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301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158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96920" y="243828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1624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1495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054320" y="144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0656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3536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936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936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9160" y="4724280"/>
            <a:ext cx="77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you write out all 6 partial products separately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like th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did you use a condensed version?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like thi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1143000"/>
            <a:ext cx="121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29400" y="1143000"/>
            <a:ext cx="121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6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65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158840" y="2006640"/>
          <a:ext cx="3352680" cy="1942920"/>
        </p:xfrm>
        <a:graphic>
          <a:graphicData uri="http://schemas.openxmlformats.org/drawingml/2006/table">
            <a:tbl>
              <a:tblPr/>
              <a:tblGrid>
                <a:gridCol w="111744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/>
          <p:cNvSpPr/>
          <p:nvPr/>
        </p:nvSpPr>
        <p:spPr>
          <a:xfrm flipH="1">
            <a:off x="123480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2301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444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36852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301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1158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96920" y="243828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1624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495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54320" y="144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0656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3536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936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936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9160" y="4724280"/>
            <a:ext cx="772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you write out all 6 partial products separately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like th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did you use a condensed version?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like thi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: see if you can find each of the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6 partial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ttice multiplication!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81480" y="1143000"/>
            <a:ext cx="121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629400" y="1143000"/>
            <a:ext cx="121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6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65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419112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495288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add the diag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267080" y="449532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3:30:20Z</dcterms:created>
  <dc:creator>lball</dc:creator>
  <dc:description/>
  <dc:language>en-US</dc:language>
  <cp:lastModifiedBy>08269232</cp:lastModifiedBy>
  <dcterms:modified xsi:type="dcterms:W3CDTF">2007-02-02T05:39:25Z</dcterms:modified>
  <cp:revision>311</cp:revision>
  <dc:subject/>
  <dc:title>485136 Learning Area: Mathematics 1</dc:title>
</cp:coreProperties>
</file>