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now%20Slope%20Start.wav" ContentType="audio/x-wav"/>
  <Override PartName="/ppt/media/TYPE.WAV" ContentType="audio/x-wav"/>
  <Override PartName="/ppt/media/Science%20program%20erro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B4F-5CA9-44AF-954F-D69DFD94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2BA-6F30-43B7-A82E-545D4CD4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257-8882-4963-BFD6-ED81CDDF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5EB2-7E15-424C-97A5-836855B3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AD9-4F86-4F08-80FC-7C207D9D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7208-E1B2-45EB-919E-BAEE9252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7C1-6497-4F98-9D24-5BBB2F1E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B33-2D4F-4BE3-98B5-80FA505A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8F0-DAC7-4DC0-9854-13B89205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5FB-DD92-4702-813A-53B46313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487-D1A9-46B8-94E5-6F0691C4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D3C-D78B-40C9-A2B6-B0E497D1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EF92-7419-485C-BEFF-FD5CBC1E6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16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4.xml"/><Relationship Id="rId11" Type="http://schemas.openxmlformats.org/officeDocument/2006/relationships/slide" Target="slide9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3.xml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Snow%20Slope%20Star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cience%20program%20error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logy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The 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 is to dog as bird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evt="end">
                                        <p:tn val="406"/>
                                      </p:cond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evt="end">
                                        <p:tn val="412"/>
                                      </p:cond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evt="end">
                                        <p:tn val="418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evt="end">
                                        <p:tn val="424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evt="end">
                                        <p:tn val="430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9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de is to walk as swim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1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evt="end">
                                        <p:tn val="467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50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7" dur="1" fill="hold">
                                    <p:stCondLst>
                                      <p:cond evt="end">
                                        <p:tn val="473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3" dur="1" fill="hold">
                                    <p:stCondLst>
                                      <p:cond evt="end">
                                        <p:tn val="479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5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9" dur="1" fill="hold">
                                    <p:stCondLst>
                                      <p:cond evt="end">
                                        <p:tn val="485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5" dur="1" fill="hold">
                                    <p:stCondLst>
                                      <p:cond evt="end">
                                        <p:tn val="491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5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0" dur="1" fill="hold">
                                    <p:stCondLst>
                                      <p:cond evt="end">
                                        <p:tn val="516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evt="end">
                                        <p:tn val="522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8" dur="1" fill="hold">
                                    <p:stCondLst>
                                      <p:cond evt="end">
                                        <p:tn val="534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5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4" dur="1" fill="hold">
                                    <p:stCondLst>
                                      <p:cond evt="end">
                                        <p:tn val="54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800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evt="end">
                                        <p:tn val="546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95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5" dur="1" fill="hold">
                                    <p:stCondLst>
                                      <p:cond evt="end">
                                        <p:tn val="571"/>
                                      </p:cond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evt="end">
                                        <p:tn val="577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5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7" dur="1" fill="hold">
                                    <p:stCondLst>
                                      <p:cond evt="end">
                                        <p:tn val="583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3" dur="1" fill="hold">
                                    <p:stCondLst>
                                      <p:cond evt="end">
                                        <p:tn val="589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9" dur="1" fill="hold">
                                    <p:stCondLst>
                                      <p:cond evt="end">
                                        <p:tn val="595"/>
                                      </p:cond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8000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evt="end">
                                        <p:tn val="601"/>
                                      </p:cond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9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evt="end">
                                        <p:tn val="626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6" dur="1" fill="hold">
                                    <p:stCondLst>
                                      <p:cond evt="end">
                                        <p:tn val="632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evt="end">
                                        <p:tn val="638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evt="end">
                                        <p:tn val="644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evt="end">
                                        <p:tn val="650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80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0" dur="1" fill="hold">
                                    <p:stCondLst>
                                      <p:cond evt="end">
                                        <p:tn val="656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evt="end">
                                        <p:tn val="681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evt="end">
                                        <p:tn val="687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50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evt="end">
                                        <p:tn val="693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evt="end">
                                        <p:tn val="699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evt="end">
                                        <p:tn val="705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5" dur="1" fill="hold">
                                    <p:stCondLst>
                                      <p:cond evt="end">
                                        <p:tn val="711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9500"/>
                            </p:stCondLst>
                            <p:childTnLst>
                              <p:par>
                                <p:cTn id="7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0" dur="1" fill="hold">
                                    <p:stCondLst>
                                      <p:cond evt="end">
                                        <p:tn val="736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6" dur="1" fill="hold">
                                    <p:stCondLst>
                                      <p:cond evt="end">
                                        <p:tn val="742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500"/>
                            </p:stCondLst>
                            <p:childTnLst>
                              <p:par>
                                <p:cTn id="7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2" dur="1" fill="hold">
                                    <p:stCondLst>
                                      <p:cond evt="end">
                                        <p:tn val="748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8" dur="1" fill="hold">
                                    <p:stCondLst>
                                      <p:cond evt="end">
                                        <p:tn val="754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4" dur="1" fill="hold">
                                    <p:stCondLst>
                                      <p:cond evt="end">
                                        <p:tn val="760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0" dur="1" fill="hold">
                                    <p:stCondLst>
                                      <p:cond evt="end">
                                        <p:tn val="766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9500"/>
                            </p:stCondLst>
                            <p:childTnLst>
                              <p:par>
                                <p:cTn id="7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5" dur="1" fill="hold">
                                    <p:stCondLst>
                                      <p:cond evt="end">
                                        <p:tn val="791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1" dur="1" fill="hold">
                                    <p:stCondLst>
                                      <p:cond evt="end">
                                        <p:tn val="797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50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7" dur="1" fill="hold">
                                    <p:stCondLst>
                                      <p:cond evt="end">
                                        <p:tn val="803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3" dur="1" fill="hold">
                                    <p:stCondLst>
                                      <p:cond evt="end">
                                        <p:tn val="809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evt="end">
                                        <p:tn val="815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8000"/>
                            </p:stCondLst>
                            <p:childTnLst>
                              <p:par>
                                <p:cTn id="8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5" dur="1" fill="hold">
                                    <p:stCondLst>
                                      <p:cond evt="end">
                                        <p:tn val="821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950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0" dur="1" fill="hold">
                                    <p:stCondLst>
                                      <p:cond evt="end">
                                        <p:tn val="846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6" dur="1" fill="hold">
                                    <p:stCondLst>
                                      <p:cond evt="end">
                                        <p:tn val="852"/>
                                      </p:cond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500"/>
                            </p:stCondLst>
                            <p:childTnLst>
                              <p:par>
                                <p:cTn id="8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2" dur="1" fill="hold">
                                    <p:stCondLst>
                                      <p:cond evt="end">
                                        <p:tn val="858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0"/>
                            </p:stCondLst>
                            <p:childTnLst>
                              <p:par>
                                <p:cTn id="8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8" dur="1" fill="hold">
                                    <p:stCondLst>
                                      <p:cond evt="end">
                                        <p:tn val="864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6500"/>
                            </p:stCondLst>
                            <p:childTnLst>
                              <p:par>
                                <p:cTn id="8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4" dur="1" fill="hold">
                                    <p:stCondLst>
                                      <p:cond evt="end">
                                        <p:tn val="870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80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0" dur="1" fill="hold">
                                    <p:stCondLst>
                                      <p:cond evt="end">
                                        <p:tn val="876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9500"/>
                            </p:stCondLst>
                            <p:childTnLst>
                              <p:par>
                                <p:cTn id="8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5" dur="1" fill="hold">
                                    <p:stCondLst>
                                      <p:cond evt="end">
                                        <p:tn val="901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1" dur="1" fill="hold">
                                    <p:stCondLst>
                                      <p:cond evt="end">
                                        <p:tn val="907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7" dur="1" fill="hold">
                                    <p:stCondLst>
                                      <p:cond evt="end">
                                        <p:tn val="913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0"/>
                            </p:stCondLst>
                            <p:childTnLst>
                              <p:par>
                                <p:cTn id="9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3" dur="1" fill="hold">
                                    <p:stCondLst>
                                      <p:cond evt="end">
                                        <p:tn val="919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500"/>
                            </p:stCondLst>
                            <p:childTnLst>
                              <p:par>
                                <p:cTn id="9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9" dur="1" fill="hold">
                                    <p:stCondLst>
                                      <p:cond evt="end">
                                        <p:tn val="925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8000"/>
                            </p:stCondLst>
                            <p:childTnLst>
                              <p:par>
                                <p:cTn id="9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5" dur="1" fill="hold">
                                    <p:stCondLst>
                                      <p:cond evt="end">
                                        <p:tn val="931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9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ony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11430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52578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6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ony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h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5720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685800"/>
            <a:ext cx="1371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36576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18288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27432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5943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Final Jeopardy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0" dur="1" fill="hold">
                                    <p:stCondLst>
                                      <p:cond evt="end">
                                        <p:tn val="956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6" dur="1" fill="hold">
                                    <p:stCondLst>
                                      <p:cond evt="end">
                                        <p:tn val="962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500"/>
                            </p:stCondLst>
                            <p:childTnLst>
                              <p:par>
                                <p:cTn id="9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2" dur="1" fill="hold">
                                    <p:stCondLst>
                                      <p:cond evt="end">
                                        <p:tn val="968"/>
                                      </p:cond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0"/>
                            </p:stCondLst>
                            <p:childTnLst>
                              <p:par>
                                <p:cTn id="9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8" dur="1" fill="hold">
                                    <p:stCondLst>
                                      <p:cond evt="end">
                                        <p:tn val="974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4" dur="1" fill="hold">
                                    <p:stCondLst>
                                      <p:cond evt="end">
                                        <p:tn val="980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0" dur="1" fill="hold">
                                    <p:stCondLst>
                                      <p:cond evt="end">
                                        <p:tn val="986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9500"/>
                            </p:stCondLst>
                            <p:childTnLst>
                              <p:par>
                                <p:cTn id="9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5" dur="1" fill="hold">
                                    <p:stCondLst>
                                      <p:cond evt="end">
                                        <p:tn val="1011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1" dur="1" fill="hold">
                                    <p:stCondLst>
                                      <p:cond evt="end">
                                        <p:tn val="1017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7" dur="1" fill="hold">
                                    <p:stCondLst>
                                      <p:cond evt="end">
                                        <p:tn val="1023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3" dur="1" fill="hold">
                                    <p:stCondLst>
                                      <p:cond evt="end">
                                        <p:tn val="1029"/>
                                      </p:cond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9" dur="1" fill="hold">
                                    <p:stCondLst>
                                      <p:cond evt="end">
                                        <p:tn val="1035"/>
                                      </p:cond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5" dur="1" fill="hold">
                                    <p:stCondLst>
                                      <p:cond evt="end">
                                        <p:tn val="1041"/>
                                      </p:cond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evt="end">
                                        <p:tn val="1066"/>
                                      </p:cond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6" dur="1" fill="hold">
                                    <p:stCondLst>
                                      <p:cond evt="end">
                                        <p:tn val="1072"/>
                                      </p:cond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2" dur="1" fill="hold">
                                    <p:stCondLst>
                                      <p:cond evt="end">
                                        <p:tn val="1078"/>
                                      </p:cond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8" dur="1" fill="hold">
                                    <p:stCondLst>
                                      <p:cond evt="end">
                                        <p:tn val="1084"/>
                                      </p:cond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4" dur="1" fill="hold">
                                    <p:stCondLst>
                                      <p:cond evt="end">
                                        <p:tn val="1090"/>
                                      </p:cond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0" dur="1" fill="hold">
                                    <p:stCondLst>
                                      <p:cond evt="end">
                                        <p:tn val="1096"/>
                                      </p:cond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questio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25" dur="1" fill="hold">
                                    <p:stCondLst>
                                      <p:cond evt="end">
                                        <p:tn val="1121"/>
                                      </p:cond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1" dur="1" fill="hold">
                                    <p:stCondLst>
                                      <p:cond evt="end">
                                        <p:tn val="1127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7" dur="1" fill="hold">
                                    <p:stCondLst>
                                      <p:cond evt="end">
                                        <p:tn val="1133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3" dur="1" fill="hold">
                                    <p:stCondLst>
                                      <p:cond evt="end">
                                        <p:tn val="1139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9" dur="1" fill="hold">
                                    <p:stCondLst>
                                      <p:cond evt="end">
                                        <p:tn val="1145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55" dur="1" fill="hold">
                                    <p:stCondLst>
                                      <p:cond evt="end">
                                        <p:tn val="1151"/>
                                      </p:cond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ious is to cat as studious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60948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ow%20Slope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evt="end">
                                        <p:tn val="15"/>
                                      </p:cond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evt="end">
                                        <p:tn val="27"/>
                                      </p:cond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39"/>
                                      </p:cond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1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 is to woman as boy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evt="end">
                                        <p:tn val="88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evt="end">
                                        <p:tn val="106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ugh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her is to sun as mother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1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ppy is to dog as kitten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evt="end">
                                        <p:tn val="204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6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 is to man as female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evt="end">
                                        <p:tn val="241"/>
                                      </p:cond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evt="end">
                                        <p:tn val="247"/>
                                      </p:cond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evt="end">
                                        <p:tn val="253"/>
                                      </p:cond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evt="end">
                                        <p:tn val="259"/>
                                      </p:cond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5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evt="end">
                                        <p:tn val="265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evt="end">
                                        <p:tn val="271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s to dark as funny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evt="end">
                                        <p:tn val="326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514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 is to boy as woma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7732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7493"/>
                </a:moveTo>
                <a:lnTo>
                  <a:pt x="11350" y="7493"/>
                </a:lnTo>
                <a:lnTo>
                  <a:pt x="11350" y="12828"/>
                </a:lnTo>
                <a:cubicBezTo>
                  <a:pt x="11350" y="13751"/>
                  <a:pt x="12150" y="14482"/>
                  <a:pt x="13186" y="14482"/>
                </a:cubicBezTo>
                <a:lnTo>
                  <a:pt x="14848" y="14482"/>
                </a:lnTo>
                <a:cubicBezTo>
                  <a:pt x="15884" y="14482"/>
                  <a:pt x="16685" y="13751"/>
                  <a:pt x="16685" y="12828"/>
                </a:cubicBezTo>
                <a:lnTo>
                  <a:pt x="16685" y="7493"/>
                </a:lnTo>
                <a:lnTo>
                  <a:pt x="14848" y="7493"/>
                </a:lnTo>
                <a:lnTo>
                  <a:pt x="18356" y="3985"/>
                </a:lnTo>
                <a:lnTo>
                  <a:pt x="22029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6" y="18155"/>
                  <a:pt x="14848" y="18155"/>
                </a:cubicBezTo>
                <a:lnTo>
                  <a:pt x="13186" y="18155"/>
                </a:lnTo>
                <a:cubicBezTo>
                  <a:pt x="10418" y="18155"/>
                  <a:pt x="7842" y="15596"/>
                  <a:pt x="784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193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9320" y="6094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685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4300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533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1"/>
                                      </p:cond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1" dur="1" fill="hold">
                                    <p:stCondLst>
                                      <p:cond evt="end">
                                        <p:tn val="357"/>
                                      </p:cond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7" dur="1" fill="hold">
                                    <p:stCondLst>
                                      <p:cond evt="end">
                                        <p:tn val="363"/>
                                      </p:cond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evt="end">
                                        <p:tn val="369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5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evt="end">
                                        <p:tn val="375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0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evt="end">
                                        <p:tn val="381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5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ience%20program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3:38:22Z</dcterms:created>
  <dc:creator>RSD Rockwood School District</dc:creator>
  <dc:description/>
  <dc:language>en-US</dc:language>
  <cp:lastModifiedBy>darci.mock</cp:lastModifiedBy>
  <dcterms:modified xsi:type="dcterms:W3CDTF">2007-02-08T20:31:21Z</dcterms:modified>
  <cp:revision>3</cp:revision>
  <dc:subject/>
  <dc:title>??????? Jeopardy</dc:title>
</cp:coreProperties>
</file>