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now%20Slope%20Start.wav" ContentType="audio/x-wav"/>
  <Override PartName="/ppt/media/TYPE.WAV" ContentType="audio/x-wav"/>
  <Override PartName="/ppt/media/Science%20program%20err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0A7-2177-4A23-8FE4-3CB8C54A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560-42F7-4BA2-8215-1287CE31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4C9-0258-479F-AD41-08B263EF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BF1-EDD5-4A91-AACF-72708FC5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7CE-4064-4522-B695-CA57CBC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5AC-B8C1-4D79-B990-471606D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E8B-46F0-457F-B70C-EF12E81D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4D6-A2A3-44FD-B96F-8E80A42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F3B-50D8-4480-A42E-66EEFC65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720-6B29-42D7-A683-26D4CAB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57F-34C1-4A00-B388-CBDB49D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D09-1352-4FC9-970D-0408EB4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F5E5-B6D6-4976-83E8-A1646987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6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4.xml"/><Relationship Id="rId11" Type="http://schemas.openxmlformats.org/officeDocument/2006/relationships/slide" Target="slide9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Snow%20Slope%20Star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logy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he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 is to dog as bird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6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e is to walk as swim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evt="end">
                                        <p:tn val="485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evt="end">
                                        <p:tn val="491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evt="end">
                                        <p:tn val="626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evt="end">
                                        <p:tn val="638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6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4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0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evt="end">
                                        <p:tn val="79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evt="end">
                                        <p:tn val="797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evt="end">
                                        <p:tn val="80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evt="end">
                                        <p:tn val="81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evt="end">
                                        <p:tn val="82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9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0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2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4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5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0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6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1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1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3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3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9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1430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52578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6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h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5943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evt="end">
                                        <p:tn val="956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evt="end">
                                        <p:tn val="96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2" dur="1" fill="hold">
                                    <p:stCondLst>
                                      <p:cond evt="end">
                                        <p:tn val="968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8" dur="1" fill="hold">
                                    <p:stCondLst>
                                      <p:cond evt="end">
                                        <p:tn val="974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4" dur="1" fill="hold">
                                    <p:stCondLst>
                                      <p:cond evt="end">
                                        <p:tn val="980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0" dur="1" fill="hold">
                                    <p:stCondLst>
                                      <p:cond evt="end">
                                        <p:tn val="986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evt="end">
                                        <p:tn val="1017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evt="end">
                                        <p:tn val="1023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3" dur="1" fill="hold">
                                    <p:stCondLst>
                                      <p:cond evt="end">
                                        <p:tn val="1029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9" dur="1" fill="hold">
                                    <p:stCondLst>
                                      <p:cond evt="end">
                                        <p:tn val="1035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5" dur="1" fill="hold">
                                    <p:stCondLst>
                                      <p:cond evt="end">
                                        <p:tn val="1041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6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6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78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8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0"/>
                                      </p:cond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0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5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27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7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39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9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1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is to cat as studious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094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ow%20Slope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woman as boy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is to sun as mother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py is to dog as kitten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 is to man as female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41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1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s to dark as funny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boy as woma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7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38:22Z</dcterms:created>
  <dc:creator>RSD Rockwood School District</dc:creator>
  <dc:description/>
  <dc:language>en-US</dc:language>
  <cp:lastModifiedBy>darci.mock</cp:lastModifiedBy>
  <dcterms:modified xsi:type="dcterms:W3CDTF">2007-02-08T20:31:21Z</dcterms:modified>
  <cp:revision>3</cp:revision>
  <dc:subject/>
  <dc:title>??????? Jeopardy</dc:title>
</cp:coreProperties>
</file>