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now%20Slope%20Start.wav" ContentType="audio/x-wav"/>
  <Override PartName="/ppt/media/TYPE.WAV" ContentType="audio/x-wav"/>
  <Override PartName="/ppt/media/Science%20program%20err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2B3-74A0-4E9A-AF32-D547F460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318-4029-4C46-BFA6-F502785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622-1FDF-4119-8967-F53BDEB3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80B-0DFE-4814-9B21-30F6C1B6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61E-D4D7-4380-A4DB-3E337C35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C71-BD9C-4C4C-9096-4B9D77F8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A3B-7D36-4E27-9962-A6E30E09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B97-89B0-4B1E-80AF-2742F3BD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411-5082-4653-ABF5-E306A5A4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6F8-9A97-4C38-8591-BC2C1F4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818-EC3C-41E7-A36D-3169465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735-76FE-418B-AD1A-675D5A3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256-7DEA-4D82-A259-4ECF9D56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6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4.xml"/><Relationship Id="rId11" Type="http://schemas.openxmlformats.org/officeDocument/2006/relationships/slide" Target="slide9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Snow%20Slope%20Star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logy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he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 is to dog as bird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6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e is to walk as swim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evt="end">
                                        <p:tn val="479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evt="end">
                                        <p:tn val="485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evt="end">
                                        <p:tn val="491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0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6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71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7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evt="end">
                                        <p:tn val="583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89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evt="end">
                                        <p:tn val="626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2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evt="end">
                                        <p:tn val="638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evt="end">
                                        <p:tn val="64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5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3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50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6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4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0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evt="end">
                                        <p:tn val="79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evt="end">
                                        <p:tn val="797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7" dur="1" fill="hold">
                                    <p:stCondLst>
                                      <p:cond evt="end">
                                        <p:tn val="80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evt="end">
                                        <p:tn val="815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00"/>
                            </p:stCondLst>
                            <p:childTnLst>
                              <p:par>
                                <p:cTn id="8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evt="end">
                                        <p:tn val="82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95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0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2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4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5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4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80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6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5" dur="1" fill="hold">
                                    <p:stCondLst>
                                      <p:cond evt="end">
                                        <p:tn val="901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1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7" dur="1" fill="hold">
                                    <p:stCondLst>
                                      <p:cond evt="end">
                                        <p:tn val="913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3" dur="1" fill="hold">
                                    <p:stCondLst>
                                      <p:cond evt="end">
                                        <p:tn val="919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9" dur="1" fill="hold">
                                    <p:stCondLst>
                                      <p:cond evt="end">
                                        <p:tn val="92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5" dur="1" fill="hold">
                                    <p:stCondLst>
                                      <p:cond evt="end">
                                        <p:tn val="931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9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1430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52578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6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h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5943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evt="end">
                                        <p:tn val="956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evt="end">
                                        <p:tn val="962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2" dur="1" fill="hold">
                                    <p:stCondLst>
                                      <p:cond evt="end">
                                        <p:tn val="968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8" dur="1" fill="hold">
                                    <p:stCondLst>
                                      <p:cond evt="end">
                                        <p:tn val="974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4" dur="1" fill="hold">
                                    <p:stCondLst>
                                      <p:cond evt="end">
                                        <p:tn val="980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0" dur="1" fill="hold">
                                    <p:stCondLst>
                                      <p:cond evt="end">
                                        <p:tn val="986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95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evt="end">
                                        <p:tn val="1017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evt="end">
                                        <p:tn val="1023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3" dur="1" fill="hold">
                                    <p:stCondLst>
                                      <p:cond evt="end">
                                        <p:tn val="1029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9" dur="1" fill="hold">
                                    <p:stCondLst>
                                      <p:cond evt="end">
                                        <p:tn val="1035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5" dur="1" fill="hold">
                                    <p:stCondLst>
                                      <p:cond evt="end">
                                        <p:tn val="1041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6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6" dur="1" fill="hold">
                                    <p:stCondLst>
                                      <p:cond evt="end">
                                        <p:tn val="1072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2" dur="1" fill="hold">
                                    <p:stCondLst>
                                      <p:cond evt="end">
                                        <p:tn val="1078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8" dur="1" fill="hold">
                                    <p:stCondLst>
                                      <p:cond evt="end">
                                        <p:tn val="1084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evt="end">
                                        <p:tn val="1090"/>
                                      </p:cond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0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5" dur="1" fill="hold">
                                    <p:stCondLst>
                                      <p:cond evt="end">
                                        <p:tn val="1121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27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7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39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9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1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is to cat as studious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094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ow%20Slope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woman as boy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is to sun as mother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py is to dog as kitten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 is to man as female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evt="end">
                                        <p:tn val="241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59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evt="end">
                                        <p:tn val="271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s to dark as funny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evt="end">
                                        <p:tn val="326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boy as woma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7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38:22Z</dcterms:created>
  <dc:creator>RSD Rockwood School District</dc:creator>
  <dc:description/>
  <dc:language>en-US</dc:language>
  <cp:lastModifiedBy>darci.mock</cp:lastModifiedBy>
  <dcterms:modified xsi:type="dcterms:W3CDTF">2007-02-08T20:31:21Z</dcterms:modified>
  <cp:revision>3</cp:revision>
  <dc:subject/>
  <dc:title>??????? Jeopardy</dc:title>
</cp:coreProperties>
</file>