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3.wmf" ContentType="image/x-wmf"/>
  <Override PartName="/ppt/media/image8.wmf" ContentType="image/x-wmf"/>
  <Override PartName="/ppt/media/image10.wmf" ContentType="image/x-wmf"/>
  <Override PartName="/ppt/media/image7.jpeg" ContentType="image/jpeg"/>
  <Override PartName="/ppt/media/image11.wmf" ContentType="image/x-wmf"/>
  <Override PartName="/ppt/media/image3.png" ContentType="image/png"/>
  <Override PartName="/ppt/media/image6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2.wmf" ContentType="image/x-wmf"/>
  <Override PartName="/ppt/media/image25.wmf" ContentType="image/x-wmf"/>
  <Override PartName="/ppt/media/image28.wmf" ContentType="image/x-wmf"/>
  <Override PartName="/ppt/media/image16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1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53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41.xml.rels" ContentType="application/vnd.openxmlformats-package.relationships+xml"/>
  <Override PartName="/ppt/slides/_rels/slide169.xml.rels" ContentType="application/vnd.openxmlformats-package.relationships+xml"/>
  <Override PartName="/ppt/slides/_rels/slide120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55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525D-502D-43EA-9873-C05FDCB41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3AEE-71A1-4F4F-99DD-808DAC92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685C-BBFD-4CEE-A455-3A6A95337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489E-01E3-4CA2-B3E7-6F616F27E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FCF0-1430-433D-8A11-D77A5B69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B81D-B6EA-42A5-8CEE-3FF40319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4527-B278-48BD-AF3E-73D4D83F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DE56-297E-49DE-94F8-42C617BF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FD49-8C9C-4427-BB73-A8D221DC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492D-BBBA-4E12-9F0D-E163EAFC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0089-A8D7-4797-936B-B2A838F0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D9C1-E720-4B8B-9C46-497C37E5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5036-B9AC-41EE-B7E2-A72610A5F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" Target="slide85.xml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" Target="slide119.xml"/><Relationship Id="rId2" Type="http://schemas.openxmlformats.org/officeDocument/2006/relationships/slide" Target="slide129.xml"/><Relationship Id="rId3" Type="http://schemas.openxmlformats.org/officeDocument/2006/relationships/slide" Target="slide134.xml"/><Relationship Id="rId4" Type="http://schemas.openxmlformats.org/officeDocument/2006/relationships/slide" Target="slide148.xml"/><Relationship Id="rId5" Type="http://schemas.openxmlformats.org/officeDocument/2006/relationships/image" Target="../media/image20.wmf"/><Relationship Id="rId6" Type="http://schemas.openxmlformats.org/officeDocument/2006/relationships/slide" Target="slide2.xml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" Target="slide120.xml"/><Relationship Id="rId2" Type="http://schemas.openxmlformats.org/officeDocument/2006/relationships/slide" Target="slide121.xml"/><Relationship Id="rId3" Type="http://schemas.openxmlformats.org/officeDocument/2006/relationships/slide" Target="slide122.xml"/><Relationship Id="rId4" Type="http://schemas.openxmlformats.org/officeDocument/2006/relationships/slide" Target="slide123.xml"/><Relationship Id="rId5" Type="http://schemas.openxmlformats.org/officeDocument/2006/relationships/slide" Target="slide124.xml"/><Relationship Id="rId6" Type="http://schemas.openxmlformats.org/officeDocument/2006/relationships/slide" Target="slide125.xml"/><Relationship Id="rId7" Type="http://schemas.openxmlformats.org/officeDocument/2006/relationships/slide" Target="slide126.xml"/><Relationship Id="rId8" Type="http://schemas.openxmlformats.org/officeDocument/2006/relationships/slide" Target="slide127.xml"/><Relationship Id="rId9" Type="http://schemas.openxmlformats.org/officeDocument/2006/relationships/slide" Target="slide128.xml"/><Relationship Id="rId10" Type="http://schemas.openxmlformats.org/officeDocument/2006/relationships/slide" Target="slide118.xml"/><Relationship Id="rId11" Type="http://schemas.openxmlformats.org/officeDocument/2006/relationships/image" Target="../media/image20.wmf"/><Relationship Id="rId1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" Target="slide121.xml"/><Relationship Id="rId2" Type="http://schemas.openxmlformats.org/officeDocument/2006/relationships/slide" Target="slide122.xml"/><Relationship Id="rId3" Type="http://schemas.openxmlformats.org/officeDocument/2006/relationships/slide" Target="slide123.xml"/><Relationship Id="rId4" Type="http://schemas.openxmlformats.org/officeDocument/2006/relationships/image" Target="../media/image21.wmf"/><Relationship Id="rId5" Type="http://schemas.openxmlformats.org/officeDocument/2006/relationships/slide" Target="slide118.xml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" Target="slide120.xml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" Target="slide120.xml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" Target="slide120.xml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" Target="slide125.xml"/><Relationship Id="rId2" Type="http://schemas.openxmlformats.org/officeDocument/2006/relationships/slide" Target="slide126.xml"/><Relationship Id="rId3" Type="http://schemas.openxmlformats.org/officeDocument/2006/relationships/slide" Target="slide127.xml"/><Relationship Id="rId4" Type="http://schemas.openxmlformats.org/officeDocument/2006/relationships/slide" Target="slide118.xml"/><Relationship Id="rId5" Type="http://schemas.openxmlformats.org/officeDocument/2006/relationships/image" Target="../media/image20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" Target="slide124.xml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" Target="slide124.xml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" Target="slide124.xml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" Target="slide118.xml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" Target="slide130.xml"/><Relationship Id="rId2" Type="http://schemas.openxmlformats.org/officeDocument/2006/relationships/slide" Target="slide131.xml"/><Relationship Id="rId3" Type="http://schemas.openxmlformats.org/officeDocument/2006/relationships/slide" Target="slide132.xml"/><Relationship Id="rId4" Type="http://schemas.openxmlformats.org/officeDocument/2006/relationships/slide" Target="slide133.xml"/><Relationship Id="rId5" Type="http://schemas.openxmlformats.org/officeDocument/2006/relationships/slide" Target="slide118.xml"/><Relationship Id="rId6" Type="http://schemas.openxmlformats.org/officeDocument/2006/relationships/image" Target="../media/image20.wmf"/><Relationship Id="rId7" Type="http://schemas.openxmlformats.org/officeDocument/2006/relationships/image" Target="../media/image23.wm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" Target="slide129.xml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" Target="slide129.xml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" Target="slide129.xml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" Target="slide129.xml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" Target="slide135.xml"/><Relationship Id="rId2" Type="http://schemas.openxmlformats.org/officeDocument/2006/relationships/slide" Target="slide136.xml"/><Relationship Id="rId3" Type="http://schemas.openxmlformats.org/officeDocument/2006/relationships/slide" Target="slide137.xml"/><Relationship Id="rId4" Type="http://schemas.openxmlformats.org/officeDocument/2006/relationships/slide" Target="slide138.xml"/><Relationship Id="rId5" Type="http://schemas.openxmlformats.org/officeDocument/2006/relationships/slide" Target="slide139.xml"/><Relationship Id="rId6" Type="http://schemas.openxmlformats.org/officeDocument/2006/relationships/slide" Target="slide140.xml"/><Relationship Id="rId7" Type="http://schemas.openxmlformats.org/officeDocument/2006/relationships/slide" Target="slide141.xml"/><Relationship Id="rId8" Type="http://schemas.openxmlformats.org/officeDocument/2006/relationships/slide" Target="slide142.xml"/><Relationship Id="rId9" Type="http://schemas.openxmlformats.org/officeDocument/2006/relationships/slide" Target="slide143.xml"/><Relationship Id="rId10" Type="http://schemas.openxmlformats.org/officeDocument/2006/relationships/slide" Target="slide144.xml"/><Relationship Id="rId11" Type="http://schemas.openxmlformats.org/officeDocument/2006/relationships/slide" Target="slide145.xml"/><Relationship Id="rId12" Type="http://schemas.openxmlformats.org/officeDocument/2006/relationships/slide" Target="slide146.xml"/><Relationship Id="rId13" Type="http://schemas.openxmlformats.org/officeDocument/2006/relationships/slide" Target="slide147.xml"/><Relationship Id="rId14" Type="http://schemas.openxmlformats.org/officeDocument/2006/relationships/slide" Target="slide118.xml"/><Relationship Id="rId15" Type="http://schemas.openxmlformats.org/officeDocument/2006/relationships/image" Target="../media/image20.wmf"/><Relationship Id="rId16" Type="http://schemas.openxmlformats.org/officeDocument/2006/relationships/image" Target="../media/image24.wmf"/><Relationship Id="rId17" Type="http://schemas.openxmlformats.org/officeDocument/2006/relationships/slideLayout" Target="../slideLayouts/slideLayout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" Target="slide134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" Target="slide134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" Target="slide134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" Target="slide134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" Target="slide134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" Target="slide134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" Target="slide134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" Target="slide134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" Target="slide134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" Target="slide134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" Target="slide134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" Target="slide134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" Target="slide134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" Target="slide118.xml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" Target="slide150.xml"/><Relationship Id="rId2" Type="http://schemas.openxmlformats.org/officeDocument/2006/relationships/slide" Target="slide160.xml"/><Relationship Id="rId3" Type="http://schemas.openxmlformats.org/officeDocument/2006/relationships/slide" Target="slide163.xml"/><Relationship Id="rId4" Type="http://schemas.openxmlformats.org/officeDocument/2006/relationships/slide" Target="slide169.xml"/><Relationship Id="rId5" Type="http://schemas.openxmlformats.org/officeDocument/2006/relationships/image" Target="../media/image25.wmf"/><Relationship Id="rId6" Type="http://schemas.openxmlformats.org/officeDocument/2006/relationships/slide" Target="slide2.xml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" Target="slide151.xml"/><Relationship Id="rId2" Type="http://schemas.openxmlformats.org/officeDocument/2006/relationships/slide" Target="slide152.xml"/><Relationship Id="rId3" Type="http://schemas.openxmlformats.org/officeDocument/2006/relationships/slide" Target="slide153.xml"/><Relationship Id="rId4" Type="http://schemas.openxmlformats.org/officeDocument/2006/relationships/slide" Target="slide154.xml"/><Relationship Id="rId5" Type="http://schemas.openxmlformats.org/officeDocument/2006/relationships/slide" Target="slide155.xml"/><Relationship Id="rId6" Type="http://schemas.openxmlformats.org/officeDocument/2006/relationships/slide" Target="slide156.xml"/><Relationship Id="rId7" Type="http://schemas.openxmlformats.org/officeDocument/2006/relationships/slide" Target="slide157.xml"/><Relationship Id="rId8" Type="http://schemas.openxmlformats.org/officeDocument/2006/relationships/slide" Target="slide158.xml"/><Relationship Id="rId9" Type="http://schemas.openxmlformats.org/officeDocument/2006/relationships/slide" Target="slide159.xml"/><Relationship Id="rId10" Type="http://schemas.openxmlformats.org/officeDocument/2006/relationships/slide" Target="slide149.xml"/><Relationship Id="rId11" Type="http://schemas.openxmlformats.org/officeDocument/2006/relationships/image" Target="../media/image25.wmf"/><Relationship Id="rId12" Type="http://schemas.openxmlformats.org/officeDocument/2006/relationships/image" Target="../media/image26.wmf"/><Relationship Id="rId13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" Target="slide150.xml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" Target="slide150.xml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" Target="slide150.xml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" Target="slide150.xml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" Target="slide150.xml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" Target="slide150.xml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" Target="slide150.xml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" Target="slide150.xml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" Target="slide150.xml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hyperlink" Target="http://images.google.com/imgres?imgurl=http://www.mathnstuff.com/math/spoken/here/2class/60/multstr.gif&amp;imgrefurl=http://www.mathnstuff.com/math/spoken/here/1words/p/p38.htm&amp;h=677&amp;w=595&amp;sz=110&amp;hl=en&amp;sig2=kywkEnkkSnSoPV2aTDzVMA&amp;start=6&amp;um=1&amp;tbnid=91DeJzYNUJxM5M:&amp;tbnh=139&amp;tbnw=122&amp;ei=SSgMRpv5M4raqgPh2MH3BQ&amp;prev=/images%3Fq%3Dtimes%2Btables%26svnum%3D10%26um%3D1%26hl%3Den%26safe%3Dactive%26rls%3Dcom.microsoft:en-us:IE-SearchBox%26rlz%3D1I7GGLR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" Target="slide161.xml"/><Relationship Id="rId2" Type="http://schemas.openxmlformats.org/officeDocument/2006/relationships/slide" Target="slide162.xml"/><Relationship Id="rId3" Type="http://schemas.openxmlformats.org/officeDocument/2006/relationships/slide" Target="slide149.xml"/><Relationship Id="rId4" Type="http://schemas.openxmlformats.org/officeDocument/2006/relationships/image" Target="../media/image25.wmf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" Target="slide160.xml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" Target="slide160.xml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" Target="slide168.xml"/><Relationship Id="rId2" Type="http://schemas.openxmlformats.org/officeDocument/2006/relationships/slide" Target="slide165.xml"/><Relationship Id="rId3" Type="http://schemas.openxmlformats.org/officeDocument/2006/relationships/slide" Target="slide166.xml"/><Relationship Id="rId4" Type="http://schemas.openxmlformats.org/officeDocument/2006/relationships/slide" Target="slide167.xml"/><Relationship Id="rId5" Type="http://schemas.openxmlformats.org/officeDocument/2006/relationships/slide" Target="slide168.xml"/><Relationship Id="rId6" Type="http://schemas.openxmlformats.org/officeDocument/2006/relationships/slide" Target="slide149.xml"/><Relationship Id="rId7" Type="http://schemas.openxmlformats.org/officeDocument/2006/relationships/image" Target="../media/image25.wmf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" Target="slide163.xml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" Target="slide163.xml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" Target="slide163.xml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" Target="slide163.xml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" Target="slide163.xml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" Target="slide149.xml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2.xml"/><Relationship Id="rId3" Type="http://schemas.openxmlformats.org/officeDocument/2006/relationships/slide" Target="slide85.xml"/><Relationship Id="rId4" Type="http://schemas.openxmlformats.org/officeDocument/2006/relationships/slide" Target="slide118.xml"/><Relationship Id="rId5" Type="http://schemas.openxmlformats.org/officeDocument/2006/relationships/slide" Target="slide149.xml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slide" Target="slide22.xml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6.wmf"/><Relationship Id="rId3" Type="http://schemas.openxmlformats.org/officeDocument/2006/relationships/slide" Target="slide26.xm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0.xml"/><Relationship Id="rId3" Type="http://schemas.openxmlformats.org/officeDocument/2006/relationships/slide" Target="slide16.xml"/><Relationship Id="rId4" Type="http://schemas.openxmlformats.org/officeDocument/2006/relationships/slide" Target="slide22.xml"/><Relationship Id="rId5" Type="http://schemas.openxmlformats.org/officeDocument/2006/relationships/image" Target="../media/image2.wmf"/><Relationship Id="rId6" Type="http://schemas.openxmlformats.org/officeDocument/2006/relationships/slide" Target="slide2.xml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slide" Target="slide32.xml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" Target="slide39.xml"/><Relationship Id="rId3" Type="http://schemas.openxmlformats.org/officeDocument/2006/relationships/slide" Target="slide40.xml"/><Relationship Id="rId4" Type="http://schemas.openxmlformats.org/officeDocument/2006/relationships/slide" Target="slide41.xml"/><Relationship Id="rId5" Type="http://schemas.openxmlformats.org/officeDocument/2006/relationships/slide" Target="slide42.xml"/><Relationship Id="rId6" Type="http://schemas.openxmlformats.org/officeDocument/2006/relationships/slide" Target="slide43.xml"/><Relationship Id="rId7" Type="http://schemas.openxmlformats.org/officeDocument/2006/relationships/slide" Target="slide44.xml"/><Relationship Id="rId8" Type="http://schemas.openxmlformats.org/officeDocument/2006/relationships/slide" Target="slide45.xml"/><Relationship Id="rId9" Type="http://schemas.openxmlformats.org/officeDocument/2006/relationships/slide" Target="slide46.xml"/><Relationship Id="rId10" Type="http://schemas.openxmlformats.org/officeDocument/2006/relationships/slide" Target="slide47.xml"/><Relationship Id="rId11" Type="http://schemas.openxmlformats.org/officeDocument/2006/relationships/slide" Target="slide48.xml"/><Relationship Id="rId12" Type="http://schemas.openxmlformats.org/officeDocument/2006/relationships/slide" Target="slide49.xml"/><Relationship Id="rId13" Type="http://schemas.openxmlformats.org/officeDocument/2006/relationships/slide" Target="slide50.xml"/><Relationship Id="rId14" Type="http://schemas.openxmlformats.org/officeDocument/2006/relationships/slide" Target="slide51.xml"/><Relationship Id="rId15" Type="http://schemas.openxmlformats.org/officeDocument/2006/relationships/slide" Target="slide52.xml"/><Relationship Id="rId16" Type="http://schemas.openxmlformats.org/officeDocument/2006/relationships/slide" Target="slide53.xml"/><Relationship Id="rId17" Type="http://schemas.openxmlformats.org/officeDocument/2006/relationships/slide" Target="slide54.xml"/><Relationship Id="rId18" Type="http://schemas.openxmlformats.org/officeDocument/2006/relationships/slide" Target="slide55.xml"/><Relationship Id="rId19" Type="http://schemas.openxmlformats.org/officeDocument/2006/relationships/slide" Target="slide3.xml"/><Relationship Id="rId20" Type="http://schemas.openxmlformats.org/officeDocument/2006/relationships/image" Target="../media/image2.wmf"/><Relationship Id="rId21" Type="http://schemas.openxmlformats.org/officeDocument/2006/relationships/slide" Target="slide37.xml"/><Relationship Id="rId22" Type="http://schemas.openxmlformats.org/officeDocument/2006/relationships/image" Target="../media/image9.wmf"/><Relationship Id="rId23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slide" Target="slide3.xml"/><Relationship Id="rId5" Type="http://schemas.openxmlformats.org/officeDocument/2006/relationships/image" Target="../media/image2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7.xml"/><Relationship Id="rId2" Type="http://schemas.openxmlformats.org/officeDocument/2006/relationships/slide" Target="slide58.xml"/><Relationship Id="rId3" Type="http://schemas.openxmlformats.org/officeDocument/2006/relationships/slide" Target="slide59.xml"/><Relationship Id="rId4" Type="http://schemas.openxmlformats.org/officeDocument/2006/relationships/slide" Target="slide60.xml"/><Relationship Id="rId5" Type="http://schemas.openxmlformats.org/officeDocument/2006/relationships/slide" Target="slide3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slide2.xm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slide" Target="slide62.xml"/><Relationship Id="rId3" Type="http://schemas.openxmlformats.org/officeDocument/2006/relationships/image" Target="../media/image11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67.xml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67.xml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67.xml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67.xml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74.xml"/><Relationship Id="rId3" Type="http://schemas.openxmlformats.org/officeDocument/2006/relationships/slide" Target="slide75.xml"/><Relationship Id="rId4" Type="http://schemas.openxmlformats.org/officeDocument/2006/relationships/slide" Target="slide76.xml"/><Relationship Id="rId5" Type="http://schemas.openxmlformats.org/officeDocument/2006/relationships/slide" Target="slide77.xml"/><Relationship Id="rId6" Type="http://schemas.openxmlformats.org/officeDocument/2006/relationships/slide" Target="slide78.xml"/><Relationship Id="rId7" Type="http://schemas.openxmlformats.org/officeDocument/2006/relationships/slide" Target="slide79.xml"/><Relationship Id="rId8" Type="http://schemas.openxmlformats.org/officeDocument/2006/relationships/slide" Target="slide80.xml"/><Relationship Id="rId9" Type="http://schemas.openxmlformats.org/officeDocument/2006/relationships/slide" Target="slide81.xml"/><Relationship Id="rId10" Type="http://schemas.openxmlformats.org/officeDocument/2006/relationships/slide" Target="slide82.xml"/><Relationship Id="rId11" Type="http://schemas.openxmlformats.org/officeDocument/2006/relationships/slide" Target="slide83.xml"/><Relationship Id="rId12" Type="http://schemas.openxmlformats.org/officeDocument/2006/relationships/slide" Target="slide62.xml"/><Relationship Id="rId13" Type="http://schemas.openxmlformats.org/officeDocument/2006/relationships/image" Target="../media/image11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slide" Target="slide92.xml"/><Relationship Id="rId3" Type="http://schemas.openxmlformats.org/officeDocument/2006/relationships/slide" Target="slide95.xml"/><Relationship Id="rId4" Type="http://schemas.openxmlformats.org/officeDocument/2006/relationships/slide" Target="slide98.xml"/><Relationship Id="rId5" Type="http://schemas.openxmlformats.org/officeDocument/2006/relationships/slide" Target="slide117.xml"/><Relationship Id="rId6" Type="http://schemas.openxmlformats.org/officeDocument/2006/relationships/image" Target="../media/image15.wmf"/><Relationship Id="rId7" Type="http://schemas.openxmlformats.org/officeDocument/2006/relationships/slide" Target="slide2.xml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slideLines.xml"/><Relationship Id="rId2" Type="http://schemas.openxmlformats.org/officeDocument/2006/relationships/slide" Target="slideLines.xml"/><Relationship Id="rId3" Type="http://schemas.openxmlformats.org/officeDocument/2006/relationships/slide" Target="slideCircle.xml"/><Relationship Id="rId4" Type="http://schemas.openxmlformats.org/officeDocument/2006/relationships/slide" Target="slide90.xml"/><Relationship Id="rId5" Type="http://schemas.openxmlformats.org/officeDocument/2006/relationships/slide" Target="slide91.xml"/><Relationship Id="rId6" Type="http://schemas.openxmlformats.org/officeDocument/2006/relationships/slide" Target="slide85.xml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93.xml"/><Relationship Id="rId2" Type="http://schemas.openxmlformats.org/officeDocument/2006/relationships/slide" Target="slide94.xml"/><Relationship Id="rId3" Type="http://schemas.openxmlformats.org/officeDocument/2006/relationships/slide" Target="slide85.xml"/><Relationship Id="rId4" Type="http://schemas.openxmlformats.org/officeDocument/2006/relationships/image" Target="../media/image15.wmf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slide92.xml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slide92.xml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slide96.xml"/><Relationship Id="rId2" Type="http://schemas.openxmlformats.org/officeDocument/2006/relationships/slide" Target="slide97.xml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slide95.xml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" Target="slide95.xml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slide99.xml"/><Relationship Id="rId2" Type="http://schemas.openxmlformats.org/officeDocument/2006/relationships/slide" Target="slide100.xml"/><Relationship Id="rId3" Type="http://schemas.openxmlformats.org/officeDocument/2006/relationships/slide" Target="slide101.xml"/><Relationship Id="rId4" Type="http://schemas.openxmlformats.org/officeDocument/2006/relationships/slide" Target="slide102.xml"/><Relationship Id="rId5" Type="http://schemas.openxmlformats.org/officeDocument/2006/relationships/slide" Target="slide103.xml"/><Relationship Id="rId6" Type="http://schemas.openxmlformats.org/officeDocument/2006/relationships/slide" Target="slide104.xml"/><Relationship Id="rId7" Type="http://schemas.openxmlformats.org/officeDocument/2006/relationships/slide" Target="slide105.xml"/><Relationship Id="rId8" Type="http://schemas.openxmlformats.org/officeDocument/2006/relationships/slide" Target="slide106.xml"/><Relationship Id="rId9" Type="http://schemas.openxmlformats.org/officeDocument/2006/relationships/slide" Target="slide107.xml"/><Relationship Id="rId10" Type="http://schemas.openxmlformats.org/officeDocument/2006/relationships/slide" Target="slide108.xml"/><Relationship Id="rId11" Type="http://schemas.openxmlformats.org/officeDocument/2006/relationships/slide" Target="slide109.xml"/><Relationship Id="rId12" Type="http://schemas.openxmlformats.org/officeDocument/2006/relationships/slide" Target="slide110.xml"/><Relationship Id="rId13" Type="http://schemas.openxmlformats.org/officeDocument/2006/relationships/slide" Target="slide111.xml"/><Relationship Id="rId14" Type="http://schemas.openxmlformats.org/officeDocument/2006/relationships/slide" Target="slide112.xml"/><Relationship Id="rId15" Type="http://schemas.openxmlformats.org/officeDocument/2006/relationships/slide" Target="slide113.xml"/><Relationship Id="rId16" Type="http://schemas.openxmlformats.org/officeDocument/2006/relationships/slide" Target="slide114.xml"/><Relationship Id="rId17" Type="http://schemas.openxmlformats.org/officeDocument/2006/relationships/slide" Target="slide115.xml"/><Relationship Id="rId18" Type="http://schemas.openxmlformats.org/officeDocument/2006/relationships/slide" Target="slide116.xml"/><Relationship Id="rId19" Type="http://schemas.openxmlformats.org/officeDocument/2006/relationships/slide" Target="slide85.xml"/><Relationship Id="rId20" Type="http://schemas.openxmlformats.org/officeDocument/2006/relationships/image" Target="../media/image15.wmf"/><Relationship Id="rId21" Type="http://schemas.openxmlformats.org/officeDocument/2006/relationships/image" Target="../media/image19.wmf"/><Relationship Id="rId22" Type="http://schemas.openxmlformats.org/officeDocument/2006/relationships/slideLayout" Target="../slideLayouts/slideLayout4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rade 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ndard 1 / Objective 2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stery Skills:  Number Se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and Order Numbers Relative to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and Order Fractions and Dec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Number Between Given Dig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Equivalent Fractions and Dec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Equivalent Fractions and Dec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562720"/>
            <a:ext cx="1193760" cy="1093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114300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rdi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quadr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secting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 sym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tuse 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ll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pendicu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e and Order Numbers Relative to S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48720" y="6019920"/>
            <a:ext cx="114300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ght 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ational Sym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ight 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loratory Concepts and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results of Transfor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s between two-dimension shapes and three-dimensional sh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867280"/>
            <a:ext cx="76212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tery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Objective 1:  Measurement of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Objective 2:  Measurement of Sh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Exploratory Concepts and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5"/>
          <a:stretch/>
        </p:blipFill>
        <p:spPr>
          <a:xfrm>
            <a:off x="762120" y="380880"/>
            <a:ext cx="1831680" cy="104796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467480" y="5257800"/>
            <a:ext cx="152424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4 / Objective 1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y Skills:  Measurement of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Metric units:  Measure, Identify, and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Customary Units: Measure, Identify, and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Angles:  Measure and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924680" y="6019920"/>
            <a:ext cx="9907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e and Order Fractions and Dec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Lin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48720" y="6019920"/>
            <a:ext cx="114300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ric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Weight /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533520" y="152280"/>
            <a:ext cx="1547640" cy="138276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924680" y="6019920"/>
            <a:ext cx="9907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943600"/>
            <a:ext cx="76212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943600"/>
            <a:ext cx="76212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ight /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943600"/>
            <a:ext cx="76212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stomary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924680" y="6019920"/>
            <a:ext cx="990720" cy="56664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6"/>
          <a:stretch/>
        </p:blipFill>
        <p:spPr>
          <a:xfrm>
            <a:off x="304920" y="152280"/>
            <a:ext cx="181908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838080" cy="67644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83808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ight /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838080" cy="67644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6019920"/>
            <a:ext cx="990720" cy="5666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4 / Objective 2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y Skills:  Measurement of Sh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rea of Rectan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Area of Right Trian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Relationships of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t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Peri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924680" y="6019920"/>
            <a:ext cx="990720" cy="56664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7"/>
          <a:stretch/>
        </p:blipFill>
        <p:spPr>
          <a:xfrm>
            <a:off x="228600" y="152280"/>
            <a:ext cx="148104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entify Number Between Given Dig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48720" y="6019920"/>
            <a:ext cx="114300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a of Rect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96080" y="6095880"/>
            <a:ext cx="1219320" cy="53352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a of Right Tri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96080" y="6095880"/>
            <a:ext cx="1219320" cy="53352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ionships of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96080" y="6095880"/>
            <a:ext cx="1219320" cy="53352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96080" y="6095880"/>
            <a:ext cx="1219320" cy="53352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enti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Ga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Kil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Li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Milli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Millili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Peri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P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Qu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7924680" y="6019920"/>
            <a:ext cx="990720" cy="56664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16"/>
          <a:stretch/>
        </p:blipFill>
        <p:spPr>
          <a:xfrm>
            <a:off x="609480" y="380880"/>
            <a:ext cx="10432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867280"/>
            <a:ext cx="744480" cy="76212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i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867280"/>
            <a:ext cx="744480" cy="76212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867280"/>
            <a:ext cx="744480" cy="76212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ll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867280"/>
            <a:ext cx="744480" cy="76212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867280"/>
            <a:ext cx="744480" cy="76212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entify Equivalent Fractions and Dec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48720" y="6019920"/>
            <a:ext cx="114300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l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867280"/>
            <a:ext cx="744480" cy="76212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867280"/>
            <a:ext cx="744480" cy="76212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867280"/>
            <a:ext cx="744480" cy="76212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lli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867280"/>
            <a:ext cx="744480" cy="76212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llil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867280"/>
            <a:ext cx="744480" cy="76212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867280"/>
            <a:ext cx="744480" cy="762120"/>
          </a:xfrm>
          <a:prstGeom prst="rect">
            <a:avLst/>
          </a:prstGeom>
          <a:ln w="0">
            <a:noFill/>
          </a:ln>
        </p:spPr>
      </p:pic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867280"/>
            <a:ext cx="744480" cy="76212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867280"/>
            <a:ext cx="744480" cy="76212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loratory Concepts and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the relationships between perimeter and ar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t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6019920"/>
            <a:ext cx="9907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y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Objective 1:  Data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Objective 2: 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Exploratory Concepts and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1447920" cy="131472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467480" y="5257800"/>
            <a:ext cx="152424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ate Equivalent Fractions and Dec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48720" y="6019920"/>
            <a:ext cx="114300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5 / Objective 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stery Skills: Data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, Organize, Interpret and Display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ar grap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Line 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Stem and leaf 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T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Grap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Surv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Outli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Cluster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8229600" y="6019920"/>
            <a:ext cx="762120" cy="69192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12"/>
          <a:stretch/>
        </p:blipFill>
        <p:spPr>
          <a:xfrm>
            <a:off x="457200" y="152280"/>
            <a:ext cx="990720" cy="7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 grap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943600"/>
            <a:ext cx="990720" cy="72720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ne plo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943600"/>
            <a:ext cx="990720" cy="72720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m and Leaf Plo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943600"/>
            <a:ext cx="990720" cy="72720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943600"/>
            <a:ext cx="990720" cy="72720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p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943600"/>
            <a:ext cx="990720" cy="72720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rve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943600"/>
            <a:ext cx="990720" cy="72720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943600"/>
            <a:ext cx="990720" cy="72720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943600"/>
            <a:ext cx="990720" cy="72720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us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943600"/>
            <a:ext cx="990720" cy="72720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1 / Objective 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stery Skills: Op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ication (_ _ x _ _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 intervals on a number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ing using an 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se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sion _ _ _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÷_ = _ _ _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sion of 0 is not poss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ular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ipul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nd Subtract Fra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 Denomi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Denomi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562720"/>
            <a:ext cx="1193760" cy="1093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280" y="228600"/>
            <a:ext cx="91440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5 / Objective 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stery Skills: Prob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Random Outcomes as Rat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Simple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repla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repla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29600" y="6019920"/>
            <a:ext cx="762120" cy="6919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5"/>
          <a:stretch/>
        </p:blipFill>
        <p:spPr>
          <a:xfrm>
            <a:off x="304920" y="228600"/>
            <a:ext cx="152388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Outcomes as Rat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943600"/>
            <a:ext cx="838440" cy="76680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Replac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Replac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943600"/>
            <a:ext cx="83844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Clu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Frequency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Out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229600" y="6019920"/>
            <a:ext cx="762120" cy="69192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8"/>
          <a:stretch/>
        </p:blipFill>
        <p:spPr>
          <a:xfrm>
            <a:off x="609480" y="228600"/>
            <a:ext cx="167652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943600"/>
            <a:ext cx="914400" cy="75888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943600"/>
            <a:ext cx="914400" cy="75888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quency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943600"/>
            <a:ext cx="914400" cy="75888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943600"/>
            <a:ext cx="914400" cy="75888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943600"/>
            <a:ext cx="914400" cy="758880"/>
          </a:xfrm>
          <a:prstGeom prst="rect">
            <a:avLst/>
          </a:prstGeom>
          <a:ln w="0">
            <a:noFill/>
          </a:ln>
        </p:spPr>
      </p:pic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loratory Concepts and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and Maximum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6019920"/>
            <a:ext cx="7621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ication (_ _ x _ _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al intervals on a numbe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867280"/>
            <a:ext cx="914400" cy="8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ing using an Arr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867280"/>
            <a:ext cx="914400" cy="8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867280"/>
            <a:ext cx="914400" cy="8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 – Number Sense and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2 – Patterns and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3 – Ge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4 – 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5 – Data and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304920" y="152280"/>
            <a:ext cx="152388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vision _ _ _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÷_ = _ _ _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vision of 0 is not possibl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angular Ar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ipul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867280"/>
            <a:ext cx="914400" cy="8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 and Subtract 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ke Denomin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fferent Denomin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867280"/>
            <a:ext cx="914400" cy="8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andard 1 / Objective 4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stery Skills: Strate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st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ntal M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ing a Calcu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ory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b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562720"/>
            <a:ext cx="1193760" cy="1093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04920" y="152280"/>
            <a:ext cx="9651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st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715000"/>
            <a:ext cx="9651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ental 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715000"/>
            <a:ext cx="9651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sing a Calcul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715000"/>
            <a:ext cx="9651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tory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rategies to Solve Story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715000"/>
            <a:ext cx="965160" cy="990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880" y="228600"/>
            <a:ext cx="86688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ulti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562720"/>
            <a:ext cx="8665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i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562720"/>
            <a:ext cx="8665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562720"/>
            <a:ext cx="8665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y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Objective 1: Number S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Objective 2:  Number S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Objective 3: 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Objective 4: 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 5: 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atory Concepts and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1193760" cy="1094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467480" y="5257800"/>
            <a:ext cx="152424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dd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562720"/>
            <a:ext cx="8665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ub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562720"/>
            <a:ext cx="8665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andard 1 / Objective 5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stery Skills: Op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th F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ultiplication:    _ _ _ x _ 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vision:    _ _ _ ÷ 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ractions:   _ / _ +- _ / 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562720"/>
            <a:ext cx="1193760" cy="1093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880" y="304920"/>
            <a:ext cx="137160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ath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43800" y="5791320"/>
            <a:ext cx="137160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ulti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43800" y="5791320"/>
            <a:ext cx="137160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i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43800" y="5791320"/>
            <a:ext cx="137160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43800" y="5791320"/>
            <a:ext cx="137160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tandard 1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Denomin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Divid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Divi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Equi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Expanded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In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Mult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Num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Quo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Squar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Standard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7772400" y="5562720"/>
            <a:ext cx="1193760" cy="10936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609480" y="22860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r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nomin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1 / Objective 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stery Skills:  Number Se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ded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Multiple Ways to Represent Whole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lace and Value of Digits in a 6-digit numeral including decimals to the te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Square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772400" y="5562720"/>
            <a:ext cx="1193760" cy="1093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152280" y="228600"/>
            <a:ext cx="11430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d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s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val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anded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anded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96080" y="5867280"/>
            <a:ext cx="11430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ot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uare Nu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752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ndard 1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ymb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 action="ppaction://hlinksldjump"/>
              </a:rPr>
              <a:t>≠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05920" y="6019920"/>
            <a:ext cx="68580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715000"/>
            <a:ext cx="79056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715000"/>
            <a:ext cx="79056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715000"/>
            <a:ext cx="79056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e Ways to Represent Whole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96080" y="5867280"/>
            <a:ext cx="11430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715000"/>
            <a:ext cx="79056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tandard 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xploratory Concept and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d and Subtract Dec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umbers Less Than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562720"/>
            <a:ext cx="119376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y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 1: 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 2:  Alge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atory Concepts and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743200" y="304920"/>
            <a:ext cx="365760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67480" y="5334120"/>
            <a:ext cx="152424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2 / Objective 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stery Skills:  Patter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s:  Determine Rule and Ext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Life Patter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 by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0120" y="6172200"/>
            <a:ext cx="1143000" cy="4572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4479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6095880"/>
            <a:ext cx="99072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 Life 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6095880"/>
            <a:ext cx="99072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y by 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6095880"/>
            <a:ext cx="99072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2  / Objective 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stery Skills:  Algeb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Order Of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ify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equations using &lt;, &gt;, =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20120" y="6172200"/>
            <a:ext cx="1143000" cy="4572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228600" y="228600"/>
            <a:ext cx="14158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der of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48720" y="6095880"/>
            <a:ext cx="990360" cy="5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48720" y="6095880"/>
            <a:ext cx="990360" cy="5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and Value of Digits in a 6-digit numeral including decimals to the te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96080" y="5867280"/>
            <a:ext cx="11430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 Equa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48720" y="6095880"/>
            <a:ext cx="990360" cy="5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48720" y="6095880"/>
            <a:ext cx="990360" cy="5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2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ssociative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ommutative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Distributive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Growing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Ine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Order of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Parenth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Zero property of Ad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Zero Property of Multi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7620120" y="6172200"/>
            <a:ext cx="1143000" cy="4572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14"/>
          <a:stretch/>
        </p:blipFill>
        <p:spPr>
          <a:xfrm>
            <a:off x="609480" y="228600"/>
            <a:ext cx="19051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sociative Prop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76212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utative Prop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76212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tributive Prop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76212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76212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76212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owing Patte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76212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e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76212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c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1/2, 1/3, ¼, 1/5, 1/6, 1/8, 1/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96080" y="5867280"/>
            <a:ext cx="11430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der of Op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76212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enthe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76212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ero property of Ad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76212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ro Property of Multiplicat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76212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2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loratory Concepts and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materials to show equality and ine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 properties of e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s are added to eq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s multiplied by eq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0120" y="6172200"/>
            <a:ext cx="11430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y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Objective 1:  Geometric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Objective 2:  Maps and Gr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Objective 3:  Transform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Exploratory Concepts and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228600" y="228600"/>
            <a:ext cx="1281240" cy="11667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467480" y="5257800"/>
            <a:ext cx="152424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3 / Objective 1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stery Skills:  Geometric Attribu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Parallel, Perpendicular, Intersecting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Right, Acute, Obtuse, and Straight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Radius, Diameter of a Ci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Sym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s of Sym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ional Sym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Congruent vs. Similar sh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229600" y="5867280"/>
            <a:ext cx="762120" cy="6937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8"/>
          <a:stretch/>
        </p:blipFill>
        <p:spPr>
          <a:xfrm>
            <a:off x="380880" y="152280"/>
            <a:ext cx="7416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llel, Perpendicular, Intersecting 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943600"/>
            <a:ext cx="741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ght, Acute, Obtuse, and Straight 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943600"/>
            <a:ext cx="741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us, Diameter of a Cir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943600"/>
            <a:ext cx="741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uare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96080" y="5867280"/>
            <a:ext cx="11430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s of Sym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ational Sym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943600"/>
            <a:ext cx="741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gruent vs. Similar sha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943600"/>
            <a:ext cx="741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ndard 3 / Objective 2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stery Skills:  Maps and Gr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Coordinate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Regions of Ut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29600" y="5867280"/>
            <a:ext cx="762120" cy="6937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5"/>
          <a:stretch/>
        </p:blipFill>
        <p:spPr>
          <a:xfrm>
            <a:off x="228600" y="304920"/>
            <a:ext cx="85716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rdin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4618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s of Ut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4618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3 / Objective 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stery Skills:  Transform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ransfor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ion (sli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ion (tur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ion (fl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An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 = ¼ 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0° = ½ 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70° = ¾ 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60° = full 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9907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867280"/>
            <a:ext cx="9907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867280"/>
            <a:ext cx="9907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cute 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ir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oordi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Di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First quadr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Intersecting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Line sym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Obtuse 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Parall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Perpendi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Rad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Ref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Right 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R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Rotational Sym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Straight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8229600" y="5867280"/>
            <a:ext cx="762120" cy="69372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1"/>
          <a:stretch/>
        </p:blipFill>
        <p:spPr>
          <a:xfrm>
            <a:off x="228600" y="1522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ute 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: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15:11:57Z</dcterms:created>
  <dc:creator>Darci.Mock</dc:creator>
  <dc:description/>
  <dc:language>en-US</dc:language>
  <cp:lastModifiedBy>darci.mock</cp:lastModifiedBy>
  <dcterms:modified xsi:type="dcterms:W3CDTF">2007-05-31T20:53:31Z</dcterms:modified>
  <cp:revision>14</cp:revision>
  <dc:subject/>
  <dc:title>4th Grade Math</dc:title>
</cp:coreProperties>
</file>