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image7.jpeg" ContentType="image/jpeg"/>
  <Override PartName="/ppt/media/image11.wmf" ContentType="image/x-wmf"/>
  <Override PartName="/ppt/media/image3.png" ContentType="image/png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.wmf" ContentType="image/x-wmf"/>
  <Override PartName="/ppt/media/image25.wmf" ContentType="image/x-wmf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1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7E55-F1F8-4FC5-9BAE-C417510A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F2D1-306F-46E2-AD03-9A2D2A09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9D4E-ACE7-4E8A-8AB1-C5EE3D9B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C99-28E5-4C7E-BDA3-6D056A39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6AB-1716-4539-B01B-A2243FB6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8E7-CF68-43E5-8180-0A22BF14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CA5-01D1-401C-9836-B3EFC775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7A7D-2E19-431F-9933-B6FE6F4A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FF6A-25A6-41BD-B1C6-693D59D6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5000-0ED4-4A3D-9FFE-A6125142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86E6-D082-4B08-8968-81907030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7067-6B34-4614-8BFE-F0260964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4A9C-C907-4C58-B78F-DD8908968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" Target="slide85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" Target="slide119.xml"/><Relationship Id="rId2" Type="http://schemas.openxmlformats.org/officeDocument/2006/relationships/slide" Target="slide129.xml"/><Relationship Id="rId3" Type="http://schemas.openxmlformats.org/officeDocument/2006/relationships/slide" Target="slide134.xml"/><Relationship Id="rId4" Type="http://schemas.openxmlformats.org/officeDocument/2006/relationships/slide" Target="slide148.xml"/><Relationship Id="rId5" Type="http://schemas.openxmlformats.org/officeDocument/2006/relationships/image" Target="../media/image20.wmf"/><Relationship Id="rId6" Type="http://schemas.openxmlformats.org/officeDocument/2006/relationships/slide" Target="slide2.xml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" Target="slide120.xml"/><Relationship Id="rId2" Type="http://schemas.openxmlformats.org/officeDocument/2006/relationships/slide" Target="slide121.xml"/><Relationship Id="rId3" Type="http://schemas.openxmlformats.org/officeDocument/2006/relationships/slide" Target="slide122.xml"/><Relationship Id="rId4" Type="http://schemas.openxmlformats.org/officeDocument/2006/relationships/slide" Target="slide123.xml"/><Relationship Id="rId5" Type="http://schemas.openxmlformats.org/officeDocument/2006/relationships/slide" Target="slide124.xml"/><Relationship Id="rId6" Type="http://schemas.openxmlformats.org/officeDocument/2006/relationships/slide" Target="slide125.xml"/><Relationship Id="rId7" Type="http://schemas.openxmlformats.org/officeDocument/2006/relationships/slide" Target="slide126.xml"/><Relationship Id="rId8" Type="http://schemas.openxmlformats.org/officeDocument/2006/relationships/slide" Target="slide127.xml"/><Relationship Id="rId9" Type="http://schemas.openxmlformats.org/officeDocument/2006/relationships/slide" Target="slide128.xml"/><Relationship Id="rId10" Type="http://schemas.openxmlformats.org/officeDocument/2006/relationships/slide" Target="slide118.xml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slide121.xml"/><Relationship Id="rId2" Type="http://schemas.openxmlformats.org/officeDocument/2006/relationships/slide" Target="slide122.xml"/><Relationship Id="rId3" Type="http://schemas.openxmlformats.org/officeDocument/2006/relationships/slide" Target="slide123.xml"/><Relationship Id="rId4" Type="http://schemas.openxmlformats.org/officeDocument/2006/relationships/image" Target="../media/image21.wmf"/><Relationship Id="rId5" Type="http://schemas.openxmlformats.org/officeDocument/2006/relationships/slide" Target="slide118.xml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" Target="slide120.xm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" Target="slide120.xm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" Target="slide120.xm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" Target="slide125.xml"/><Relationship Id="rId2" Type="http://schemas.openxmlformats.org/officeDocument/2006/relationships/slide" Target="slide126.xml"/><Relationship Id="rId3" Type="http://schemas.openxmlformats.org/officeDocument/2006/relationships/slide" Target="slide127.xml"/><Relationship Id="rId4" Type="http://schemas.openxmlformats.org/officeDocument/2006/relationships/slide" Target="slide118.xml"/><Relationship Id="rId5" Type="http://schemas.openxmlformats.org/officeDocument/2006/relationships/image" Target="../media/image20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" Target="slide124.xm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" Target="slide124.xm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" Target="slide124.xm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" Target="slide118.xm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" Target="slide130.xml"/><Relationship Id="rId2" Type="http://schemas.openxmlformats.org/officeDocument/2006/relationships/slide" Target="slide131.xml"/><Relationship Id="rId3" Type="http://schemas.openxmlformats.org/officeDocument/2006/relationships/slide" Target="slide132.xml"/><Relationship Id="rId4" Type="http://schemas.openxmlformats.org/officeDocument/2006/relationships/slide" Target="slide133.xml"/><Relationship Id="rId5" Type="http://schemas.openxmlformats.org/officeDocument/2006/relationships/slide" Target="slide118.xml"/><Relationship Id="rId6" Type="http://schemas.openxmlformats.org/officeDocument/2006/relationships/image" Target="../media/image20.wmf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" Target="slide129.xml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" Target="slide129.xml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" Target="slide129.xml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" Target="slide129.xml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" Target="slide135.xml"/><Relationship Id="rId2" Type="http://schemas.openxmlformats.org/officeDocument/2006/relationships/slide" Target="slide136.xml"/><Relationship Id="rId3" Type="http://schemas.openxmlformats.org/officeDocument/2006/relationships/slide" Target="slide137.xml"/><Relationship Id="rId4" Type="http://schemas.openxmlformats.org/officeDocument/2006/relationships/slide" Target="slide138.xml"/><Relationship Id="rId5" Type="http://schemas.openxmlformats.org/officeDocument/2006/relationships/slide" Target="slide139.xml"/><Relationship Id="rId6" Type="http://schemas.openxmlformats.org/officeDocument/2006/relationships/slide" Target="slide140.xml"/><Relationship Id="rId7" Type="http://schemas.openxmlformats.org/officeDocument/2006/relationships/slide" Target="slide141.xml"/><Relationship Id="rId8" Type="http://schemas.openxmlformats.org/officeDocument/2006/relationships/slide" Target="slide142.xml"/><Relationship Id="rId9" Type="http://schemas.openxmlformats.org/officeDocument/2006/relationships/slide" Target="slide143.xml"/><Relationship Id="rId10" Type="http://schemas.openxmlformats.org/officeDocument/2006/relationships/slide" Target="slide144.xml"/><Relationship Id="rId11" Type="http://schemas.openxmlformats.org/officeDocument/2006/relationships/slide" Target="slide145.xml"/><Relationship Id="rId12" Type="http://schemas.openxmlformats.org/officeDocument/2006/relationships/slide" Target="slide146.xml"/><Relationship Id="rId13" Type="http://schemas.openxmlformats.org/officeDocument/2006/relationships/slide" Target="slide147.xml"/><Relationship Id="rId14" Type="http://schemas.openxmlformats.org/officeDocument/2006/relationships/slide" Target="slide118.xml"/><Relationship Id="rId15" Type="http://schemas.openxmlformats.org/officeDocument/2006/relationships/image" Target="../media/image20.wmf"/><Relationship Id="rId16" Type="http://schemas.openxmlformats.org/officeDocument/2006/relationships/image" Target="../media/image24.wmf"/><Relationship Id="rId17" Type="http://schemas.openxmlformats.org/officeDocument/2006/relationships/slideLayout" Target="../slideLayouts/slideLayout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" Target="slide118.xm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slide" Target="slide160.xml"/><Relationship Id="rId3" Type="http://schemas.openxmlformats.org/officeDocument/2006/relationships/slide" Target="slide163.xml"/><Relationship Id="rId4" Type="http://schemas.openxmlformats.org/officeDocument/2006/relationships/slide" Target="slide169.xml"/><Relationship Id="rId5" Type="http://schemas.openxmlformats.org/officeDocument/2006/relationships/image" Target="../media/image25.wmf"/><Relationship Id="rId6" Type="http://schemas.openxmlformats.org/officeDocument/2006/relationships/slide" Target="slide2.xml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" Target="slide151.xml"/><Relationship Id="rId2" Type="http://schemas.openxmlformats.org/officeDocument/2006/relationships/slide" Target="slide152.xml"/><Relationship Id="rId3" Type="http://schemas.openxmlformats.org/officeDocument/2006/relationships/slide" Target="slide153.xml"/><Relationship Id="rId4" Type="http://schemas.openxmlformats.org/officeDocument/2006/relationships/slide" Target="slide154.xml"/><Relationship Id="rId5" Type="http://schemas.openxmlformats.org/officeDocument/2006/relationships/slide" Target="slide155.xml"/><Relationship Id="rId6" Type="http://schemas.openxmlformats.org/officeDocument/2006/relationships/slide" Target="slide156.xml"/><Relationship Id="rId7" Type="http://schemas.openxmlformats.org/officeDocument/2006/relationships/slide" Target="slide157.xml"/><Relationship Id="rId8" Type="http://schemas.openxmlformats.org/officeDocument/2006/relationships/slide" Target="slide158.xml"/><Relationship Id="rId9" Type="http://schemas.openxmlformats.org/officeDocument/2006/relationships/slide" Target="slide159.xml"/><Relationship Id="rId10" Type="http://schemas.openxmlformats.org/officeDocument/2006/relationships/slide" Target="slide149.xml"/><Relationship Id="rId11" Type="http://schemas.openxmlformats.org/officeDocument/2006/relationships/image" Target="../media/image25.wmf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hyperlink" Target="http://images.google.com/imgres?imgurl=http://www.mathnstuff.com/math/spoken/here/2class/60/multstr.gif&amp;imgrefurl=http://www.mathnstuff.com/math/spoken/here/1words/p/p38.htm&amp;h=677&amp;w=595&amp;sz=110&amp;hl=en&amp;sig2=kywkEnkkSnSoPV2aTDzVMA&amp;start=6&amp;um=1&amp;tbnid=91DeJzYNUJxM5M:&amp;tbnh=139&amp;tbnw=122&amp;ei=SSgMRpv5M4raqgPh2MH3BQ&amp;prev=/images%3Fq%3Dtimes%2Btables%26svnum%3D10%26um%3D1%26hl%3Den%26safe%3Dactive%26rls%3Dcom.microsoft:en-us:IE-SearchBox%26rlz%3D1I7GGLR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" Target="slide161.xml"/><Relationship Id="rId2" Type="http://schemas.openxmlformats.org/officeDocument/2006/relationships/slide" Target="slide162.xml"/><Relationship Id="rId3" Type="http://schemas.openxmlformats.org/officeDocument/2006/relationships/slide" Target="slide149.xml"/><Relationship Id="rId4" Type="http://schemas.openxmlformats.org/officeDocument/2006/relationships/image" Target="../media/image25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" Target="slide160.xm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" Target="slide160.xm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" Target="slide168.xml"/><Relationship Id="rId2" Type="http://schemas.openxmlformats.org/officeDocument/2006/relationships/slide" Target="slide165.xml"/><Relationship Id="rId3" Type="http://schemas.openxmlformats.org/officeDocument/2006/relationships/slide" Target="slide166.xml"/><Relationship Id="rId4" Type="http://schemas.openxmlformats.org/officeDocument/2006/relationships/slide" Target="slide167.xml"/><Relationship Id="rId5" Type="http://schemas.openxmlformats.org/officeDocument/2006/relationships/slide" Target="slide168.xml"/><Relationship Id="rId6" Type="http://schemas.openxmlformats.org/officeDocument/2006/relationships/slide" Target="slide149.xml"/><Relationship Id="rId7" Type="http://schemas.openxmlformats.org/officeDocument/2006/relationships/image" Target="../media/image25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" Target="slide163.xml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" Target="slide163.xml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" Target="slide163.xml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" Target="slide163.xml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" Target="slide163.xml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" Target="slide149.xm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2.xml"/><Relationship Id="rId3" Type="http://schemas.openxmlformats.org/officeDocument/2006/relationships/slide" Target="slide85.xml"/><Relationship Id="rId4" Type="http://schemas.openxmlformats.org/officeDocument/2006/relationships/slide" Target="slide118.xml"/><Relationship Id="rId5" Type="http://schemas.openxmlformats.org/officeDocument/2006/relationships/slide" Target="slide149.xml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" Target="slide22.xml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wmf"/><Relationship Id="rId3" Type="http://schemas.openxmlformats.org/officeDocument/2006/relationships/slide" Target="slide26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0.xml"/><Relationship Id="rId3" Type="http://schemas.openxmlformats.org/officeDocument/2006/relationships/slide" Target="slide16.xml"/><Relationship Id="rId4" Type="http://schemas.openxmlformats.org/officeDocument/2006/relationships/slide" Target="slide22.xml"/><Relationship Id="rId5" Type="http://schemas.openxmlformats.org/officeDocument/2006/relationships/image" Target="../media/image2.wmf"/><Relationship Id="rId6" Type="http://schemas.openxmlformats.org/officeDocument/2006/relationships/slide" Target="slide2.xml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" Target="slide32.xml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" Target="slide41.xml"/><Relationship Id="rId5" Type="http://schemas.openxmlformats.org/officeDocument/2006/relationships/slide" Target="slide42.xml"/><Relationship Id="rId6" Type="http://schemas.openxmlformats.org/officeDocument/2006/relationships/slide" Target="slide43.xml"/><Relationship Id="rId7" Type="http://schemas.openxmlformats.org/officeDocument/2006/relationships/slide" Target="slide44.xml"/><Relationship Id="rId8" Type="http://schemas.openxmlformats.org/officeDocument/2006/relationships/slide" Target="slide45.xml"/><Relationship Id="rId9" Type="http://schemas.openxmlformats.org/officeDocument/2006/relationships/slide" Target="slide46.xml"/><Relationship Id="rId10" Type="http://schemas.openxmlformats.org/officeDocument/2006/relationships/slide" Target="slide47.xml"/><Relationship Id="rId11" Type="http://schemas.openxmlformats.org/officeDocument/2006/relationships/slide" Target="slide48.xml"/><Relationship Id="rId12" Type="http://schemas.openxmlformats.org/officeDocument/2006/relationships/slide" Target="slide49.xml"/><Relationship Id="rId13" Type="http://schemas.openxmlformats.org/officeDocument/2006/relationships/slide" Target="slide50.xml"/><Relationship Id="rId14" Type="http://schemas.openxmlformats.org/officeDocument/2006/relationships/slide" Target="slide51.xml"/><Relationship Id="rId15" Type="http://schemas.openxmlformats.org/officeDocument/2006/relationships/slide" Target="slide52.xml"/><Relationship Id="rId16" Type="http://schemas.openxmlformats.org/officeDocument/2006/relationships/slide" Target="slide53.xml"/><Relationship Id="rId17" Type="http://schemas.openxmlformats.org/officeDocument/2006/relationships/slide" Target="slide54.xml"/><Relationship Id="rId18" Type="http://schemas.openxmlformats.org/officeDocument/2006/relationships/slide" Target="slide55.xml"/><Relationship Id="rId19" Type="http://schemas.openxmlformats.org/officeDocument/2006/relationships/slide" Target="slide3.xml"/><Relationship Id="rId20" Type="http://schemas.openxmlformats.org/officeDocument/2006/relationships/image" Target="../media/image2.wmf"/><Relationship Id="rId21" Type="http://schemas.openxmlformats.org/officeDocument/2006/relationships/slide" Target="slide37.xml"/><Relationship Id="rId22" Type="http://schemas.openxmlformats.org/officeDocument/2006/relationships/image" Target="../media/image9.wmf"/><Relationship Id="rId23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3.xml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" Target="slide58.xml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slide" Target="slide3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2.xm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62.xml"/><Relationship Id="rId3" Type="http://schemas.openxmlformats.org/officeDocument/2006/relationships/image" Target="../media/image11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5.xml"/><Relationship Id="rId4" Type="http://schemas.openxmlformats.org/officeDocument/2006/relationships/slide" Target="slide76.xml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slide" Target="slide79.xml"/><Relationship Id="rId8" Type="http://schemas.openxmlformats.org/officeDocument/2006/relationships/slide" Target="slide80.xml"/><Relationship Id="rId9" Type="http://schemas.openxmlformats.org/officeDocument/2006/relationships/slide" Target="slide81.xml"/><Relationship Id="rId10" Type="http://schemas.openxmlformats.org/officeDocument/2006/relationships/slide" Target="slide82.xml"/><Relationship Id="rId11" Type="http://schemas.openxmlformats.org/officeDocument/2006/relationships/slide" Target="slide83.xml"/><Relationship Id="rId12" Type="http://schemas.openxmlformats.org/officeDocument/2006/relationships/slide" Target="slide62.xml"/><Relationship Id="rId13" Type="http://schemas.openxmlformats.org/officeDocument/2006/relationships/image" Target="../media/image11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92.xml"/><Relationship Id="rId3" Type="http://schemas.openxmlformats.org/officeDocument/2006/relationships/slide" Target="slide95.xml"/><Relationship Id="rId4" Type="http://schemas.openxmlformats.org/officeDocument/2006/relationships/slide" Target="slide98.xml"/><Relationship Id="rId5" Type="http://schemas.openxmlformats.org/officeDocument/2006/relationships/slide" Target="slide117.xml"/><Relationship Id="rId6" Type="http://schemas.openxmlformats.org/officeDocument/2006/relationships/image" Target="../media/image15.wmf"/><Relationship Id="rId7" Type="http://schemas.openxmlformats.org/officeDocument/2006/relationships/slide" Target="slide2.xml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Lines.xml"/><Relationship Id="rId2" Type="http://schemas.openxmlformats.org/officeDocument/2006/relationships/slide" Target="slideLines.xml"/><Relationship Id="rId3" Type="http://schemas.openxmlformats.org/officeDocument/2006/relationships/slide" Target="slideCircle.xml"/><Relationship Id="rId4" Type="http://schemas.openxmlformats.org/officeDocument/2006/relationships/slide" Target="slide90.xml"/><Relationship Id="rId5" Type="http://schemas.openxmlformats.org/officeDocument/2006/relationships/slide" Target="slide91.xml"/><Relationship Id="rId6" Type="http://schemas.openxmlformats.org/officeDocument/2006/relationships/slide" Target="slide85.xml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93.xml"/><Relationship Id="rId2" Type="http://schemas.openxmlformats.org/officeDocument/2006/relationships/slide" Target="slide94.xml"/><Relationship Id="rId3" Type="http://schemas.openxmlformats.org/officeDocument/2006/relationships/slide" Target="slide85.xml"/><Relationship Id="rId4" Type="http://schemas.openxmlformats.org/officeDocument/2006/relationships/image" Target="../media/image15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96.xml"/><Relationship Id="rId2" Type="http://schemas.openxmlformats.org/officeDocument/2006/relationships/slide" Target="slide97.xml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99.xml"/><Relationship Id="rId2" Type="http://schemas.openxmlformats.org/officeDocument/2006/relationships/slide" Target="slide100.xml"/><Relationship Id="rId3" Type="http://schemas.openxmlformats.org/officeDocument/2006/relationships/slide" Target="slide101.xml"/><Relationship Id="rId4" Type="http://schemas.openxmlformats.org/officeDocument/2006/relationships/slide" Target="slide102.xml"/><Relationship Id="rId5" Type="http://schemas.openxmlformats.org/officeDocument/2006/relationships/slide" Target="slide103.xml"/><Relationship Id="rId6" Type="http://schemas.openxmlformats.org/officeDocument/2006/relationships/slide" Target="slide104.xml"/><Relationship Id="rId7" Type="http://schemas.openxmlformats.org/officeDocument/2006/relationships/slide" Target="slide105.xml"/><Relationship Id="rId8" Type="http://schemas.openxmlformats.org/officeDocument/2006/relationships/slide" Target="slide106.xml"/><Relationship Id="rId9" Type="http://schemas.openxmlformats.org/officeDocument/2006/relationships/slide" Target="slide107.xml"/><Relationship Id="rId10" Type="http://schemas.openxmlformats.org/officeDocument/2006/relationships/slide" Target="slide108.xml"/><Relationship Id="rId11" Type="http://schemas.openxmlformats.org/officeDocument/2006/relationships/slide" Target="slide109.xml"/><Relationship Id="rId12" Type="http://schemas.openxmlformats.org/officeDocument/2006/relationships/slide" Target="slide110.xml"/><Relationship Id="rId13" Type="http://schemas.openxmlformats.org/officeDocument/2006/relationships/slide" Target="slide111.xml"/><Relationship Id="rId14" Type="http://schemas.openxmlformats.org/officeDocument/2006/relationships/slide" Target="slide112.xml"/><Relationship Id="rId15" Type="http://schemas.openxmlformats.org/officeDocument/2006/relationships/slide" Target="slide113.xml"/><Relationship Id="rId16" Type="http://schemas.openxmlformats.org/officeDocument/2006/relationships/slide" Target="slide114.xml"/><Relationship Id="rId17" Type="http://schemas.openxmlformats.org/officeDocument/2006/relationships/slide" Target="slide115.xml"/><Relationship Id="rId18" Type="http://schemas.openxmlformats.org/officeDocument/2006/relationships/slide" Target="slide116.xml"/><Relationship Id="rId19" Type="http://schemas.openxmlformats.org/officeDocument/2006/relationships/slide" Target="slide85.xml"/><Relationship Id="rId20" Type="http://schemas.openxmlformats.org/officeDocument/2006/relationships/image" Target="../media/image15.wmf"/><Relationship Id="rId21" Type="http://schemas.openxmlformats.org/officeDocument/2006/relationships/image" Target="../media/image19.wmf"/><Relationship Id="rId22" Type="http://schemas.openxmlformats.org/officeDocument/2006/relationships/slideLayout" Target="../slideLayouts/slideLayout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1 / Objective 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tery Skills:  Number S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Order Numbers Relative to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Order Fractions and Dec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Number Between Given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Equivalent Fractions and Dec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Equivalent Fractions and Dec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14300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quad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secting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 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tuse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pendic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and Order Numbers Relative to 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19920"/>
            <a:ext cx="11430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al 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ight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ratory Concepts and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results of Trans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s between two-dimension shapes and three-dimensional 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6212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Objective 1:  Measurement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Objective 2:  Measurement of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xploratory Concepts an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5"/>
          <a:stretch/>
        </p:blipFill>
        <p:spPr>
          <a:xfrm>
            <a:off x="762120" y="380880"/>
            <a:ext cx="1831680" cy="10479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67480" y="5257800"/>
            <a:ext cx="1524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4 / Objective 1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Skills:  Measurement of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etric units:  Measure, Identify, and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Customary Units: Measure, Identify, and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Angles:  Measure and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and Order Fractions and Dec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Li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19920"/>
            <a:ext cx="11430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Weight /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533520" y="152280"/>
            <a:ext cx="1547640" cy="13827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76212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76212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 /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76212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mary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6"/>
          <a:stretch/>
        </p:blipFill>
        <p:spPr>
          <a:xfrm>
            <a:off x="304920" y="152280"/>
            <a:ext cx="18190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838080" cy="6764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8380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 /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838080" cy="6764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4 / Objective 2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Skills:  Measurement of 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rea of Rect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Area of Right Tri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Relationships of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Per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7"/>
          <a:stretch/>
        </p:blipFill>
        <p:spPr>
          <a:xfrm>
            <a:off x="228600" y="152280"/>
            <a:ext cx="14810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 Number Between Given Dig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19920"/>
            <a:ext cx="11430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 of Rect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6095880"/>
            <a:ext cx="1219320" cy="53352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 of Right Tri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6095880"/>
            <a:ext cx="1219320" cy="5335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onships of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6095880"/>
            <a:ext cx="1219320" cy="53352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6095880"/>
            <a:ext cx="1219320" cy="53352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enti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Ga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L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Milli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Millil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Peri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P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Qu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16"/>
          <a:stretch/>
        </p:blipFill>
        <p:spPr>
          <a:xfrm>
            <a:off x="609480" y="380880"/>
            <a:ext cx="10432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i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 Equivalent Fractions and Dec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19920"/>
            <a:ext cx="11430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i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il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ratory Concepts and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the relationships between perimeter and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Objective 1: 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Objective 2: 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xploratory Concepts and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1447920" cy="13147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67480" y="5257800"/>
            <a:ext cx="1524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te Equivalent Fractions and Dec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19920"/>
            <a:ext cx="11430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5 / Objective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Data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, Organize, Interpret and Display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r 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ine 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tem and leaf 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T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Outli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Cluster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229600" y="6019920"/>
            <a:ext cx="762120" cy="6919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12"/>
          <a:stretch/>
        </p:blipFill>
        <p:spPr>
          <a:xfrm>
            <a:off x="457200" y="152280"/>
            <a:ext cx="99072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 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e pl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m and Leaf Pl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u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1 / Objective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ication (_ _ x _ _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intervals on a number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ing using an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 _ _ _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÷_ = _ _ _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 of 0 is not pos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ular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d Subtract Fr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Deno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Deno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228600"/>
            <a:ext cx="91440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5 / Objective 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Prob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Random Outcomes as Ra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imple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repla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repla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29600" y="6019920"/>
            <a:ext cx="762120" cy="6919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5"/>
          <a:stretch/>
        </p:blipFill>
        <p:spPr>
          <a:xfrm>
            <a:off x="304920" y="228600"/>
            <a:ext cx="152388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Outcomes as Rat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838440" cy="7668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pla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Repla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8384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Frequency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Out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29600" y="6019920"/>
            <a:ext cx="762120" cy="69192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8"/>
          <a:stretch/>
        </p:blipFill>
        <p:spPr>
          <a:xfrm>
            <a:off x="609480" y="228600"/>
            <a:ext cx="16765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914400" cy="75888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914400" cy="75888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914400" cy="75888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914400" cy="75888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914400" cy="75888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ratory Concepts and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and Maximum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019920"/>
            <a:ext cx="7621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ication (_ _ x _ _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 intervals on a 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867280"/>
            <a:ext cx="914400" cy="8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using an 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867280"/>
            <a:ext cx="914400" cy="8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867280"/>
            <a:ext cx="914400" cy="8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 – Number Sense and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 – Patterns and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 – 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 –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5 – Data and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304920" y="152280"/>
            <a:ext cx="15238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vision _ _ _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÷_ = _ _ _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vision of 0 is not possib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ular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pul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867280"/>
            <a:ext cx="914400" cy="8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and Subtract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ke Denom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Denom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867280"/>
            <a:ext cx="914400" cy="8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andard 1 / Objective 4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stery Skills: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ntal 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ing a Calc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ory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152280"/>
            <a:ext cx="9651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st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715000"/>
            <a:ext cx="9651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ental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715000"/>
            <a:ext cx="9651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ing a Calcu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715000"/>
            <a:ext cx="9651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tor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ategies to Solve Story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715000"/>
            <a:ext cx="965160" cy="990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228600"/>
            <a:ext cx="8668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562720"/>
            <a:ext cx="866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562720"/>
            <a:ext cx="866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562720"/>
            <a:ext cx="866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Objective 1: Number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Objective 2:  Number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Objective 3: 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Objective 4: 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5: 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atory Concepts and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1193760" cy="1094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67480" y="5257800"/>
            <a:ext cx="1524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d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562720"/>
            <a:ext cx="866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ub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562720"/>
            <a:ext cx="866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andard 1 / Objective 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stery Skills: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th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plication:    _ _ _ x _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vision:    _ _ _ ÷ 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actions:   _ / _ +- _ /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304920"/>
            <a:ext cx="1371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th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91320"/>
            <a:ext cx="1371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91320"/>
            <a:ext cx="1371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91320"/>
            <a:ext cx="1371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91320"/>
            <a:ext cx="1371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andard 1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enom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Divid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Di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Expand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In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Mult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Num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Quo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Squar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Standar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609480" y="22860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omin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1 / Objective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 Number S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ultiple Ways to Represent Whol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ce and Value of Digits in a 6-digit numeral including decimals to the te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quar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152280" y="228600"/>
            <a:ext cx="1143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val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anded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anded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ot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are Nu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≠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05920" y="6019920"/>
            <a:ext cx="6858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15000"/>
            <a:ext cx="79056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15000"/>
            <a:ext cx="79056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15000"/>
            <a:ext cx="79056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Ways to Represent Whole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15000"/>
            <a:ext cx="79056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andard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ploratory Concept and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and Subtract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umbers Less Than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1: 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2: 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atory Concepts and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365760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67480" y="5334120"/>
            <a:ext cx="1524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2 / Objective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 Patt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s:  Determine Rule and Ext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Life Patter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by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617220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4479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6095880"/>
            <a:ext cx="99072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Life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6095880"/>
            <a:ext cx="99072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y by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6095880"/>
            <a:ext cx="99072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2  / Objective 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Order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equations using &lt;, &gt;, =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617220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14158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95880"/>
            <a:ext cx="99036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95880"/>
            <a:ext cx="99036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and Value of Digits in a 6-digit numeral including decimals to the te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Equ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95880"/>
            <a:ext cx="99036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95880"/>
            <a:ext cx="99036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2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ssociat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ommutat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Distribut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Growing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In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Order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Paren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Zero property of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Zero Property of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620120" y="617220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4"/>
          <a:stretch/>
        </p:blipFill>
        <p:spPr>
          <a:xfrm>
            <a:off x="609480" y="228600"/>
            <a:ext cx="19051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ociative Prop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tative Prop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ing Pat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c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/2, 1/3, ¼, 1/5, 1/6, 1/8, 1/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der of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he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ero property of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 Property of Multiplic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2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ratory Concepts and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aterials to show equality and in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properties of 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s are added to eq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s multiplied by eq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6172200"/>
            <a:ext cx="11430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Objective 1:  Geometric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Objective 2:  Maps and Gr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Objective 3:  Transfor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Exploratory Concepts and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1281240" cy="1166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67480" y="5257800"/>
            <a:ext cx="1524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3 / Objective 1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tery Skills:  Geometric Attrib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arallel, Perpendicular, Intersecting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Right, Acute, Obtuse, and Straight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Radius, Diameter of a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of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al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Congruent vs. Similar 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29600" y="5867280"/>
            <a:ext cx="762120" cy="693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8"/>
          <a:stretch/>
        </p:blipFill>
        <p:spPr>
          <a:xfrm>
            <a:off x="380880" y="152280"/>
            <a:ext cx="7416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llel, Perpendicular, Intersecting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943600"/>
            <a:ext cx="741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, Acute, Obtuse, and Straight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943600"/>
            <a:ext cx="741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us, Diameter of a Ci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943600"/>
            <a:ext cx="741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ar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s of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ional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943600"/>
            <a:ext cx="741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uent vs. Similar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943600"/>
            <a:ext cx="741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3 / Objective 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tery Skills:  Maps and Gr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oordinat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Regions of Ut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29600" y="5867280"/>
            <a:ext cx="762120" cy="693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8571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4618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s of Ut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4618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3 / Objective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 Transfor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rans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 (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(tur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 (fl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 = ¼ 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0° = ½ 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70° = ¾ 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60° = full 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9907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867280"/>
            <a:ext cx="9907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867280"/>
            <a:ext cx="9907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cute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oord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First quad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Intersecting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Line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Obtuse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Perpendi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Righ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Rotational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8229600" y="5867280"/>
            <a:ext cx="762120" cy="6937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1"/>
          <a:stretch/>
        </p:blipFill>
        <p:spPr>
          <a:xfrm>
            <a:off x="228600" y="152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ute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5:11:57Z</dcterms:created>
  <dc:creator>Darci.Mock</dc:creator>
  <dc:description/>
  <dc:language>en-US</dc:language>
  <cp:lastModifiedBy>darci.mock</cp:lastModifiedBy>
  <dcterms:modified xsi:type="dcterms:W3CDTF">2007-05-31T20:53:31Z</dcterms:modified>
  <cp:revision>14</cp:revision>
  <dc:subject/>
  <dc:title>4th Grade Math</dc:title>
</cp:coreProperties>
</file>