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A469-568A-4D1A-A3FC-8D3D9D38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D549-67FC-40D0-A6DD-11C6BD2D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7ED4-69C9-4F07-9CD0-A2329E81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6F85-7AAB-4569-87AC-D0E13EF6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8948-9300-4ACB-8948-EE46E3DD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C026-9399-4D1C-A73B-87D0B445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3F00-FA7F-4432-85AD-02A7134D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E44B-0EB1-49D5-93C6-2540CD51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1B3F-21B7-4E73-994D-9944C34D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2516-A229-4C32-AB0C-076A9D5D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0D32-9AE4-448A-9B05-1279B6B5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158D-C343-4CB9-B85C-7361C56B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2750-76F9-4B75-ADFE-A2348E476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Comic Sans MS"/>
              </a:rPr>
              <a:t>Setting</a:t>
            </a:r>
            <a:br>
              <a:rPr sz="6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rd Grade, Language A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y Ruebus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cCurdy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72388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81080" y="609480"/>
            <a:ext cx="5257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rite a Stor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05120" y="5791320"/>
            <a:ext cx="5181480" cy="1066680"/>
          </a:xfrm>
          <a:prstGeom prst="rect">
            <a:avLst/>
          </a:prstGeom>
          <a:ln w="0">
            <a:noFill/>
          </a:ln>
        </p:spPr>
      </p:pic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0" y="4495680"/>
            <a:ext cx="1347840" cy="1295640"/>
          </a:xfrm>
          <a:custGeom>
            <a:avLst/>
            <a:gdLst>
              <a:gd name="textAreaLeft" fmla="*/ 83880 w 1347840"/>
              <a:gd name="textAreaRight" fmla="*/ 1263960 w 134784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2470" h="21600">
                <a:moveTo>
                  <a:pt x="0" y="0"/>
                </a:moveTo>
                <a:lnTo>
                  <a:pt x="22470" y="0"/>
                </a:lnTo>
                <a:lnTo>
                  <a:pt x="22470" y="21600"/>
                </a:lnTo>
                <a:lnTo>
                  <a:pt x="0" y="21600"/>
                </a:lnTo>
                <a:close/>
              </a:path>
              <a:path fill="lightenLess" w="22470" h="21600">
                <a:moveTo>
                  <a:pt x="0" y="0"/>
                </a:moveTo>
                <a:lnTo>
                  <a:pt x="22470" y="0"/>
                </a:lnTo>
                <a:lnTo>
                  <a:pt x="21070" y="1400"/>
                </a:lnTo>
                <a:lnTo>
                  <a:pt x="1400" y="1400"/>
                </a:lnTo>
                <a:close/>
              </a:path>
              <a:path fill="darken" w="22470" h="21600">
                <a:moveTo>
                  <a:pt x="22470" y="0"/>
                </a:moveTo>
                <a:lnTo>
                  <a:pt x="22470" y="21600"/>
                </a:lnTo>
                <a:lnTo>
                  <a:pt x="21070" y="20200"/>
                </a:lnTo>
                <a:lnTo>
                  <a:pt x="21070" y="1400"/>
                </a:lnTo>
                <a:close/>
              </a:path>
              <a:path fill="darkenLess" w="22470" h="21600">
                <a:moveTo>
                  <a:pt x="2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70" y="20200"/>
                </a:lnTo>
                <a:close/>
              </a:path>
              <a:path fill="lighten" w="2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raw a picture of Quinn going to school. Include details that will show </a:t>
            </a:r>
            <a:r>
              <a:rPr b="0" i="1" lang="en-US" sz="5400" spc="-1" strike="noStrike">
                <a:solidFill>
                  <a:srgbClr val="000000"/>
                </a:solidFill>
                <a:latin typeface="Comic Sans MS"/>
              </a:rPr>
              <a:t>tim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5400" spc="-1" strike="noStrike">
                <a:solidFill>
                  <a:srgbClr val="000000"/>
                </a:solidFill>
                <a:latin typeface="Comic Sans MS"/>
              </a:rPr>
              <a:t>plac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62520" y="4724280"/>
            <a:ext cx="1218960" cy="213372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1219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70866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rite a paragrap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escribing details of the sett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458640" cy="2325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981080" y="304920"/>
            <a:ext cx="2892600" cy="316368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1143000" y="601992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5760" y="10800"/>
                </a:moveTo>
                <a:lnTo>
                  <a:pt x="19773" y="3794"/>
                </a:lnTo>
                <a:lnTo>
                  <a:pt x="19773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701028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0899" y="10800"/>
                </a:moveTo>
                <a:lnTo>
                  <a:pt x="21405" y="3794"/>
                </a:lnTo>
                <a:lnTo>
                  <a:pt x="21405" y="17806"/>
                </a:lnTo>
                <a:close/>
              </a:path>
              <a:path fill="darken" w="28796" h="21600">
                <a:moveTo>
                  <a:pt x="7392" y="3794"/>
                </a:moveTo>
                <a:lnTo>
                  <a:pt x="9054" y="3794"/>
                </a:lnTo>
                <a:lnTo>
                  <a:pt x="9054" y="17806"/>
                </a:lnTo>
                <a:lnTo>
                  <a:pt x="7392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40560" y="556272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65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ting is establishing the place, time, season, time of day, historical period, mood, and the like in which a story happ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7816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1080" y="1371600"/>
            <a:ext cx="76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ive:  The students will practic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ements of story setting.  This should hel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m compose a story to a prom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9960" y="29908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11430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67816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360" y="685800"/>
            <a:ext cx="796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ity:  The students will draw a picture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w a setting.  If time allows they can wri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tences to describe the se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4520" y="2133720"/>
            <a:ext cx="7927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Read through the slides and discuss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the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Follow the directions and draw a pic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 the sentence as they pictur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In groups or as a class, write a paragrap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cribing the se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99ffcc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etting is the place and time, or where and when a story happens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1852560" cy="1789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286000" cy="19940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1066680" y="6095880"/>
            <a:ext cx="1043280" cy="762120"/>
          </a:xfrm>
          <a:custGeom>
            <a:avLst/>
            <a:gdLst>
              <a:gd name="textAreaLeft" fmla="*/ 49320 w 1043280"/>
              <a:gd name="textAreaRight" fmla="*/ 993960 w 1043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65" h="21600">
                <a:moveTo>
                  <a:pt x="0" y="0"/>
                </a:moveTo>
                <a:lnTo>
                  <a:pt x="29565" y="0"/>
                </a:lnTo>
                <a:lnTo>
                  <a:pt x="29565" y="21600"/>
                </a:lnTo>
                <a:lnTo>
                  <a:pt x="0" y="21600"/>
                </a:lnTo>
                <a:close/>
              </a:path>
              <a:path fill="lightenLess" w="29565" h="21600">
                <a:moveTo>
                  <a:pt x="0" y="0"/>
                </a:moveTo>
                <a:lnTo>
                  <a:pt x="29565" y="0"/>
                </a:lnTo>
                <a:lnTo>
                  <a:pt x="28165" y="1400"/>
                </a:lnTo>
                <a:lnTo>
                  <a:pt x="1400" y="1400"/>
                </a:lnTo>
                <a:close/>
              </a:path>
              <a:path fill="darken" w="29565" h="21600">
                <a:moveTo>
                  <a:pt x="29565" y="0"/>
                </a:moveTo>
                <a:lnTo>
                  <a:pt x="29565" y="21600"/>
                </a:lnTo>
                <a:lnTo>
                  <a:pt x="28165" y="20200"/>
                </a:lnTo>
                <a:lnTo>
                  <a:pt x="28165" y="1400"/>
                </a:lnTo>
                <a:close/>
              </a:path>
              <a:path fill="darkenLess" w="29565" h="21600">
                <a:moveTo>
                  <a:pt x="29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65" y="20200"/>
                </a:lnTo>
                <a:close/>
              </a:path>
              <a:path fill="lighten" w="29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65" h="21600">
                <a:moveTo>
                  <a:pt x="7776" y="10800"/>
                </a:moveTo>
                <a:lnTo>
                  <a:pt x="21789" y="3794"/>
                </a:lnTo>
                <a:lnTo>
                  <a:pt x="21789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71629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icture this sentence in your mind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Quinn was walking to scho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9880" y="4807080"/>
            <a:ext cx="2286000" cy="176688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990720" y="6019920"/>
            <a:ext cx="1042920" cy="838080"/>
          </a:xfrm>
          <a:custGeom>
            <a:avLst/>
            <a:gdLst>
              <a:gd name="textAreaLeft" fmla="*/ 54000 w 1042920"/>
              <a:gd name="textAreaRight" fmla="*/ 988920 w 1042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6877" h="21600">
                <a:moveTo>
                  <a:pt x="0" y="0"/>
                </a:moveTo>
                <a:lnTo>
                  <a:pt x="26877" y="0"/>
                </a:lnTo>
                <a:lnTo>
                  <a:pt x="26877" y="21600"/>
                </a:lnTo>
                <a:lnTo>
                  <a:pt x="0" y="21600"/>
                </a:lnTo>
                <a:close/>
              </a:path>
              <a:path fill="lightenLess" w="26877" h="21600">
                <a:moveTo>
                  <a:pt x="0" y="0"/>
                </a:moveTo>
                <a:lnTo>
                  <a:pt x="26877" y="0"/>
                </a:lnTo>
                <a:lnTo>
                  <a:pt x="25477" y="1400"/>
                </a:lnTo>
                <a:lnTo>
                  <a:pt x="1400" y="1400"/>
                </a:lnTo>
                <a:close/>
              </a:path>
              <a:path fill="darken" w="26877" h="21600">
                <a:moveTo>
                  <a:pt x="26877" y="0"/>
                </a:moveTo>
                <a:lnTo>
                  <a:pt x="26877" y="21600"/>
                </a:lnTo>
                <a:lnTo>
                  <a:pt x="25477" y="20200"/>
                </a:lnTo>
                <a:lnTo>
                  <a:pt x="25477" y="1400"/>
                </a:lnTo>
                <a:close/>
              </a:path>
              <a:path fill="darkenLess" w="26877" h="21600">
                <a:moveTo>
                  <a:pt x="26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77" y="20200"/>
                </a:lnTo>
                <a:close/>
              </a:path>
              <a:path fill="lighten" w="26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77" h="21600">
                <a:moveTo>
                  <a:pt x="6432" y="10800"/>
                </a:moveTo>
                <a:lnTo>
                  <a:pt x="20445" y="3794"/>
                </a:lnTo>
                <a:lnTo>
                  <a:pt x="20445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7238880" y="5943600"/>
            <a:ext cx="1043280" cy="914400"/>
          </a:xfrm>
          <a:custGeom>
            <a:avLst/>
            <a:gdLst>
              <a:gd name="textAreaLeft" fmla="*/ 59040 w 1043280"/>
              <a:gd name="textAreaRight" fmla="*/ 984240 w 1043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4643" h="21600">
                <a:moveTo>
                  <a:pt x="0" y="0"/>
                </a:moveTo>
                <a:lnTo>
                  <a:pt x="24643" y="0"/>
                </a:lnTo>
                <a:lnTo>
                  <a:pt x="24643" y="21600"/>
                </a:lnTo>
                <a:lnTo>
                  <a:pt x="0" y="21600"/>
                </a:lnTo>
                <a:close/>
              </a:path>
              <a:path fill="lightenLess" w="24643" h="21600">
                <a:moveTo>
                  <a:pt x="0" y="0"/>
                </a:moveTo>
                <a:lnTo>
                  <a:pt x="24643" y="0"/>
                </a:lnTo>
                <a:lnTo>
                  <a:pt x="23243" y="1400"/>
                </a:lnTo>
                <a:lnTo>
                  <a:pt x="1400" y="1400"/>
                </a:lnTo>
                <a:close/>
              </a:path>
              <a:path fill="darken" w="24643" h="21600">
                <a:moveTo>
                  <a:pt x="24643" y="0"/>
                </a:moveTo>
                <a:lnTo>
                  <a:pt x="24643" y="21600"/>
                </a:lnTo>
                <a:lnTo>
                  <a:pt x="23243" y="20200"/>
                </a:lnTo>
                <a:lnTo>
                  <a:pt x="23243" y="1400"/>
                </a:lnTo>
                <a:close/>
              </a:path>
              <a:path fill="darkenLess" w="24643" h="21600">
                <a:moveTo>
                  <a:pt x="24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3" y="20200"/>
                </a:lnTo>
                <a:close/>
              </a:path>
              <a:path fill="lighten" w="24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3" h="21600">
                <a:moveTo>
                  <a:pt x="5315" y="3794"/>
                </a:moveTo>
                <a:lnTo>
                  <a:pt x="19328" y="10800"/>
                </a:lnTo>
                <a:lnTo>
                  <a:pt x="5315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d you picture--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country,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city,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r the suburb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962520" y="5016600"/>
            <a:ext cx="2743200" cy="145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791320" y="2362320"/>
            <a:ext cx="2754360" cy="1692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838080" y="2057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14479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10800"/>
                </a:moveTo>
                <a:lnTo>
                  <a:pt x="21784" y="3794"/>
                </a:lnTo>
                <a:lnTo>
                  <a:pt x="21784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7162920" y="6019920"/>
            <a:ext cx="1042920" cy="838080"/>
          </a:xfrm>
          <a:custGeom>
            <a:avLst/>
            <a:gdLst>
              <a:gd name="textAreaLeft" fmla="*/ 54000 w 1042920"/>
              <a:gd name="textAreaRight" fmla="*/ 988920 w 1042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6877" h="21600">
                <a:moveTo>
                  <a:pt x="0" y="0"/>
                </a:moveTo>
                <a:lnTo>
                  <a:pt x="26877" y="0"/>
                </a:lnTo>
                <a:lnTo>
                  <a:pt x="26877" y="21600"/>
                </a:lnTo>
                <a:lnTo>
                  <a:pt x="0" y="21600"/>
                </a:lnTo>
                <a:close/>
              </a:path>
              <a:path fill="lightenLess" w="26877" h="21600">
                <a:moveTo>
                  <a:pt x="0" y="0"/>
                </a:moveTo>
                <a:lnTo>
                  <a:pt x="26877" y="0"/>
                </a:lnTo>
                <a:lnTo>
                  <a:pt x="25477" y="1400"/>
                </a:lnTo>
                <a:lnTo>
                  <a:pt x="1400" y="1400"/>
                </a:lnTo>
                <a:close/>
              </a:path>
              <a:path fill="darken" w="26877" h="21600">
                <a:moveTo>
                  <a:pt x="26877" y="0"/>
                </a:moveTo>
                <a:lnTo>
                  <a:pt x="26877" y="21600"/>
                </a:lnTo>
                <a:lnTo>
                  <a:pt x="25477" y="20200"/>
                </a:lnTo>
                <a:lnTo>
                  <a:pt x="25477" y="1400"/>
                </a:lnTo>
                <a:close/>
              </a:path>
              <a:path fill="darkenLess" w="26877" h="21600">
                <a:moveTo>
                  <a:pt x="26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77" y="20200"/>
                </a:lnTo>
                <a:close/>
              </a:path>
              <a:path fill="lighten" w="26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77" h="21600">
                <a:moveTo>
                  <a:pt x="6432" y="3794"/>
                </a:moveTo>
                <a:lnTo>
                  <a:pt x="20445" y="10800"/>
                </a:lnTo>
                <a:lnTo>
                  <a:pt x="6432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as Quinn going to school today or in the pas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638680" y="3048120"/>
            <a:ext cx="1665360" cy="2743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523880" y="3276720"/>
            <a:ext cx="2660760" cy="266688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1066680" y="6095880"/>
            <a:ext cx="1043280" cy="762120"/>
          </a:xfrm>
          <a:custGeom>
            <a:avLst/>
            <a:gdLst>
              <a:gd name="textAreaLeft" fmla="*/ 49320 w 1043280"/>
              <a:gd name="textAreaRight" fmla="*/ 993960 w 1043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65" h="21600">
                <a:moveTo>
                  <a:pt x="0" y="0"/>
                </a:moveTo>
                <a:lnTo>
                  <a:pt x="29565" y="0"/>
                </a:lnTo>
                <a:lnTo>
                  <a:pt x="29565" y="21600"/>
                </a:lnTo>
                <a:lnTo>
                  <a:pt x="0" y="21600"/>
                </a:lnTo>
                <a:close/>
              </a:path>
              <a:path fill="lightenLess" w="29565" h="21600">
                <a:moveTo>
                  <a:pt x="0" y="0"/>
                </a:moveTo>
                <a:lnTo>
                  <a:pt x="29565" y="0"/>
                </a:lnTo>
                <a:lnTo>
                  <a:pt x="28165" y="1400"/>
                </a:lnTo>
                <a:lnTo>
                  <a:pt x="1400" y="1400"/>
                </a:lnTo>
                <a:close/>
              </a:path>
              <a:path fill="darken" w="29565" h="21600">
                <a:moveTo>
                  <a:pt x="29565" y="0"/>
                </a:moveTo>
                <a:lnTo>
                  <a:pt x="29565" y="21600"/>
                </a:lnTo>
                <a:lnTo>
                  <a:pt x="28165" y="20200"/>
                </a:lnTo>
                <a:lnTo>
                  <a:pt x="28165" y="1400"/>
                </a:lnTo>
                <a:close/>
              </a:path>
              <a:path fill="darkenLess" w="29565" h="21600">
                <a:moveTo>
                  <a:pt x="29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65" y="20200"/>
                </a:lnTo>
                <a:close/>
              </a:path>
              <a:path fill="lighten" w="29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65" h="21600">
                <a:moveTo>
                  <a:pt x="7776" y="10800"/>
                </a:moveTo>
                <a:lnTo>
                  <a:pt x="21789" y="3794"/>
                </a:lnTo>
                <a:lnTo>
                  <a:pt x="21789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7238880" y="6019920"/>
            <a:ext cx="1043280" cy="838080"/>
          </a:xfrm>
          <a:custGeom>
            <a:avLst/>
            <a:gdLst>
              <a:gd name="textAreaLeft" fmla="*/ 54000 w 1043280"/>
              <a:gd name="textAreaRight" fmla="*/ 989280 w 1043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6886" h="21600">
                <a:moveTo>
                  <a:pt x="0" y="0"/>
                </a:moveTo>
                <a:lnTo>
                  <a:pt x="26886" y="0"/>
                </a:lnTo>
                <a:lnTo>
                  <a:pt x="26886" y="21600"/>
                </a:lnTo>
                <a:lnTo>
                  <a:pt x="0" y="21600"/>
                </a:lnTo>
                <a:close/>
              </a:path>
              <a:path fill="lightenLess" w="26886" h="21600">
                <a:moveTo>
                  <a:pt x="0" y="0"/>
                </a:moveTo>
                <a:lnTo>
                  <a:pt x="26886" y="0"/>
                </a:lnTo>
                <a:lnTo>
                  <a:pt x="25486" y="1400"/>
                </a:lnTo>
                <a:lnTo>
                  <a:pt x="1400" y="1400"/>
                </a:lnTo>
                <a:close/>
              </a:path>
              <a:path fill="darken" w="26886" h="21600">
                <a:moveTo>
                  <a:pt x="26886" y="0"/>
                </a:moveTo>
                <a:lnTo>
                  <a:pt x="26886" y="21600"/>
                </a:lnTo>
                <a:lnTo>
                  <a:pt x="25486" y="20200"/>
                </a:lnTo>
                <a:lnTo>
                  <a:pt x="25486" y="1400"/>
                </a:lnTo>
                <a:close/>
              </a:path>
              <a:path fill="darkenLess" w="26886" h="21600">
                <a:moveTo>
                  <a:pt x="26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6" y="20200"/>
                </a:lnTo>
                <a:close/>
              </a:path>
              <a:path fill="lighten" w="26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6" h="21600">
                <a:moveTo>
                  <a:pt x="6437" y="3794"/>
                </a:moveTo>
                <a:lnTo>
                  <a:pt x="20450" y="10800"/>
                </a:lnTo>
                <a:lnTo>
                  <a:pt x="6437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as Quinn going to school in the morning, afternoon, or evening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905120" y="3809880"/>
            <a:ext cx="2438280" cy="2063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105520" y="3809880"/>
            <a:ext cx="2139840" cy="204804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1066680" y="6095880"/>
            <a:ext cx="1043280" cy="762120"/>
          </a:xfrm>
          <a:custGeom>
            <a:avLst/>
            <a:gdLst>
              <a:gd name="textAreaLeft" fmla="*/ 49320 w 1043280"/>
              <a:gd name="textAreaRight" fmla="*/ 993960 w 1043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65" h="21600">
                <a:moveTo>
                  <a:pt x="0" y="0"/>
                </a:moveTo>
                <a:lnTo>
                  <a:pt x="29565" y="0"/>
                </a:lnTo>
                <a:lnTo>
                  <a:pt x="29565" y="21600"/>
                </a:lnTo>
                <a:lnTo>
                  <a:pt x="0" y="21600"/>
                </a:lnTo>
                <a:close/>
              </a:path>
              <a:path fill="lightenLess" w="29565" h="21600">
                <a:moveTo>
                  <a:pt x="0" y="0"/>
                </a:moveTo>
                <a:lnTo>
                  <a:pt x="29565" y="0"/>
                </a:lnTo>
                <a:lnTo>
                  <a:pt x="28165" y="1400"/>
                </a:lnTo>
                <a:lnTo>
                  <a:pt x="1400" y="1400"/>
                </a:lnTo>
                <a:close/>
              </a:path>
              <a:path fill="darken" w="29565" h="21600">
                <a:moveTo>
                  <a:pt x="29565" y="0"/>
                </a:moveTo>
                <a:lnTo>
                  <a:pt x="29565" y="21600"/>
                </a:lnTo>
                <a:lnTo>
                  <a:pt x="28165" y="20200"/>
                </a:lnTo>
                <a:lnTo>
                  <a:pt x="28165" y="1400"/>
                </a:lnTo>
                <a:close/>
              </a:path>
              <a:path fill="darkenLess" w="29565" h="21600">
                <a:moveTo>
                  <a:pt x="29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65" y="20200"/>
                </a:lnTo>
                <a:close/>
              </a:path>
              <a:path fill="lighten" w="29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65" h="21600">
                <a:moveTo>
                  <a:pt x="7776" y="10800"/>
                </a:moveTo>
                <a:lnTo>
                  <a:pt x="21789" y="3794"/>
                </a:lnTo>
                <a:lnTo>
                  <a:pt x="21789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7086600" y="6172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3794"/>
                </a:moveTo>
                <a:lnTo>
                  <a:pt x="23427" y="10800"/>
                </a:lnTo>
                <a:lnTo>
                  <a:pt x="9415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as he going  in the winter, spring, summer or fall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72200" y="3581280"/>
            <a:ext cx="1766880" cy="1779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295280" y="3657600"/>
            <a:ext cx="174168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41320" cy="1752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462800" y="0"/>
            <a:ext cx="1681200" cy="169056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14479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15:58:41Z</dcterms:created>
  <dc:creator>Hazelwood School District</dc:creator>
  <dc:description/>
  <dc:language>en-US</dc:language>
  <cp:lastModifiedBy>Cheryl Davis</cp:lastModifiedBy>
  <dcterms:modified xsi:type="dcterms:W3CDTF">2000-01-19T15:00:29Z</dcterms:modified>
  <cp:revision>11</cp:revision>
  <dc:subject/>
  <dc:title>Setting, 3rd Grade</dc:title>
</cp:coreProperties>
</file>