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FB41-C595-46C2-9F28-29DCDC61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BE08-BB36-4E98-8136-5BC81673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BC6-741A-46AF-B2C6-013D28C6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7742-70D9-46A0-BE75-D8FA02B8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3B6E-20CD-42F3-A7DB-6693A3B9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032-C05D-40C9-91E9-89F19BC3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859E-C0B7-4FA1-8EF3-CD408542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5B0-BBA2-4C7A-A400-52A49F27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AB6-52F2-4226-95F4-54BF6149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779-C915-410F-AE05-6DBF576B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18E-FD2F-43C3-A057-756A13F5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2FD-2AB3-4AC7-B2BB-0C34CB0A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8204-FB7A-4753-BF22-80F5691B7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Comic Sans MS"/>
              </a:rPr>
              <a:t>Setting</a:t>
            </a:r>
            <a:br>
              <a:rPr sz="6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rd Grade, Language 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y Ruebus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cCurd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2388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81080" y="609480"/>
            <a:ext cx="5257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ite a Stor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05120" y="5791320"/>
            <a:ext cx="5181480" cy="106668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0" y="4495680"/>
            <a:ext cx="1347840" cy="1295640"/>
          </a:xfrm>
          <a:custGeom>
            <a:avLst/>
            <a:gdLst>
              <a:gd name="textAreaLeft" fmla="*/ 83880 w 1347840"/>
              <a:gd name="textAreaRight" fmla="*/ 1263960 w 13478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2470" h="21600">
                <a:moveTo>
                  <a:pt x="0" y="0"/>
                </a:moveTo>
                <a:lnTo>
                  <a:pt x="22470" y="0"/>
                </a:lnTo>
                <a:lnTo>
                  <a:pt x="22470" y="21600"/>
                </a:lnTo>
                <a:lnTo>
                  <a:pt x="0" y="21600"/>
                </a:lnTo>
                <a:close/>
              </a:path>
              <a:path fill="lightenLess" w="22470" h="21600">
                <a:moveTo>
                  <a:pt x="0" y="0"/>
                </a:moveTo>
                <a:lnTo>
                  <a:pt x="22470" y="0"/>
                </a:lnTo>
                <a:lnTo>
                  <a:pt x="21070" y="1400"/>
                </a:lnTo>
                <a:lnTo>
                  <a:pt x="1400" y="1400"/>
                </a:lnTo>
                <a:close/>
              </a:path>
              <a:path fill="darken" w="22470" h="21600">
                <a:moveTo>
                  <a:pt x="22470" y="0"/>
                </a:moveTo>
                <a:lnTo>
                  <a:pt x="22470" y="21600"/>
                </a:lnTo>
                <a:lnTo>
                  <a:pt x="21070" y="20200"/>
                </a:lnTo>
                <a:lnTo>
                  <a:pt x="21070" y="1400"/>
                </a:lnTo>
                <a:close/>
              </a:path>
              <a:path fill="darkenLess" w="22470" h="21600">
                <a:moveTo>
                  <a:pt x="2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0" y="20200"/>
                </a:lnTo>
                <a:close/>
              </a:path>
              <a:path fill="lighten" w="2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raw a picture of Quinn going to school. Include details that will show </a:t>
            </a: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plac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4724280"/>
            <a:ext cx="1218960" cy="21337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1219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0866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rite a paragrap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escribing details of the set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458640" cy="2325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981080" y="304920"/>
            <a:ext cx="2892600" cy="316368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1143000" y="60199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01028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0899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9054" y="3794"/>
                </a:lnTo>
                <a:lnTo>
                  <a:pt x="9054" y="17806"/>
                </a:lnTo>
                <a:lnTo>
                  <a:pt x="7392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0560" y="556272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is establishing the place, time, season, time of day, historical period, mood, and the like in which a story happ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7816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1080" y="1371600"/>
            <a:ext cx="76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:  The students will practic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ments of story setting.  This should hel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m compose a story to a prom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9960" y="29908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1143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67816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360" y="685800"/>
            <a:ext cx="796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ity:  The students will draw a pictur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 a setting.  If time allows they can wr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tences to describe the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4520" y="2133720"/>
            <a:ext cx="7927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Read through the slides and discuss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th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Follow the directions and draw a pi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the sentence as they pictur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In groups or as a class, write a paragrap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bing the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99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etting is the place and time, or where and when a story happens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1852560" cy="178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286000" cy="19940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71629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icture this sentence in your mind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Quinn was walking to scho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9880" y="4807080"/>
            <a:ext cx="2286000" cy="17668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990720" y="6019920"/>
            <a:ext cx="1042920" cy="83808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77" h="21600">
                <a:moveTo>
                  <a:pt x="0" y="0"/>
                </a:moveTo>
                <a:lnTo>
                  <a:pt x="26877" y="0"/>
                </a:lnTo>
                <a:lnTo>
                  <a:pt x="26877" y="21600"/>
                </a:lnTo>
                <a:lnTo>
                  <a:pt x="0" y="21600"/>
                </a:lnTo>
                <a:close/>
              </a:path>
              <a:path fill="lightenLess" w="26877" h="21600">
                <a:moveTo>
                  <a:pt x="0" y="0"/>
                </a:moveTo>
                <a:lnTo>
                  <a:pt x="26877" y="0"/>
                </a:lnTo>
                <a:lnTo>
                  <a:pt x="25477" y="1400"/>
                </a:lnTo>
                <a:lnTo>
                  <a:pt x="1400" y="1400"/>
                </a:lnTo>
                <a:close/>
              </a:path>
              <a:path fill="darken" w="26877" h="21600">
                <a:moveTo>
                  <a:pt x="26877" y="0"/>
                </a:moveTo>
                <a:lnTo>
                  <a:pt x="26877" y="21600"/>
                </a:lnTo>
                <a:lnTo>
                  <a:pt x="25477" y="20200"/>
                </a:lnTo>
                <a:lnTo>
                  <a:pt x="25477" y="1400"/>
                </a:lnTo>
                <a:close/>
              </a:path>
              <a:path fill="darkenLess" w="26877" h="21600">
                <a:moveTo>
                  <a:pt x="26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77" y="20200"/>
                </a:lnTo>
                <a:close/>
              </a:path>
              <a:path fill="lighten" w="26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77" h="21600">
                <a:moveTo>
                  <a:pt x="6432" y="10800"/>
                </a:moveTo>
                <a:lnTo>
                  <a:pt x="20445" y="3794"/>
                </a:lnTo>
                <a:lnTo>
                  <a:pt x="20445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7238880" y="5943600"/>
            <a:ext cx="1043280" cy="914400"/>
          </a:xfrm>
          <a:custGeom>
            <a:avLst/>
            <a:gdLst>
              <a:gd name="textAreaLeft" fmla="*/ 59040 w 1043280"/>
              <a:gd name="textAreaRight" fmla="*/ 984240 w 1043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4643" h="21600">
                <a:moveTo>
                  <a:pt x="0" y="0"/>
                </a:moveTo>
                <a:lnTo>
                  <a:pt x="24643" y="0"/>
                </a:lnTo>
                <a:lnTo>
                  <a:pt x="24643" y="21600"/>
                </a:lnTo>
                <a:lnTo>
                  <a:pt x="0" y="21600"/>
                </a:lnTo>
                <a:close/>
              </a:path>
              <a:path fill="lightenLess" w="24643" h="21600">
                <a:moveTo>
                  <a:pt x="0" y="0"/>
                </a:moveTo>
                <a:lnTo>
                  <a:pt x="24643" y="0"/>
                </a:lnTo>
                <a:lnTo>
                  <a:pt x="23243" y="1400"/>
                </a:lnTo>
                <a:lnTo>
                  <a:pt x="1400" y="1400"/>
                </a:lnTo>
                <a:close/>
              </a:path>
              <a:path fill="darken" w="24643" h="21600">
                <a:moveTo>
                  <a:pt x="24643" y="0"/>
                </a:moveTo>
                <a:lnTo>
                  <a:pt x="24643" y="21600"/>
                </a:lnTo>
                <a:lnTo>
                  <a:pt x="23243" y="20200"/>
                </a:lnTo>
                <a:lnTo>
                  <a:pt x="23243" y="1400"/>
                </a:lnTo>
                <a:close/>
              </a:path>
              <a:path fill="darkenLess" w="24643" h="21600">
                <a:moveTo>
                  <a:pt x="24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3" y="20200"/>
                </a:lnTo>
                <a:close/>
              </a:path>
              <a:path fill="lighten" w="24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3" h="21600">
                <a:moveTo>
                  <a:pt x="5315" y="3794"/>
                </a:moveTo>
                <a:lnTo>
                  <a:pt x="19328" y="10800"/>
                </a:lnTo>
                <a:lnTo>
                  <a:pt x="5315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d you picture--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country,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city,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r the suburb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62520" y="5016600"/>
            <a:ext cx="2743200" cy="145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54360" cy="1692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38080" y="2057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14479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7162920" y="6019920"/>
            <a:ext cx="1042920" cy="83808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77" h="21600">
                <a:moveTo>
                  <a:pt x="0" y="0"/>
                </a:moveTo>
                <a:lnTo>
                  <a:pt x="26877" y="0"/>
                </a:lnTo>
                <a:lnTo>
                  <a:pt x="26877" y="21600"/>
                </a:lnTo>
                <a:lnTo>
                  <a:pt x="0" y="21600"/>
                </a:lnTo>
                <a:close/>
              </a:path>
              <a:path fill="lightenLess" w="26877" h="21600">
                <a:moveTo>
                  <a:pt x="0" y="0"/>
                </a:moveTo>
                <a:lnTo>
                  <a:pt x="26877" y="0"/>
                </a:lnTo>
                <a:lnTo>
                  <a:pt x="25477" y="1400"/>
                </a:lnTo>
                <a:lnTo>
                  <a:pt x="1400" y="1400"/>
                </a:lnTo>
                <a:close/>
              </a:path>
              <a:path fill="darken" w="26877" h="21600">
                <a:moveTo>
                  <a:pt x="26877" y="0"/>
                </a:moveTo>
                <a:lnTo>
                  <a:pt x="26877" y="21600"/>
                </a:lnTo>
                <a:lnTo>
                  <a:pt x="25477" y="20200"/>
                </a:lnTo>
                <a:lnTo>
                  <a:pt x="25477" y="1400"/>
                </a:lnTo>
                <a:close/>
              </a:path>
              <a:path fill="darkenLess" w="26877" h="21600">
                <a:moveTo>
                  <a:pt x="26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77" y="20200"/>
                </a:lnTo>
                <a:close/>
              </a:path>
              <a:path fill="lighten" w="26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77" h="21600">
                <a:moveTo>
                  <a:pt x="6432" y="3794"/>
                </a:moveTo>
                <a:lnTo>
                  <a:pt x="20445" y="10800"/>
                </a:lnTo>
                <a:lnTo>
                  <a:pt x="6432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Quinn going to school today or in the pas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166536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23880" y="3276720"/>
            <a:ext cx="266076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7238880" y="6019920"/>
            <a:ext cx="1043280" cy="838080"/>
          </a:xfrm>
          <a:custGeom>
            <a:avLst/>
            <a:gdLst>
              <a:gd name="textAreaLeft" fmla="*/ 54000 w 1043280"/>
              <a:gd name="textAreaRight" fmla="*/ 989280 w 1043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86" h="21600">
                <a:moveTo>
                  <a:pt x="0" y="0"/>
                </a:moveTo>
                <a:lnTo>
                  <a:pt x="26886" y="0"/>
                </a:lnTo>
                <a:lnTo>
                  <a:pt x="26886" y="21600"/>
                </a:lnTo>
                <a:lnTo>
                  <a:pt x="0" y="21600"/>
                </a:lnTo>
                <a:close/>
              </a:path>
              <a:path fill="lightenLess" w="26886" h="21600">
                <a:moveTo>
                  <a:pt x="0" y="0"/>
                </a:moveTo>
                <a:lnTo>
                  <a:pt x="26886" y="0"/>
                </a:lnTo>
                <a:lnTo>
                  <a:pt x="25486" y="1400"/>
                </a:lnTo>
                <a:lnTo>
                  <a:pt x="1400" y="1400"/>
                </a:lnTo>
                <a:close/>
              </a:path>
              <a:path fill="darken" w="26886" h="21600">
                <a:moveTo>
                  <a:pt x="26886" y="0"/>
                </a:moveTo>
                <a:lnTo>
                  <a:pt x="26886" y="21600"/>
                </a:lnTo>
                <a:lnTo>
                  <a:pt x="25486" y="20200"/>
                </a:lnTo>
                <a:lnTo>
                  <a:pt x="25486" y="1400"/>
                </a:lnTo>
                <a:close/>
              </a:path>
              <a:path fill="darkenLess" w="26886" h="21600">
                <a:moveTo>
                  <a:pt x="26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6" y="20200"/>
                </a:lnTo>
                <a:close/>
              </a:path>
              <a:path fill="lighten" w="26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6" h="21600">
                <a:moveTo>
                  <a:pt x="6437" y="3794"/>
                </a:moveTo>
                <a:lnTo>
                  <a:pt x="20450" y="10800"/>
                </a:lnTo>
                <a:lnTo>
                  <a:pt x="643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Quinn going to school in the morning, afternoon, or evening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05120" y="3809880"/>
            <a:ext cx="2438280" cy="2063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105520" y="3809880"/>
            <a:ext cx="2139840" cy="204804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708660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he going  in the winter, spring, summer or fal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72200" y="3581280"/>
            <a:ext cx="1766880" cy="1779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95280" y="3657600"/>
            <a:ext cx="174168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41320" cy="1752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462800" y="0"/>
            <a:ext cx="1681200" cy="169056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1447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15:58:41Z</dcterms:created>
  <dc:creator>Hazelwood School District</dc:creator>
  <dc:description/>
  <dc:language>en-US</dc:language>
  <cp:lastModifiedBy>Cheryl Davis</cp:lastModifiedBy>
  <dcterms:modified xsi:type="dcterms:W3CDTF">2000-01-19T15:00:29Z</dcterms:modified>
  <cp:revision>11</cp:revision>
  <dc:subject/>
  <dc:title>Setting, 3rd Grade</dc:title>
</cp:coreProperties>
</file>