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FAD-45E5-4B1C-8ECF-38820CD3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255-84F3-41D6-A143-35CD222A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DE4-25CC-434F-B018-DDADB0A3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F50-DB2A-4888-9C06-27978AE0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DD2-1DF5-4D01-9F18-A8CEA9D1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284-6794-4A18-95D3-377A82A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B85-5333-4F0A-9AAE-00EB3CDA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795-C08B-4099-889A-D9B34268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DD1-6CAF-4AF0-99D7-2CD5C3AD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7DA-0B2A-4711-8A04-46679FCE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0CD-A1B0-4E3B-B6B7-E412B6B9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7FD-52E2-447C-8B75-3A830FF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A45C-2918-40EC-BE2A-92BDA4AB3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Setting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rd Grade,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6094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579132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0" y="4495680"/>
            <a:ext cx="1347840" cy="1295640"/>
          </a:xfrm>
          <a:custGeom>
            <a:avLst/>
            <a:gdLst>
              <a:gd name="textAreaLeft" fmla="*/ 83880 w 1347840"/>
              <a:gd name="textAreaRight" fmla="*/ 1263960 w 1347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470" h="21600">
                <a:moveTo>
                  <a:pt x="0" y="0"/>
                </a:moveTo>
                <a:lnTo>
                  <a:pt x="22470" y="0"/>
                </a:lnTo>
                <a:lnTo>
                  <a:pt x="22470" y="21600"/>
                </a:lnTo>
                <a:lnTo>
                  <a:pt x="0" y="21600"/>
                </a:lnTo>
                <a:close/>
              </a:path>
              <a:path fill="lightenLess" w="22470" h="21600">
                <a:moveTo>
                  <a:pt x="0" y="0"/>
                </a:moveTo>
                <a:lnTo>
                  <a:pt x="22470" y="0"/>
                </a:lnTo>
                <a:lnTo>
                  <a:pt x="21070" y="1400"/>
                </a:lnTo>
                <a:lnTo>
                  <a:pt x="1400" y="1400"/>
                </a:lnTo>
                <a:close/>
              </a:path>
              <a:path fill="darken" w="22470" h="21600">
                <a:moveTo>
                  <a:pt x="22470" y="0"/>
                </a:moveTo>
                <a:lnTo>
                  <a:pt x="22470" y="21600"/>
                </a:lnTo>
                <a:lnTo>
                  <a:pt x="21070" y="20200"/>
                </a:lnTo>
                <a:lnTo>
                  <a:pt x="21070" y="1400"/>
                </a:lnTo>
                <a:close/>
              </a:path>
              <a:path fill="darkenLess" w="22470" h="21600">
                <a:moveTo>
                  <a:pt x="2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0" y="20200"/>
                </a:lnTo>
                <a:close/>
              </a:path>
              <a:path fill="lighten" w="2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raw a picture of Quinn going to school. Include details that will show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219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086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rite a paragrap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scribing details of the set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458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2892600" cy="31636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0560" y="5562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s establishing the place, time, season, time of day, historical period, mood, and the like in which a story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1080" y="1371600"/>
            <a:ext cx="76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  The students will practic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story setting.  This should h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 compose a story to a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960" y="29908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143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360" y="685800"/>
            <a:ext cx="79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y:  The students will draw a pictur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 setting.  If time allows they can wr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to describe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520" y="2133720"/>
            <a:ext cx="792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ead through the slides and discu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ollow the directions and draw a 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 sentence as they pictur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 groups or as a class, write a para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tting is the place and time, or where and when a story happen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185256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162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cture this sentence in your mi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Quinn was walking to sch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4807080"/>
            <a:ext cx="2286000" cy="1766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9907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238880" y="5943600"/>
            <a:ext cx="1043280" cy="914400"/>
          </a:xfrm>
          <a:custGeom>
            <a:avLst/>
            <a:gdLst>
              <a:gd name="textAreaLeft" fmla="*/ 59040 w 1043280"/>
              <a:gd name="textAreaRight" fmla="*/ 984240 w 1043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43" h="21600">
                <a:moveTo>
                  <a:pt x="0" y="0"/>
                </a:moveTo>
                <a:lnTo>
                  <a:pt x="24643" y="0"/>
                </a:lnTo>
                <a:lnTo>
                  <a:pt x="24643" y="21600"/>
                </a:lnTo>
                <a:lnTo>
                  <a:pt x="0" y="21600"/>
                </a:lnTo>
                <a:close/>
              </a:path>
              <a:path fill="lightenLess" w="24643" h="21600">
                <a:moveTo>
                  <a:pt x="0" y="0"/>
                </a:moveTo>
                <a:lnTo>
                  <a:pt x="24643" y="0"/>
                </a:lnTo>
                <a:lnTo>
                  <a:pt x="23243" y="1400"/>
                </a:lnTo>
                <a:lnTo>
                  <a:pt x="1400" y="1400"/>
                </a:lnTo>
                <a:close/>
              </a:path>
              <a:path fill="darken" w="24643" h="21600">
                <a:moveTo>
                  <a:pt x="24643" y="0"/>
                </a:moveTo>
                <a:lnTo>
                  <a:pt x="24643" y="21600"/>
                </a:lnTo>
                <a:lnTo>
                  <a:pt x="23243" y="20200"/>
                </a:lnTo>
                <a:lnTo>
                  <a:pt x="23243" y="1400"/>
                </a:lnTo>
                <a:close/>
              </a:path>
              <a:path fill="darkenLess" w="24643" h="21600">
                <a:moveTo>
                  <a:pt x="24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3" y="20200"/>
                </a:lnTo>
                <a:close/>
              </a:path>
              <a:path fill="lighten" w="24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3" h="21600">
                <a:moveTo>
                  <a:pt x="5315" y="3794"/>
                </a:moveTo>
                <a:lnTo>
                  <a:pt x="19328" y="10800"/>
                </a:lnTo>
                <a:lnTo>
                  <a:pt x="531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d you picture--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ountr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it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 the subur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5016600"/>
            <a:ext cx="274320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5436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1447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3794"/>
                </a:moveTo>
                <a:lnTo>
                  <a:pt x="20445" y="10800"/>
                </a:lnTo>
                <a:lnTo>
                  <a:pt x="643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today or in the pa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6653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26607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238880" y="6019920"/>
            <a:ext cx="1043280" cy="838080"/>
          </a:xfrm>
          <a:custGeom>
            <a:avLst/>
            <a:gdLst>
              <a:gd name="textAreaLeft" fmla="*/ 54000 w 1043280"/>
              <a:gd name="textAreaRight" fmla="*/ 989280 w 1043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86" h="21600">
                <a:moveTo>
                  <a:pt x="0" y="0"/>
                </a:moveTo>
                <a:lnTo>
                  <a:pt x="26886" y="0"/>
                </a:lnTo>
                <a:lnTo>
                  <a:pt x="26886" y="21600"/>
                </a:lnTo>
                <a:lnTo>
                  <a:pt x="0" y="21600"/>
                </a:lnTo>
                <a:close/>
              </a:path>
              <a:path fill="lightenLess" w="26886" h="21600">
                <a:moveTo>
                  <a:pt x="0" y="0"/>
                </a:moveTo>
                <a:lnTo>
                  <a:pt x="26886" y="0"/>
                </a:lnTo>
                <a:lnTo>
                  <a:pt x="25486" y="1400"/>
                </a:lnTo>
                <a:lnTo>
                  <a:pt x="1400" y="1400"/>
                </a:lnTo>
                <a:close/>
              </a:path>
              <a:path fill="darken" w="26886" h="21600">
                <a:moveTo>
                  <a:pt x="26886" y="0"/>
                </a:moveTo>
                <a:lnTo>
                  <a:pt x="26886" y="21600"/>
                </a:lnTo>
                <a:lnTo>
                  <a:pt x="25486" y="20200"/>
                </a:lnTo>
                <a:lnTo>
                  <a:pt x="25486" y="1400"/>
                </a:lnTo>
                <a:close/>
              </a:path>
              <a:path fill="darkenLess" w="26886" h="21600">
                <a:moveTo>
                  <a:pt x="26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6" y="20200"/>
                </a:lnTo>
                <a:close/>
              </a:path>
              <a:path fill="lighten" w="26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6" h="21600">
                <a:moveTo>
                  <a:pt x="6437" y="3794"/>
                </a:moveTo>
                <a:lnTo>
                  <a:pt x="20450" y="10800"/>
                </a:lnTo>
                <a:lnTo>
                  <a:pt x="643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in the morning, afternoon, or even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2139840" cy="2048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08660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he going  in the winter, spring, summer or fal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17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7416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62800" y="0"/>
            <a:ext cx="16812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5:58:41Z</dcterms:created>
  <dc:creator>Hazelwood School District</dc:creator>
  <dc:description/>
  <dc:language>en-US</dc:language>
  <cp:lastModifiedBy>Cheryl Davis</cp:lastModifiedBy>
  <dcterms:modified xsi:type="dcterms:W3CDTF">2000-01-19T15:00:29Z</dcterms:modified>
  <cp:revision>11</cp:revision>
  <dc:subject/>
  <dc:title>Setting, 3rd Grade</dc:title>
</cp:coreProperties>
</file>