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A78-7E52-4671-86FB-08B96085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826-E848-4952-9609-5DADCF0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56B-09DA-44A3-AD3B-82672CA2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907-671A-464C-8682-41D2E6DC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3F9-596D-4276-AB29-A2A60134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0F3-F4D5-4733-97D5-CA9C264E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03E-A60F-43AB-8E47-DD99776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EA9-F060-4B9D-91D7-52F84CD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1E6-2078-42FC-8710-D2CFDC3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A16-6E96-40BF-8E4A-E8E8D0F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D4E-A985-4FEE-B16B-3BBDC371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9B7-775C-4C17-BC0D-D497818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847B-1DFF-4C6B-9C28-96E24657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62160"/>
            <a:ext cx="3733920" cy="236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320" y="39625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1905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t is loc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7840" y="2971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1520" y="1143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sive or Extr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5:10:40Z</dcterms:created>
  <dc:creator>darci.mock</dc:creator>
  <dc:description/>
  <dc:language>en-US</dc:language>
  <cp:lastModifiedBy>darci.mock</cp:lastModifiedBy>
  <dcterms:modified xsi:type="dcterms:W3CDTF">2008-02-01T15:10:58Z</dcterms:modified>
  <cp:revision>1</cp:revision>
  <dc:subject/>
  <dc:title>Rock Name</dc:title>
</cp:coreProperties>
</file>