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7DE-31B4-4E53-8647-B284B8E4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417-63C1-4008-878E-5FF8858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276-29EB-4E0E-BA95-AACCF118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7C8-D511-409E-AB68-06CB095C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D2A-030E-403E-AF6F-E8FA8CB1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5C5-7F49-4314-A9FE-0A66764F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392-4E31-453F-BBEC-9AAF9E6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C62-2CA7-498A-9ABD-D21D6AA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838-33EF-4578-BC5A-00A6AAA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8B1-EFA0-4C32-B547-FDE2950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376-7C1A-44E8-8AD1-09FE662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5D6-6118-4790-9071-8F2890D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0BE-C020-49E9-AEB2-1DA8A84E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6216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320" y="39625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t is loc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7840" y="297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1520" y="1143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ve or Extr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5:10:40Z</dcterms:created>
  <dc:creator>darci.mock</dc:creator>
  <dc:description/>
  <dc:language>en-US</dc:language>
  <cp:lastModifiedBy>darci.mock</cp:lastModifiedBy>
  <dcterms:modified xsi:type="dcterms:W3CDTF">2008-02-01T15:10:58Z</dcterms:modified>
  <cp:revision>1</cp:revision>
  <dc:subject/>
  <dc:title>Rock Name</dc:title>
</cp:coreProperties>
</file>