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781F-DCB1-4FF3-9FB9-1E25C4B4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4B79-DC4B-4D35-B008-1FCF9A74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09B-891E-4C6E-9752-A98D332C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5C0-80C9-4F48-B920-369AAD35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4DF1-C05B-47F7-9D96-B05E33F0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A53-0BCF-4944-BA32-35670233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15CC-59C9-428B-911C-1B5C7783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11AA-FB54-4987-A07A-36368BB6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FEA-61A7-470F-9A7A-B7711D8E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C5B-0507-476F-B44C-267D48B3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6D8-E2CA-4F42-905E-9E78F8C1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882-1ABF-4454-8BD8-E5C3F8BB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483D-4111-4122-98D5-7DCF7B83E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r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962160"/>
            <a:ext cx="3733920" cy="236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95320" y="3962520"/>
            <a:ext cx="4038840" cy="2209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495680" y="19051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it is loca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7840" y="29718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1520" y="114300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usive or Extr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5:10:40Z</dcterms:created>
  <dc:creator>darci.mock</dc:creator>
  <dc:description/>
  <dc:language>en-US</dc:language>
  <cp:lastModifiedBy>darci.mock</cp:lastModifiedBy>
  <dcterms:modified xsi:type="dcterms:W3CDTF">2008-02-01T15:10:58Z</dcterms:modified>
  <cp:revision>1</cp:revision>
  <dc:subject/>
  <dc:title>Rock Name</dc:title>
</cp:coreProperties>
</file>