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C4A-1145-4C2D-9F69-72F36C34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AC2-69A4-421E-B7FD-8A3EE0F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4FD-511A-42AD-B18E-56814B06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904-C49A-47F3-BD3C-B0327677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2BE-7BDB-43EB-9421-57D87127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2F3-75B0-4C49-BEDA-B71BC5C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1F9-FBFB-447C-B7AB-192BCFDF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471-BCDB-46F7-80CF-34E34D5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CCD-BBDC-40AC-9B8D-145AEA6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843-3E3B-4984-B184-2D8D7CA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4EC-8E42-4848-A5F4-1FE1F4E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3C9-B393-490B-89B8-86B1E52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C5B-A5F4-41BF-99E7-6268C9F3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6216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320" y="39625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t is loc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7840" y="297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1520" y="1143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ve or Extr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5:10:40Z</dcterms:created>
  <dc:creator>darci.mock</dc:creator>
  <dc:description/>
  <dc:language>en-US</dc:language>
  <cp:lastModifiedBy>darci.mock</cp:lastModifiedBy>
  <dcterms:modified xsi:type="dcterms:W3CDTF">2008-02-01T15:10:58Z</dcterms:modified>
  <cp:revision>1</cp:revision>
  <dc:subject/>
  <dc:title>Rock Name</dc:title>
</cp:coreProperties>
</file>