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763-F7D6-4230-98F7-A989088C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B22-848C-418D-8716-2F47F2DD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16C-32E8-400C-B369-9E907076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30E-D9BE-4F86-968C-0430E50B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156-C8DD-4289-8EA0-473569AB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7B2-7BBD-4EE3-A7CE-D6E25BD1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B23-C45D-4CD0-8179-D4C97FD7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AB7-0F6A-4278-8DB1-CD80420E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CA6-4E0E-4C76-A694-CC20494D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47D-7830-4A2A-994E-BB6F513F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070-7130-46DD-A4EC-BF30935F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D77-9565-449E-91E4-428246B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BC26-A610-44C2-B773-D5119D73D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Cooking Up A Pl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3rd Grade, 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048120" cy="304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90920" y="1066680"/>
            <a:ext cx="479088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5715000" y="5967360"/>
            <a:ext cx="2209680" cy="890640"/>
          </a:xfrm>
          <a:custGeom>
            <a:avLst/>
            <a:gdLst>
              <a:gd name="textAreaLeft" fmla="*/ 57600 w 2209680"/>
              <a:gd name="textAreaRight" fmla="*/ 2152080 w 220968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53577" h="21600">
                <a:moveTo>
                  <a:pt x="0" y="0"/>
                </a:moveTo>
                <a:lnTo>
                  <a:pt x="53577" y="0"/>
                </a:lnTo>
                <a:lnTo>
                  <a:pt x="53577" y="21600"/>
                </a:lnTo>
                <a:lnTo>
                  <a:pt x="0" y="21600"/>
                </a:lnTo>
                <a:close/>
              </a:path>
              <a:path fill="lightenLess" w="53577" h="21600">
                <a:moveTo>
                  <a:pt x="0" y="0"/>
                </a:moveTo>
                <a:lnTo>
                  <a:pt x="53577" y="0"/>
                </a:lnTo>
                <a:lnTo>
                  <a:pt x="52177" y="1400"/>
                </a:lnTo>
                <a:lnTo>
                  <a:pt x="1400" y="1400"/>
                </a:lnTo>
                <a:close/>
              </a:path>
              <a:path fill="darken" w="53577" h="21600">
                <a:moveTo>
                  <a:pt x="53577" y="0"/>
                </a:moveTo>
                <a:lnTo>
                  <a:pt x="53577" y="21600"/>
                </a:lnTo>
                <a:lnTo>
                  <a:pt x="52177" y="20200"/>
                </a:lnTo>
                <a:lnTo>
                  <a:pt x="52177" y="1400"/>
                </a:lnTo>
                <a:close/>
              </a:path>
              <a:path fill="darkenLess" w="53577" h="21600">
                <a:moveTo>
                  <a:pt x="53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77" y="20200"/>
                </a:lnTo>
                <a:close/>
              </a:path>
              <a:path fill="lighten" w="53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int:  A Story Middle may have many part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705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8120" y="4044960"/>
          <a:ext cx="3352680" cy="28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04496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are your story chart with a partn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16002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880" y="3048120"/>
            <a:ext cx="735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is easier to write a we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lanned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4479840"/>
            <a:ext cx="2133360" cy="194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8720" y="533088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ot development involves creating a problem and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plot will help a story to have a beginning, middle, and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629400" y="6019920"/>
            <a:ext cx="1119240" cy="838080"/>
          </a:xfrm>
          <a:custGeom>
            <a:avLst/>
            <a:gdLst>
              <a:gd name="textAreaLeft" fmla="*/ 54000 w 1119240"/>
              <a:gd name="textAreaRight" fmla="*/ 1065240 w 11192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8843" h="21600">
                <a:moveTo>
                  <a:pt x="0" y="0"/>
                </a:moveTo>
                <a:lnTo>
                  <a:pt x="28843" y="0"/>
                </a:lnTo>
                <a:lnTo>
                  <a:pt x="28843" y="21600"/>
                </a:lnTo>
                <a:lnTo>
                  <a:pt x="0" y="21600"/>
                </a:lnTo>
                <a:close/>
              </a:path>
              <a:path fill="lightenLess" w="28843" h="21600">
                <a:moveTo>
                  <a:pt x="0" y="0"/>
                </a:moveTo>
                <a:lnTo>
                  <a:pt x="28843" y="0"/>
                </a:lnTo>
                <a:lnTo>
                  <a:pt x="27443" y="1400"/>
                </a:lnTo>
                <a:lnTo>
                  <a:pt x="1400" y="1400"/>
                </a:lnTo>
                <a:close/>
              </a:path>
              <a:path fill="darken" w="28843" h="21600">
                <a:moveTo>
                  <a:pt x="28843" y="0"/>
                </a:moveTo>
                <a:lnTo>
                  <a:pt x="28843" y="21600"/>
                </a:lnTo>
                <a:lnTo>
                  <a:pt x="27443" y="20200"/>
                </a:lnTo>
                <a:lnTo>
                  <a:pt x="27443" y="1400"/>
                </a:lnTo>
                <a:close/>
              </a:path>
              <a:path fill="darkenLess" w="28843" h="21600">
                <a:moveTo>
                  <a:pt x="28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3" y="20200"/>
                </a:lnTo>
                <a:close/>
              </a:path>
              <a:path fill="lighten" w="28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3" h="21600">
                <a:moveTo>
                  <a:pt x="7415" y="3794"/>
                </a:moveTo>
                <a:lnTo>
                  <a:pt x="21428" y="10800"/>
                </a:lnTo>
                <a:lnTo>
                  <a:pt x="7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141588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 The students will pract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graphic to make a story p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2240" y="2762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dure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teacher will click through the slides, reading and discussing the cont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e students will plot a story on a graphi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They should then share their story plot with a partn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7560" y="14940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315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66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ting a plot together is a little like cook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6120" y="2397240"/>
            <a:ext cx="64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ut the pie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well, the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nderf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4573440"/>
            <a:ext cx="2286000" cy="22845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2057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867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99cc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99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446200" cy="22622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64771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6960" y="214200"/>
            <a:ext cx="70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can use a plot ch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plan your st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Comic Sans MS"/>
              </a:rPr>
              <a:t>Beginn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tory beginning should show the character, the setting, and set up the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523880" y="619596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10800"/>
                </a:moveTo>
                <a:lnTo>
                  <a:pt x="24022" y="3794"/>
                </a:lnTo>
                <a:lnTo>
                  <a:pt x="24022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99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M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38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iddle of the story is where the problem is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ction happens in the m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46040" cy="127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14479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7057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ff66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End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the end of the story the problem is res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71944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600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lot your own sto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777240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172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0080" y="525780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Copy this graphic on your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7:44:34Z</dcterms:created>
  <dc:creator>Hazelwood School District</dc:creator>
  <dc:description/>
  <dc:language>en-US</dc:language>
  <cp:lastModifiedBy>Cheryl Davis</cp:lastModifiedBy>
  <dcterms:modified xsi:type="dcterms:W3CDTF">2000-01-19T15:04:37Z</dcterms:modified>
  <cp:revision>15</cp:revision>
  <dc:subject/>
  <dc:title>Plot Development</dc:title>
</cp:coreProperties>
</file>