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289A-7C09-4A9D-8526-C719C961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5898-B4A5-4A2B-B90D-427BE201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3650-6F3D-43E3-A017-6E880A45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7F4-C9E7-486F-A1E6-C01EB4FB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BB2-2337-43D3-822E-776678FD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FD69-82A0-42EE-97D4-737BCD4D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E0E2-9FF5-4551-8BFF-607E9D03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997-9236-4F72-9715-ABD95B8C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BDA7-85EE-4946-8F61-57E3BA46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68E5-9C22-453B-8CA6-7E5592A6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5906-4F2C-4009-8150-40A2E2AA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DD10-2067-4025-A977-73CEA7A9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29C8-8BB0-4A89-984B-E4D0CD844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mic Sans MS"/>
              </a:rPr>
              <a:t>Cooking Up A Pl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3rd Grade, Language 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y Ruebusch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cCurdy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3048120" cy="3046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590920" y="1066680"/>
            <a:ext cx="479088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rite a Story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5715000" y="5967360"/>
            <a:ext cx="2209680" cy="890640"/>
          </a:xfrm>
          <a:custGeom>
            <a:avLst/>
            <a:gdLst>
              <a:gd name="textAreaLeft" fmla="*/ 57600 w 2209680"/>
              <a:gd name="textAreaRight" fmla="*/ 2152080 w 220968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53577" h="21600">
                <a:moveTo>
                  <a:pt x="0" y="0"/>
                </a:moveTo>
                <a:lnTo>
                  <a:pt x="53577" y="0"/>
                </a:lnTo>
                <a:lnTo>
                  <a:pt x="53577" y="21600"/>
                </a:lnTo>
                <a:lnTo>
                  <a:pt x="0" y="21600"/>
                </a:lnTo>
                <a:close/>
              </a:path>
              <a:path fill="lightenLess" w="53577" h="21600">
                <a:moveTo>
                  <a:pt x="0" y="0"/>
                </a:moveTo>
                <a:lnTo>
                  <a:pt x="53577" y="0"/>
                </a:lnTo>
                <a:lnTo>
                  <a:pt x="52177" y="1400"/>
                </a:lnTo>
                <a:lnTo>
                  <a:pt x="1400" y="1400"/>
                </a:lnTo>
                <a:close/>
              </a:path>
              <a:path fill="darken" w="53577" h="21600">
                <a:moveTo>
                  <a:pt x="53577" y="0"/>
                </a:moveTo>
                <a:lnTo>
                  <a:pt x="53577" y="21600"/>
                </a:lnTo>
                <a:lnTo>
                  <a:pt x="52177" y="20200"/>
                </a:lnTo>
                <a:lnTo>
                  <a:pt x="52177" y="1400"/>
                </a:lnTo>
                <a:close/>
              </a:path>
              <a:path fill="darkenLess" w="53577" h="21600">
                <a:moveTo>
                  <a:pt x="53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177" y="20200"/>
                </a:lnTo>
                <a:close/>
              </a:path>
              <a:path fill="lighten" w="53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Tea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int:  A Story Middle may have many part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1447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6705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8120" y="4044960"/>
          <a:ext cx="3352680" cy="281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4044960"/>
                    <a:ext cx="3352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00ff99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hare your story chart with a partn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16002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1880" y="3048120"/>
            <a:ext cx="735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t is easier to write a wel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lanned s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05320" y="4479840"/>
            <a:ext cx="2133360" cy="1946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228720" y="533088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3505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ot development involves creating a problem and a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ing a plot will help a story to have a beginning, middle, and an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629400" y="6019920"/>
            <a:ext cx="1119240" cy="838080"/>
          </a:xfrm>
          <a:custGeom>
            <a:avLst/>
            <a:gdLst>
              <a:gd name="textAreaLeft" fmla="*/ 54000 w 1119240"/>
              <a:gd name="textAreaRight" fmla="*/ 1065240 w 11192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8843" h="21600">
                <a:moveTo>
                  <a:pt x="0" y="0"/>
                </a:moveTo>
                <a:lnTo>
                  <a:pt x="28843" y="0"/>
                </a:lnTo>
                <a:lnTo>
                  <a:pt x="28843" y="21600"/>
                </a:lnTo>
                <a:lnTo>
                  <a:pt x="0" y="21600"/>
                </a:lnTo>
                <a:close/>
              </a:path>
              <a:path fill="lightenLess" w="28843" h="21600">
                <a:moveTo>
                  <a:pt x="0" y="0"/>
                </a:moveTo>
                <a:lnTo>
                  <a:pt x="28843" y="0"/>
                </a:lnTo>
                <a:lnTo>
                  <a:pt x="27443" y="1400"/>
                </a:lnTo>
                <a:lnTo>
                  <a:pt x="1400" y="1400"/>
                </a:lnTo>
                <a:close/>
              </a:path>
              <a:path fill="darken" w="28843" h="21600">
                <a:moveTo>
                  <a:pt x="28843" y="0"/>
                </a:moveTo>
                <a:lnTo>
                  <a:pt x="28843" y="21600"/>
                </a:lnTo>
                <a:lnTo>
                  <a:pt x="27443" y="20200"/>
                </a:lnTo>
                <a:lnTo>
                  <a:pt x="27443" y="1400"/>
                </a:lnTo>
                <a:close/>
              </a:path>
              <a:path fill="darkenLess" w="28843" h="21600">
                <a:moveTo>
                  <a:pt x="28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3" y="20200"/>
                </a:lnTo>
                <a:close/>
              </a:path>
              <a:path fill="lighten" w="28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3" h="21600">
                <a:moveTo>
                  <a:pt x="7415" y="3794"/>
                </a:moveTo>
                <a:lnTo>
                  <a:pt x="21428" y="10800"/>
                </a:lnTo>
                <a:lnTo>
                  <a:pt x="7415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9760" y="1415880"/>
            <a:ext cx="713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:  The students will practi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a graphic to make a story p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22240" y="2762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dure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The teacher will click through the slides, reading and discussing the conten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The students will plot a story on a graphic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They should then share their story plot with a partne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47560" y="149400"/>
            <a:ext cx="31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7315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66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utting a plot together is a little like cook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66120" y="2397240"/>
            <a:ext cx="6471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put the piec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gether well, the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wonderfu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76720" y="4573440"/>
            <a:ext cx="2286000" cy="228456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20574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5867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66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99cc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3992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248520" y="1295280"/>
            <a:ext cx="2446200" cy="22622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1523880" y="6172200"/>
            <a:ext cx="1043280" cy="685800"/>
          </a:xfrm>
          <a:custGeom>
            <a:avLst/>
            <a:gdLst>
              <a:gd name="textAreaLeft" fmla="*/ 44280 w 1043280"/>
              <a:gd name="textAreaRight" fmla="*/ 999000 w 1043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53" h="21600">
                <a:moveTo>
                  <a:pt x="0" y="0"/>
                </a:moveTo>
                <a:lnTo>
                  <a:pt x="32853" y="0"/>
                </a:lnTo>
                <a:lnTo>
                  <a:pt x="32853" y="21600"/>
                </a:lnTo>
                <a:lnTo>
                  <a:pt x="0" y="21600"/>
                </a:lnTo>
                <a:close/>
              </a:path>
              <a:path fill="lightenLess" w="32853" h="21600">
                <a:moveTo>
                  <a:pt x="0" y="0"/>
                </a:moveTo>
                <a:lnTo>
                  <a:pt x="32853" y="0"/>
                </a:lnTo>
                <a:lnTo>
                  <a:pt x="31453" y="1400"/>
                </a:lnTo>
                <a:lnTo>
                  <a:pt x="1400" y="1400"/>
                </a:lnTo>
                <a:close/>
              </a:path>
              <a:path fill="darken" w="32853" h="21600">
                <a:moveTo>
                  <a:pt x="32853" y="0"/>
                </a:moveTo>
                <a:lnTo>
                  <a:pt x="32853" y="21600"/>
                </a:lnTo>
                <a:lnTo>
                  <a:pt x="31453" y="20200"/>
                </a:lnTo>
                <a:lnTo>
                  <a:pt x="31453" y="1400"/>
                </a:lnTo>
                <a:close/>
              </a:path>
              <a:path fill="darkenLess" w="32853" h="21600">
                <a:moveTo>
                  <a:pt x="32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53" y="20200"/>
                </a:lnTo>
                <a:close/>
              </a:path>
              <a:path fill="lighten" w="32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53" h="21600">
                <a:moveTo>
                  <a:pt x="9420" y="10800"/>
                </a:moveTo>
                <a:lnTo>
                  <a:pt x="23433" y="3794"/>
                </a:lnTo>
                <a:lnTo>
                  <a:pt x="23433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647712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23427" y="10800"/>
                </a:lnTo>
                <a:lnTo>
                  <a:pt x="9415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76960" y="214200"/>
            <a:ext cx="70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ou can use a plot ch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o plan your st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f5f5f"/>
                </a:solidFill>
                <a:latin typeface="Comic Sans MS"/>
              </a:rPr>
              <a:t>Beginn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story beginning should show the character, the setting, and set up the 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809880" cy="255096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1523880" y="6195960"/>
            <a:ext cx="1043280" cy="662040"/>
          </a:xfrm>
          <a:custGeom>
            <a:avLst/>
            <a:gdLst>
              <a:gd name="textAreaLeft" fmla="*/ 42840 w 1043280"/>
              <a:gd name="textAreaRight" fmla="*/ 1000440 w 104328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32" h="21600">
                <a:moveTo>
                  <a:pt x="0" y="0"/>
                </a:moveTo>
                <a:lnTo>
                  <a:pt x="34032" y="0"/>
                </a:lnTo>
                <a:lnTo>
                  <a:pt x="34032" y="21600"/>
                </a:lnTo>
                <a:lnTo>
                  <a:pt x="0" y="21600"/>
                </a:lnTo>
                <a:close/>
              </a:path>
              <a:path fill="lightenLess" w="34032" h="21600">
                <a:moveTo>
                  <a:pt x="0" y="0"/>
                </a:moveTo>
                <a:lnTo>
                  <a:pt x="34032" y="0"/>
                </a:lnTo>
                <a:lnTo>
                  <a:pt x="32632" y="1400"/>
                </a:lnTo>
                <a:lnTo>
                  <a:pt x="1400" y="1400"/>
                </a:lnTo>
                <a:close/>
              </a:path>
              <a:path fill="darken" w="34032" h="21600">
                <a:moveTo>
                  <a:pt x="34032" y="0"/>
                </a:moveTo>
                <a:lnTo>
                  <a:pt x="34032" y="21600"/>
                </a:lnTo>
                <a:lnTo>
                  <a:pt x="32632" y="20200"/>
                </a:lnTo>
                <a:lnTo>
                  <a:pt x="32632" y="1400"/>
                </a:lnTo>
                <a:close/>
              </a:path>
              <a:path fill="darkenLess" w="34032" h="21600">
                <a:moveTo>
                  <a:pt x="34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32" y="20200"/>
                </a:lnTo>
                <a:close/>
              </a:path>
              <a:path fill="lighten" w="34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32" h="21600">
                <a:moveTo>
                  <a:pt x="10009" y="10800"/>
                </a:moveTo>
                <a:lnTo>
                  <a:pt x="24022" y="3794"/>
                </a:lnTo>
                <a:lnTo>
                  <a:pt x="24022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99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8080"/>
                </a:solidFill>
                <a:latin typeface="Comic Sans MS"/>
              </a:rPr>
              <a:t>Midd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809880" cy="3838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670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middle of the story is where the problem is establish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action happens in the midd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315200" y="457200"/>
            <a:ext cx="1346040" cy="127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85800" y="22860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144792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10800"/>
                </a:moveTo>
                <a:lnTo>
                  <a:pt x="23427" y="3794"/>
                </a:lnTo>
                <a:lnTo>
                  <a:pt x="23427" y="17806"/>
                </a:lnTo>
                <a:close/>
              </a:path>
            </a:pathLst>
          </a:cu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67057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99ff66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8080"/>
                </a:solidFill>
                <a:latin typeface="Comic Sans MS"/>
              </a:rPr>
              <a:t>End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t the end of the story the problem is resol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943600" y="1143000"/>
            <a:ext cx="2719440" cy="4114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267080" y="2819520"/>
            <a:ext cx="198144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1600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Plot your own stor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7772400" cy="281952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1523880" y="6172200"/>
            <a:ext cx="1043280" cy="685800"/>
          </a:xfrm>
          <a:custGeom>
            <a:avLst/>
            <a:gdLst>
              <a:gd name="textAreaLeft" fmla="*/ 44280 w 1043280"/>
              <a:gd name="textAreaRight" fmla="*/ 999000 w 1043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53" h="21600">
                <a:moveTo>
                  <a:pt x="0" y="0"/>
                </a:moveTo>
                <a:lnTo>
                  <a:pt x="32853" y="0"/>
                </a:lnTo>
                <a:lnTo>
                  <a:pt x="32853" y="21600"/>
                </a:lnTo>
                <a:lnTo>
                  <a:pt x="0" y="21600"/>
                </a:lnTo>
                <a:close/>
              </a:path>
              <a:path fill="lightenLess" w="32853" h="21600">
                <a:moveTo>
                  <a:pt x="0" y="0"/>
                </a:moveTo>
                <a:lnTo>
                  <a:pt x="32853" y="0"/>
                </a:lnTo>
                <a:lnTo>
                  <a:pt x="31453" y="1400"/>
                </a:lnTo>
                <a:lnTo>
                  <a:pt x="1400" y="1400"/>
                </a:lnTo>
                <a:close/>
              </a:path>
              <a:path fill="darken" w="32853" h="21600">
                <a:moveTo>
                  <a:pt x="32853" y="0"/>
                </a:moveTo>
                <a:lnTo>
                  <a:pt x="32853" y="21600"/>
                </a:lnTo>
                <a:lnTo>
                  <a:pt x="31453" y="20200"/>
                </a:lnTo>
                <a:lnTo>
                  <a:pt x="31453" y="1400"/>
                </a:lnTo>
                <a:close/>
              </a:path>
              <a:path fill="darkenLess" w="32853" h="21600">
                <a:moveTo>
                  <a:pt x="32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53" y="20200"/>
                </a:lnTo>
                <a:close/>
              </a:path>
              <a:path fill="lighten" w="32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53" h="21600">
                <a:moveTo>
                  <a:pt x="9420" y="10800"/>
                </a:moveTo>
                <a:lnTo>
                  <a:pt x="23433" y="3794"/>
                </a:lnTo>
                <a:lnTo>
                  <a:pt x="23433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6172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0080" y="5257800"/>
            <a:ext cx="842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Comic Sans MS"/>
              </a:rPr>
              <a:t>Copy this graphic on your pa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8T17:44:34Z</dcterms:created>
  <dc:creator>Hazelwood School District</dc:creator>
  <dc:description/>
  <dc:language>en-US</dc:language>
  <cp:lastModifiedBy>Cheryl Davis</cp:lastModifiedBy>
  <dcterms:modified xsi:type="dcterms:W3CDTF">2000-01-19T15:04:37Z</dcterms:modified>
  <cp:revision>15</cp:revision>
  <dc:subject/>
  <dc:title>Plot Development</dc:title>
</cp:coreProperties>
</file>