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6EE-529C-4E55-BA79-AEB66EE9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0559-5EC3-4A6D-A316-6EA74074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9F6B-55E9-4687-980B-5A6B70B1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68E-B1CE-4ADD-92AF-4B3EA5B1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E00-BD01-482F-B173-9D859C2A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1AB-673A-4ADF-B5CF-DEAC87A5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CA24-22CA-4D9F-A97F-DCDC4F21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196-E037-4C2B-9272-86565E3D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5A5F-9B39-4696-92D2-28C33B04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DFF-8389-4E0F-8261-79007598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8C5-BD3E-44C7-892A-4C3A7A44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DB7-1137-4DF0-A40D-F44F223C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6A90-DC53-435B-9A80-575212139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mic Sans MS"/>
              </a:rPr>
              <a:t>Cooking Up A Pl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3rd Grade, Language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y Ruebusch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cCurd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3048120" cy="304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590920" y="1066680"/>
            <a:ext cx="479088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ite a Story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5715000" y="5967360"/>
            <a:ext cx="2209680" cy="890640"/>
          </a:xfrm>
          <a:custGeom>
            <a:avLst/>
            <a:gdLst>
              <a:gd name="textAreaLeft" fmla="*/ 57600 w 2209680"/>
              <a:gd name="textAreaRight" fmla="*/ 2152080 w 220968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53577" h="21600">
                <a:moveTo>
                  <a:pt x="0" y="0"/>
                </a:moveTo>
                <a:lnTo>
                  <a:pt x="53577" y="0"/>
                </a:lnTo>
                <a:lnTo>
                  <a:pt x="53577" y="21600"/>
                </a:lnTo>
                <a:lnTo>
                  <a:pt x="0" y="21600"/>
                </a:lnTo>
                <a:close/>
              </a:path>
              <a:path fill="lightenLess" w="53577" h="21600">
                <a:moveTo>
                  <a:pt x="0" y="0"/>
                </a:moveTo>
                <a:lnTo>
                  <a:pt x="53577" y="0"/>
                </a:lnTo>
                <a:lnTo>
                  <a:pt x="52177" y="1400"/>
                </a:lnTo>
                <a:lnTo>
                  <a:pt x="1400" y="1400"/>
                </a:lnTo>
                <a:close/>
              </a:path>
              <a:path fill="darken" w="53577" h="21600">
                <a:moveTo>
                  <a:pt x="53577" y="0"/>
                </a:moveTo>
                <a:lnTo>
                  <a:pt x="53577" y="21600"/>
                </a:lnTo>
                <a:lnTo>
                  <a:pt x="52177" y="20200"/>
                </a:lnTo>
                <a:lnTo>
                  <a:pt x="52177" y="1400"/>
                </a:lnTo>
                <a:close/>
              </a:path>
              <a:path fill="darkenLess" w="53577" h="21600">
                <a:moveTo>
                  <a:pt x="53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77" y="20200"/>
                </a:lnTo>
                <a:close/>
              </a:path>
              <a:path fill="lighten" w="53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int:  A Story Middle may have many part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1447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6705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8120" y="4044960"/>
          <a:ext cx="3352680" cy="281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4044960"/>
                    <a:ext cx="3352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00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hare your story chart with a partn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16002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1880" y="3048120"/>
            <a:ext cx="735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 is easier to write a wel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lanned 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05320" y="4479840"/>
            <a:ext cx="2133360" cy="1946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228720" y="533088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ot development involves creating a problem and a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ing a plot will help a story to have a beginning, middle, and an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629400" y="6019920"/>
            <a:ext cx="1119240" cy="838080"/>
          </a:xfrm>
          <a:custGeom>
            <a:avLst/>
            <a:gdLst>
              <a:gd name="textAreaLeft" fmla="*/ 54000 w 1119240"/>
              <a:gd name="textAreaRight" fmla="*/ 1065240 w 11192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8843" h="21600">
                <a:moveTo>
                  <a:pt x="0" y="0"/>
                </a:moveTo>
                <a:lnTo>
                  <a:pt x="28843" y="0"/>
                </a:lnTo>
                <a:lnTo>
                  <a:pt x="28843" y="21600"/>
                </a:lnTo>
                <a:lnTo>
                  <a:pt x="0" y="21600"/>
                </a:lnTo>
                <a:close/>
              </a:path>
              <a:path fill="lightenLess" w="28843" h="21600">
                <a:moveTo>
                  <a:pt x="0" y="0"/>
                </a:moveTo>
                <a:lnTo>
                  <a:pt x="28843" y="0"/>
                </a:lnTo>
                <a:lnTo>
                  <a:pt x="27443" y="1400"/>
                </a:lnTo>
                <a:lnTo>
                  <a:pt x="1400" y="1400"/>
                </a:lnTo>
                <a:close/>
              </a:path>
              <a:path fill="darken" w="28843" h="21600">
                <a:moveTo>
                  <a:pt x="28843" y="0"/>
                </a:moveTo>
                <a:lnTo>
                  <a:pt x="28843" y="21600"/>
                </a:lnTo>
                <a:lnTo>
                  <a:pt x="27443" y="20200"/>
                </a:lnTo>
                <a:lnTo>
                  <a:pt x="27443" y="1400"/>
                </a:lnTo>
                <a:close/>
              </a:path>
              <a:path fill="darkenLess" w="28843" h="21600">
                <a:moveTo>
                  <a:pt x="28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3" y="20200"/>
                </a:lnTo>
                <a:close/>
              </a:path>
              <a:path fill="lighten" w="28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3" h="21600">
                <a:moveTo>
                  <a:pt x="7415" y="3794"/>
                </a:moveTo>
                <a:lnTo>
                  <a:pt x="21428" y="10800"/>
                </a:lnTo>
                <a:lnTo>
                  <a:pt x="7415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1415880"/>
            <a:ext cx="713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:  The students will practi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a graphic to make a story p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2240" y="2762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dure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The teacher will click through the slides, reading and discussing the conten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The students will plot a story on a graphic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They should then share their story plot with a partne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47560" y="14940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315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66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utting a plot together is a little like cook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66120" y="2397240"/>
            <a:ext cx="6471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ut the pie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gether well, the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wonderfu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76720" y="4573440"/>
            <a:ext cx="2286000" cy="228456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2057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5867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99cc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3992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248520" y="1295280"/>
            <a:ext cx="2446200" cy="22622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64771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6960" y="214200"/>
            <a:ext cx="70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ou can use a plot ch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o plan your st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f5f5f"/>
                </a:solidFill>
                <a:latin typeface="Comic Sans MS"/>
              </a:rPr>
              <a:t>Beginn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story beginning should show the character, the setting, and set up the 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809880" cy="255096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1523880" y="6195960"/>
            <a:ext cx="1043280" cy="662040"/>
          </a:xfrm>
          <a:custGeom>
            <a:avLst/>
            <a:gdLst>
              <a:gd name="textAreaLeft" fmla="*/ 42840 w 1043280"/>
              <a:gd name="textAreaRight" fmla="*/ 1000440 w 104328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32" h="21600">
                <a:moveTo>
                  <a:pt x="0" y="0"/>
                </a:moveTo>
                <a:lnTo>
                  <a:pt x="34032" y="0"/>
                </a:lnTo>
                <a:lnTo>
                  <a:pt x="34032" y="21600"/>
                </a:lnTo>
                <a:lnTo>
                  <a:pt x="0" y="21600"/>
                </a:lnTo>
                <a:close/>
              </a:path>
              <a:path fill="lightenLess" w="34032" h="21600">
                <a:moveTo>
                  <a:pt x="0" y="0"/>
                </a:moveTo>
                <a:lnTo>
                  <a:pt x="34032" y="0"/>
                </a:lnTo>
                <a:lnTo>
                  <a:pt x="32632" y="1400"/>
                </a:lnTo>
                <a:lnTo>
                  <a:pt x="1400" y="1400"/>
                </a:lnTo>
                <a:close/>
              </a:path>
              <a:path fill="darken" w="34032" h="21600">
                <a:moveTo>
                  <a:pt x="34032" y="0"/>
                </a:moveTo>
                <a:lnTo>
                  <a:pt x="34032" y="21600"/>
                </a:lnTo>
                <a:lnTo>
                  <a:pt x="32632" y="20200"/>
                </a:lnTo>
                <a:lnTo>
                  <a:pt x="32632" y="1400"/>
                </a:lnTo>
                <a:close/>
              </a:path>
              <a:path fill="darkenLess" w="34032" h="21600">
                <a:moveTo>
                  <a:pt x="34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32" y="20200"/>
                </a:lnTo>
                <a:close/>
              </a:path>
              <a:path fill="lighten" w="34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32" h="21600">
                <a:moveTo>
                  <a:pt x="10009" y="10800"/>
                </a:moveTo>
                <a:lnTo>
                  <a:pt x="24022" y="3794"/>
                </a:lnTo>
                <a:lnTo>
                  <a:pt x="24022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99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Midd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3838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670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middle of the story is where the problem is establish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action happens in the midd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346040" cy="127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85800" y="22860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14479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10800"/>
                </a:moveTo>
                <a:lnTo>
                  <a:pt x="23427" y="3794"/>
                </a:lnTo>
                <a:lnTo>
                  <a:pt x="23427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67057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99ff66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End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t the end of the story the problem is res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271944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67080" y="2819520"/>
            <a:ext cx="198144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1600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lot your own stor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7772400" cy="281952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6172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0080" y="5257800"/>
            <a:ext cx="84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Comic Sans MS"/>
              </a:rPr>
              <a:t>Copy this graphic on your 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8T17:44:34Z</dcterms:created>
  <dc:creator>Hazelwood School District</dc:creator>
  <dc:description/>
  <dc:language>en-US</dc:language>
  <cp:lastModifiedBy>Cheryl Davis</cp:lastModifiedBy>
  <dcterms:modified xsi:type="dcterms:W3CDTF">2000-01-19T15:04:37Z</dcterms:modified>
  <cp:revision>15</cp:revision>
  <dc:subject/>
  <dc:title>Plot Development</dc:title>
</cp:coreProperties>
</file>