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DE5-8AC6-4A77-BF24-A824D378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5AA-856F-424B-9562-AD581DB8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EE2-4581-4FB6-B935-D92E2322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4EF-A4F2-4B81-8EC9-91A5971D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1AD-5B39-4B15-B12E-B89E289D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970-127D-4E40-AB51-071F24BD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13C-D8B2-43B9-988C-AA543B27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161-8C17-4022-81E0-47BB71B2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8FF-4050-454F-818E-33C31E72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305-EE2C-465A-8283-B63B665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5D3-CA89-4925-A474-2CA4D88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166-A586-40DE-8860-59845EA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04D7-993C-459F-8F7C-F38FF8FC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3rd Grade, 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Cheryl Davis</cp:lastModifiedBy>
  <dcterms:modified xsi:type="dcterms:W3CDTF">2000-01-19T15:04:37Z</dcterms:modified>
  <cp:revision>15</cp:revision>
  <dc:subject/>
  <dc:title>Plot Development</dc:title>
</cp:coreProperties>
</file>