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9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5.png" ContentType="image/png"/>
  <Override PartName="/ppt/media/image1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338B-D732-433A-9F9F-C60F48E34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1334-646E-4F60-B397-B3AFC910D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3892-42BD-4826-8884-9D8C9E6CF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C178-4FAB-47F3-BFAA-9374B577F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5629-FF6F-4111-971C-5A69A7A5A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F7D3-680E-4551-8C3C-65C4EE0A0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278F-C704-4AFC-AF25-A5171F260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4031-A342-4D2E-9DFA-A94A8D6FF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89EB-0162-4498-AEE0-114C1404B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D8D0-B326-41CA-BA4B-C76EF41AF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EC5E-64A3-40E3-8C52-7C7A8B66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A48E-88AC-4F5F-9B02-BA98D956B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328C9-A2EA-43E2-9D04-CF177785A7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cccc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Comic Sans MS"/>
              </a:rPr>
              <a:t>Cooking Up A Plo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Comic Sans MS"/>
              </a:rPr>
              <a:t>3rd Grade, Language 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ry Ruebusch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cCurdy Sch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3048120" cy="3046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2590920" y="1066680"/>
            <a:ext cx="4790880" cy="12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rite a Story</a:t>
            </a:r>
            <a:endParaRPr b="0" lang="en-US" sz="7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">
            <a:hlinkClick r:id="" action="ppaction://hlinkshowjump?jump=firstslide"/>
          </p:cNvPr>
          <p:cNvSpPr/>
          <p:nvPr/>
        </p:nvSpPr>
        <p:spPr>
          <a:xfrm>
            <a:off x="5715000" y="5967360"/>
            <a:ext cx="2209680" cy="890640"/>
          </a:xfrm>
          <a:custGeom>
            <a:avLst/>
            <a:gdLst>
              <a:gd name="textAreaLeft" fmla="*/ 57600 w 2209680"/>
              <a:gd name="textAreaRight" fmla="*/ 2152080 w 2209680"/>
              <a:gd name="textAreaTop" fmla="*/ 57600 h 890640"/>
              <a:gd name="textAreaBottom" fmla="*/ 833040 h 890640"/>
            </a:gdLst>
            <a:ahLst/>
            <a:rect l="textAreaLeft" t="textAreaTop" r="textAreaRight" b="textAreaBottom"/>
            <a:pathLst>
              <a:path w="53577" h="21600">
                <a:moveTo>
                  <a:pt x="0" y="0"/>
                </a:moveTo>
                <a:lnTo>
                  <a:pt x="53577" y="0"/>
                </a:lnTo>
                <a:lnTo>
                  <a:pt x="53577" y="21600"/>
                </a:lnTo>
                <a:lnTo>
                  <a:pt x="0" y="21600"/>
                </a:lnTo>
                <a:close/>
              </a:path>
              <a:path fill="lightenLess" w="53577" h="21600">
                <a:moveTo>
                  <a:pt x="0" y="0"/>
                </a:moveTo>
                <a:lnTo>
                  <a:pt x="53577" y="0"/>
                </a:lnTo>
                <a:lnTo>
                  <a:pt x="52177" y="1400"/>
                </a:lnTo>
                <a:lnTo>
                  <a:pt x="1400" y="1400"/>
                </a:lnTo>
                <a:close/>
              </a:path>
              <a:path fill="darken" w="53577" h="21600">
                <a:moveTo>
                  <a:pt x="53577" y="0"/>
                </a:moveTo>
                <a:lnTo>
                  <a:pt x="53577" y="21600"/>
                </a:lnTo>
                <a:lnTo>
                  <a:pt x="52177" y="20200"/>
                </a:lnTo>
                <a:lnTo>
                  <a:pt x="52177" y="1400"/>
                </a:lnTo>
                <a:close/>
              </a:path>
              <a:path fill="darkenLess" w="53577" h="21600">
                <a:moveTo>
                  <a:pt x="535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177" y="20200"/>
                </a:lnTo>
                <a:close/>
              </a:path>
              <a:path fill="lighten" w="535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o Teac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Hint:  A Story Middle may have many parts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" action="ppaction://hlinkshowjump?jump=previousslide"/>
          </p:cNvPr>
          <p:cNvSpPr/>
          <p:nvPr/>
        </p:nvSpPr>
        <p:spPr>
          <a:xfrm>
            <a:off x="144792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" action="ppaction://hlinkshowjump?jump=nextslide"/>
          </p:cNvPr>
          <p:cNvSpPr/>
          <p:nvPr/>
        </p:nvSpPr>
        <p:spPr>
          <a:xfrm>
            <a:off x="670572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048120" y="4044960"/>
          <a:ext cx="3352680" cy="281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8120" y="4044960"/>
                    <a:ext cx="3352680" cy="28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00ff99"/>
            </a:gs>
            <a:gs pos="100000">
              <a:srgbClr val="66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Share your story chart with a partner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" action="ppaction://hlinkshowjump?jump=previousslide"/>
          </p:cNvPr>
          <p:cNvSpPr/>
          <p:nvPr/>
        </p:nvSpPr>
        <p:spPr>
          <a:xfrm>
            <a:off x="160020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21880" y="3048120"/>
            <a:ext cx="7358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It is easier to write a wel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planned stor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505320" y="4479840"/>
            <a:ext cx="2133360" cy="19465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228720" y="5330880"/>
            <a:ext cx="159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acher P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400" y="3505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ot development involves creating a problem and a sol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veloping a plot will help a story to have a beginning, middle, and an e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6629400" y="6019920"/>
            <a:ext cx="1119240" cy="838080"/>
          </a:xfrm>
          <a:custGeom>
            <a:avLst/>
            <a:gdLst>
              <a:gd name="textAreaLeft" fmla="*/ 54000 w 1119240"/>
              <a:gd name="textAreaRight" fmla="*/ 1065240 w 11192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8843" h="21600">
                <a:moveTo>
                  <a:pt x="0" y="0"/>
                </a:moveTo>
                <a:lnTo>
                  <a:pt x="28843" y="0"/>
                </a:lnTo>
                <a:lnTo>
                  <a:pt x="28843" y="21600"/>
                </a:lnTo>
                <a:lnTo>
                  <a:pt x="0" y="21600"/>
                </a:lnTo>
                <a:close/>
              </a:path>
              <a:path fill="lightenLess" w="28843" h="21600">
                <a:moveTo>
                  <a:pt x="0" y="0"/>
                </a:moveTo>
                <a:lnTo>
                  <a:pt x="28843" y="0"/>
                </a:lnTo>
                <a:lnTo>
                  <a:pt x="27443" y="1400"/>
                </a:lnTo>
                <a:lnTo>
                  <a:pt x="1400" y="1400"/>
                </a:lnTo>
                <a:close/>
              </a:path>
              <a:path fill="darken" w="28843" h="21600">
                <a:moveTo>
                  <a:pt x="28843" y="0"/>
                </a:moveTo>
                <a:lnTo>
                  <a:pt x="28843" y="21600"/>
                </a:lnTo>
                <a:lnTo>
                  <a:pt x="27443" y="20200"/>
                </a:lnTo>
                <a:lnTo>
                  <a:pt x="27443" y="1400"/>
                </a:lnTo>
                <a:close/>
              </a:path>
              <a:path fill="darkenLess" w="28843" h="21600">
                <a:moveTo>
                  <a:pt x="288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43" y="20200"/>
                </a:lnTo>
                <a:close/>
              </a:path>
              <a:path fill="lighten" w="288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43" h="21600">
                <a:moveTo>
                  <a:pt x="7415" y="3794"/>
                </a:moveTo>
                <a:lnTo>
                  <a:pt x="21428" y="10800"/>
                </a:lnTo>
                <a:lnTo>
                  <a:pt x="7415" y="17806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9760" y="1415880"/>
            <a:ext cx="713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bjective:  The students will practic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a graphic to make a story plo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22240" y="276228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cedure: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 The teacher will click through the slides, reading and discussing the content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  The students will plot a story on a graphic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  They should then share their story plot with a partner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347560" y="149400"/>
            <a:ext cx="312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eacher Pa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" action="ppaction://hlinkshowjump?jump=previousslide"/>
          </p:cNvPr>
          <p:cNvSpPr/>
          <p:nvPr/>
        </p:nvSpPr>
        <p:spPr>
          <a:xfrm>
            <a:off x="914400" y="6095880"/>
            <a:ext cx="1042920" cy="762120"/>
          </a:xfrm>
          <a:custGeom>
            <a:avLst/>
            <a:gdLst>
              <a:gd name="textAreaLeft" fmla="*/ 49320 w 1042920"/>
              <a:gd name="textAreaRight" fmla="*/ 993600 w 1042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555" h="21600">
                <a:moveTo>
                  <a:pt x="0" y="0"/>
                </a:moveTo>
                <a:lnTo>
                  <a:pt x="29555" y="0"/>
                </a:lnTo>
                <a:lnTo>
                  <a:pt x="29555" y="21600"/>
                </a:lnTo>
                <a:lnTo>
                  <a:pt x="0" y="21600"/>
                </a:lnTo>
                <a:close/>
              </a:path>
              <a:path fill="lightenLess" w="29555" h="21600">
                <a:moveTo>
                  <a:pt x="0" y="0"/>
                </a:moveTo>
                <a:lnTo>
                  <a:pt x="29555" y="0"/>
                </a:lnTo>
                <a:lnTo>
                  <a:pt x="28155" y="1400"/>
                </a:lnTo>
                <a:lnTo>
                  <a:pt x="1400" y="1400"/>
                </a:lnTo>
                <a:close/>
              </a:path>
              <a:path fill="darken" w="29555" h="21600">
                <a:moveTo>
                  <a:pt x="29555" y="0"/>
                </a:moveTo>
                <a:lnTo>
                  <a:pt x="29555" y="21600"/>
                </a:lnTo>
                <a:lnTo>
                  <a:pt x="28155" y="20200"/>
                </a:lnTo>
                <a:lnTo>
                  <a:pt x="28155" y="1400"/>
                </a:lnTo>
                <a:close/>
              </a:path>
              <a:path fill="darkenLess" w="29555" h="21600">
                <a:moveTo>
                  <a:pt x="29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155" y="20200"/>
                </a:lnTo>
                <a:close/>
              </a:path>
              <a:path fill="lighten" w="29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555" h="21600">
                <a:moveTo>
                  <a:pt x="7771" y="10800"/>
                </a:moveTo>
                <a:lnTo>
                  <a:pt x="21784" y="3794"/>
                </a:lnTo>
                <a:lnTo>
                  <a:pt x="21784" y="17806"/>
                </a:lnTo>
                <a:close/>
              </a:path>
            </a:pathLst>
          </a:cu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" action="ppaction://hlinkshowjump?jump=nextslide"/>
          </p:cNvPr>
          <p:cNvSpPr/>
          <p:nvPr/>
        </p:nvSpPr>
        <p:spPr>
          <a:xfrm>
            <a:off x="7315200" y="6095880"/>
            <a:ext cx="1042920" cy="762120"/>
          </a:xfrm>
          <a:custGeom>
            <a:avLst/>
            <a:gdLst>
              <a:gd name="textAreaLeft" fmla="*/ 49320 w 1042920"/>
              <a:gd name="textAreaRight" fmla="*/ 993600 w 1042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555" h="21600">
                <a:moveTo>
                  <a:pt x="0" y="0"/>
                </a:moveTo>
                <a:lnTo>
                  <a:pt x="29555" y="0"/>
                </a:lnTo>
                <a:lnTo>
                  <a:pt x="29555" y="21600"/>
                </a:lnTo>
                <a:lnTo>
                  <a:pt x="0" y="21600"/>
                </a:lnTo>
                <a:close/>
              </a:path>
              <a:path fill="lightenLess" w="29555" h="21600">
                <a:moveTo>
                  <a:pt x="0" y="0"/>
                </a:moveTo>
                <a:lnTo>
                  <a:pt x="29555" y="0"/>
                </a:lnTo>
                <a:lnTo>
                  <a:pt x="28155" y="1400"/>
                </a:lnTo>
                <a:lnTo>
                  <a:pt x="1400" y="1400"/>
                </a:lnTo>
                <a:close/>
              </a:path>
              <a:path fill="darken" w="29555" h="21600">
                <a:moveTo>
                  <a:pt x="29555" y="0"/>
                </a:moveTo>
                <a:lnTo>
                  <a:pt x="29555" y="21600"/>
                </a:lnTo>
                <a:lnTo>
                  <a:pt x="28155" y="20200"/>
                </a:lnTo>
                <a:lnTo>
                  <a:pt x="28155" y="1400"/>
                </a:lnTo>
                <a:close/>
              </a:path>
              <a:path fill="darkenLess" w="29555" h="21600">
                <a:moveTo>
                  <a:pt x="29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155" y="20200"/>
                </a:lnTo>
                <a:close/>
              </a:path>
              <a:path fill="lighten" w="29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555" h="21600">
                <a:moveTo>
                  <a:pt x="7771" y="3794"/>
                </a:moveTo>
                <a:lnTo>
                  <a:pt x="21784" y="10800"/>
                </a:lnTo>
                <a:lnTo>
                  <a:pt x="7771" y="17806"/>
                </a:lnTo>
                <a:close/>
              </a:path>
            </a:pathLst>
          </a:cu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50000">
              <a:srgbClr val="66ffff"/>
            </a:gs>
            <a:gs pos="100000">
              <a:srgbClr val="99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Putting a plot together is a little like cooking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66120" y="2397240"/>
            <a:ext cx="6471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 put the piec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gether well, the resul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 wonderfu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276720" y="4573440"/>
            <a:ext cx="2286000" cy="2284560"/>
          </a:xfrm>
          <a:prstGeom prst="rect">
            <a:avLst/>
          </a:prstGeom>
          <a:ln w="0">
            <a:noFill/>
          </a:ln>
        </p:spPr>
      </p:pic>
      <p:sp>
        <p:nvSpPr>
          <p:cNvPr id="59" name="">
            <a:hlinkClick r:id="" action="ppaction://hlinkshowjump?jump=previousslide"/>
          </p:cNvPr>
          <p:cNvSpPr/>
          <p:nvPr/>
        </p:nvSpPr>
        <p:spPr>
          <a:xfrm>
            <a:off x="205740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ff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" action="ppaction://hlinkshowjump?jump=nextslide"/>
          </p:cNvPr>
          <p:cNvSpPr/>
          <p:nvPr/>
        </p:nvSpPr>
        <p:spPr>
          <a:xfrm>
            <a:off x="5867280" y="581508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66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99ccff"/>
            </a:gs>
            <a:gs pos="100000">
              <a:srgbClr val="99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7772400" cy="39924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248520" y="1295280"/>
            <a:ext cx="2446200" cy="2262240"/>
          </a:xfrm>
          <a:prstGeom prst="rect">
            <a:avLst/>
          </a:prstGeom>
          <a:ln w="0">
            <a:noFill/>
          </a:ln>
        </p:spPr>
      </p:pic>
      <p:sp>
        <p:nvSpPr>
          <p:cNvPr id="63" name="">
            <a:hlinkClick r:id="" action="ppaction://hlinkshowjump?jump=previousslide"/>
          </p:cNvPr>
          <p:cNvSpPr/>
          <p:nvPr/>
        </p:nvSpPr>
        <p:spPr>
          <a:xfrm>
            <a:off x="1523880" y="6172200"/>
            <a:ext cx="1043280" cy="685800"/>
          </a:xfrm>
          <a:custGeom>
            <a:avLst/>
            <a:gdLst>
              <a:gd name="textAreaLeft" fmla="*/ 44280 w 1043280"/>
              <a:gd name="textAreaRight" fmla="*/ 999000 w 10432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2853" h="21600">
                <a:moveTo>
                  <a:pt x="0" y="0"/>
                </a:moveTo>
                <a:lnTo>
                  <a:pt x="32853" y="0"/>
                </a:lnTo>
                <a:lnTo>
                  <a:pt x="32853" y="21600"/>
                </a:lnTo>
                <a:lnTo>
                  <a:pt x="0" y="21600"/>
                </a:lnTo>
                <a:close/>
              </a:path>
              <a:path fill="lightenLess" w="32853" h="21600">
                <a:moveTo>
                  <a:pt x="0" y="0"/>
                </a:moveTo>
                <a:lnTo>
                  <a:pt x="32853" y="0"/>
                </a:lnTo>
                <a:lnTo>
                  <a:pt x="31453" y="1400"/>
                </a:lnTo>
                <a:lnTo>
                  <a:pt x="1400" y="1400"/>
                </a:lnTo>
                <a:close/>
              </a:path>
              <a:path fill="darken" w="32853" h="21600">
                <a:moveTo>
                  <a:pt x="32853" y="0"/>
                </a:moveTo>
                <a:lnTo>
                  <a:pt x="32853" y="21600"/>
                </a:lnTo>
                <a:lnTo>
                  <a:pt x="31453" y="20200"/>
                </a:lnTo>
                <a:lnTo>
                  <a:pt x="31453" y="1400"/>
                </a:lnTo>
                <a:close/>
              </a:path>
              <a:path fill="darkenLess" w="32853" h="21600">
                <a:moveTo>
                  <a:pt x="32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453" y="20200"/>
                </a:lnTo>
                <a:close/>
              </a:path>
              <a:path fill="lighten" w="32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853" h="21600">
                <a:moveTo>
                  <a:pt x="9420" y="10800"/>
                </a:moveTo>
                <a:lnTo>
                  <a:pt x="23433" y="3794"/>
                </a:lnTo>
                <a:lnTo>
                  <a:pt x="23433" y="17806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" action="ppaction://hlinkshowjump?jump=nextslide"/>
          </p:cNvPr>
          <p:cNvSpPr/>
          <p:nvPr/>
        </p:nvSpPr>
        <p:spPr>
          <a:xfrm>
            <a:off x="6477120" y="6172200"/>
            <a:ext cx="1042920" cy="685800"/>
          </a:xfrm>
          <a:custGeom>
            <a:avLst/>
            <a:gdLst>
              <a:gd name="textAreaLeft" fmla="*/ 44280 w 1042920"/>
              <a:gd name="textAreaRight" fmla="*/ 998640 w 1042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2842" h="21600">
                <a:moveTo>
                  <a:pt x="0" y="0"/>
                </a:moveTo>
                <a:lnTo>
                  <a:pt x="32842" y="0"/>
                </a:lnTo>
                <a:lnTo>
                  <a:pt x="32842" y="21600"/>
                </a:lnTo>
                <a:lnTo>
                  <a:pt x="0" y="21600"/>
                </a:lnTo>
                <a:close/>
              </a:path>
              <a:path fill="lightenLess" w="32842" h="21600">
                <a:moveTo>
                  <a:pt x="0" y="0"/>
                </a:moveTo>
                <a:lnTo>
                  <a:pt x="32842" y="0"/>
                </a:lnTo>
                <a:lnTo>
                  <a:pt x="31442" y="1400"/>
                </a:lnTo>
                <a:lnTo>
                  <a:pt x="1400" y="1400"/>
                </a:lnTo>
                <a:close/>
              </a:path>
              <a:path fill="darken" w="32842" h="21600">
                <a:moveTo>
                  <a:pt x="32842" y="0"/>
                </a:moveTo>
                <a:lnTo>
                  <a:pt x="32842" y="21600"/>
                </a:lnTo>
                <a:lnTo>
                  <a:pt x="31442" y="20200"/>
                </a:lnTo>
                <a:lnTo>
                  <a:pt x="31442" y="1400"/>
                </a:lnTo>
                <a:close/>
              </a:path>
              <a:path fill="darkenLess" w="32842" h="21600">
                <a:moveTo>
                  <a:pt x="328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442" y="20200"/>
                </a:lnTo>
                <a:close/>
              </a:path>
              <a:path fill="lighten" w="328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842" h="21600">
                <a:moveTo>
                  <a:pt x="9415" y="3794"/>
                </a:moveTo>
                <a:lnTo>
                  <a:pt x="23427" y="10800"/>
                </a:lnTo>
                <a:lnTo>
                  <a:pt x="9415" y="17806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76960" y="214200"/>
            <a:ext cx="7029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You can use a plot char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to plan your stor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5f5f5f"/>
                </a:solidFill>
                <a:latin typeface="Comic Sans MS"/>
              </a:rPr>
              <a:t>Beginning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896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story beginning should show the character, the setting, and set up the ac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334120" y="2057400"/>
            <a:ext cx="3809880" cy="2550960"/>
          </a:xfrm>
          <a:prstGeom prst="rect">
            <a:avLst/>
          </a:prstGeom>
          <a:ln w="0">
            <a:noFill/>
          </a:ln>
        </p:spPr>
      </p:pic>
      <p:sp>
        <p:nvSpPr>
          <p:cNvPr id="69" name="">
            <a:hlinkClick r:id="" action="ppaction://hlinkshowjump?jump=previousslide"/>
          </p:cNvPr>
          <p:cNvSpPr/>
          <p:nvPr/>
        </p:nvSpPr>
        <p:spPr>
          <a:xfrm>
            <a:off x="1523880" y="6195960"/>
            <a:ext cx="1043280" cy="662040"/>
          </a:xfrm>
          <a:custGeom>
            <a:avLst/>
            <a:gdLst>
              <a:gd name="textAreaLeft" fmla="*/ 42840 w 1043280"/>
              <a:gd name="textAreaRight" fmla="*/ 1000440 w 104328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34032" h="21600">
                <a:moveTo>
                  <a:pt x="0" y="0"/>
                </a:moveTo>
                <a:lnTo>
                  <a:pt x="34032" y="0"/>
                </a:lnTo>
                <a:lnTo>
                  <a:pt x="34032" y="21600"/>
                </a:lnTo>
                <a:lnTo>
                  <a:pt x="0" y="21600"/>
                </a:lnTo>
                <a:close/>
              </a:path>
              <a:path fill="lightenLess" w="34032" h="21600">
                <a:moveTo>
                  <a:pt x="0" y="0"/>
                </a:moveTo>
                <a:lnTo>
                  <a:pt x="34032" y="0"/>
                </a:lnTo>
                <a:lnTo>
                  <a:pt x="32632" y="1400"/>
                </a:lnTo>
                <a:lnTo>
                  <a:pt x="1400" y="1400"/>
                </a:lnTo>
                <a:close/>
              </a:path>
              <a:path fill="darken" w="34032" h="21600">
                <a:moveTo>
                  <a:pt x="34032" y="0"/>
                </a:moveTo>
                <a:lnTo>
                  <a:pt x="34032" y="21600"/>
                </a:lnTo>
                <a:lnTo>
                  <a:pt x="32632" y="20200"/>
                </a:lnTo>
                <a:lnTo>
                  <a:pt x="32632" y="1400"/>
                </a:lnTo>
                <a:close/>
              </a:path>
              <a:path fill="darkenLess" w="34032" h="21600">
                <a:moveTo>
                  <a:pt x="340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32" y="20200"/>
                </a:lnTo>
                <a:close/>
              </a:path>
              <a:path fill="lighten" w="340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032" h="21600">
                <a:moveTo>
                  <a:pt x="10009" y="10800"/>
                </a:moveTo>
                <a:lnTo>
                  <a:pt x="24022" y="3794"/>
                </a:lnTo>
                <a:lnTo>
                  <a:pt x="24022" y="17806"/>
                </a:ln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" action="ppaction://hlinkshowjump?jump=nextslide"/>
          </p:cNvPr>
          <p:cNvSpPr/>
          <p:nvPr/>
        </p:nvSpPr>
        <p:spPr>
          <a:xfrm>
            <a:off x="6477120" y="6095880"/>
            <a:ext cx="1042920" cy="762120"/>
          </a:xfrm>
          <a:custGeom>
            <a:avLst/>
            <a:gdLst>
              <a:gd name="textAreaLeft" fmla="*/ 49320 w 1042920"/>
              <a:gd name="textAreaRight" fmla="*/ 993600 w 1042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555" h="21600">
                <a:moveTo>
                  <a:pt x="0" y="0"/>
                </a:moveTo>
                <a:lnTo>
                  <a:pt x="29555" y="0"/>
                </a:lnTo>
                <a:lnTo>
                  <a:pt x="29555" y="21600"/>
                </a:lnTo>
                <a:lnTo>
                  <a:pt x="0" y="21600"/>
                </a:lnTo>
                <a:close/>
              </a:path>
              <a:path fill="lightenLess" w="29555" h="21600">
                <a:moveTo>
                  <a:pt x="0" y="0"/>
                </a:moveTo>
                <a:lnTo>
                  <a:pt x="29555" y="0"/>
                </a:lnTo>
                <a:lnTo>
                  <a:pt x="28155" y="1400"/>
                </a:lnTo>
                <a:lnTo>
                  <a:pt x="1400" y="1400"/>
                </a:lnTo>
                <a:close/>
              </a:path>
              <a:path fill="darken" w="29555" h="21600">
                <a:moveTo>
                  <a:pt x="29555" y="0"/>
                </a:moveTo>
                <a:lnTo>
                  <a:pt x="29555" y="21600"/>
                </a:lnTo>
                <a:lnTo>
                  <a:pt x="28155" y="20200"/>
                </a:lnTo>
                <a:lnTo>
                  <a:pt x="28155" y="1400"/>
                </a:lnTo>
                <a:close/>
              </a:path>
              <a:path fill="darkenLess" w="29555" h="21600">
                <a:moveTo>
                  <a:pt x="29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155" y="20200"/>
                </a:lnTo>
                <a:close/>
              </a:path>
              <a:path fill="lighten" w="29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555" h="21600">
                <a:moveTo>
                  <a:pt x="7771" y="3794"/>
                </a:moveTo>
                <a:lnTo>
                  <a:pt x="21784" y="10800"/>
                </a:lnTo>
                <a:lnTo>
                  <a:pt x="7771" y="17806"/>
                </a:ln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99ff99"/>
            </a:gs>
            <a:gs pos="100000">
              <a:srgbClr val="cc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808080"/>
                </a:solidFill>
                <a:latin typeface="Comic Sans MS"/>
              </a:rPr>
              <a:t>Middl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5800" y="2362320"/>
            <a:ext cx="3809880" cy="383832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2670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middle of the story is where the problem is establish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action happens in the midd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7315200" y="457200"/>
            <a:ext cx="1346040" cy="1278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685800" y="228600"/>
            <a:ext cx="1752480" cy="2133720"/>
          </a:xfrm>
          <a:prstGeom prst="rect">
            <a:avLst/>
          </a:prstGeom>
          <a:ln w="0">
            <a:noFill/>
          </a:ln>
        </p:spPr>
      </p:pic>
      <p:sp>
        <p:nvSpPr>
          <p:cNvPr id="76" name="">
            <a:hlinkClick r:id="" action="ppaction://hlinkshowjump?jump=previousslide"/>
          </p:cNvPr>
          <p:cNvSpPr/>
          <p:nvPr/>
        </p:nvSpPr>
        <p:spPr>
          <a:xfrm>
            <a:off x="1447920" y="6172200"/>
            <a:ext cx="1042920" cy="685800"/>
          </a:xfrm>
          <a:custGeom>
            <a:avLst/>
            <a:gdLst>
              <a:gd name="textAreaLeft" fmla="*/ 44280 w 1042920"/>
              <a:gd name="textAreaRight" fmla="*/ 998640 w 1042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2842" h="21600">
                <a:moveTo>
                  <a:pt x="0" y="0"/>
                </a:moveTo>
                <a:lnTo>
                  <a:pt x="32842" y="0"/>
                </a:lnTo>
                <a:lnTo>
                  <a:pt x="32842" y="21600"/>
                </a:lnTo>
                <a:lnTo>
                  <a:pt x="0" y="21600"/>
                </a:lnTo>
                <a:close/>
              </a:path>
              <a:path fill="lightenLess" w="32842" h="21600">
                <a:moveTo>
                  <a:pt x="0" y="0"/>
                </a:moveTo>
                <a:lnTo>
                  <a:pt x="32842" y="0"/>
                </a:lnTo>
                <a:lnTo>
                  <a:pt x="31442" y="1400"/>
                </a:lnTo>
                <a:lnTo>
                  <a:pt x="1400" y="1400"/>
                </a:lnTo>
                <a:close/>
              </a:path>
              <a:path fill="darken" w="32842" h="21600">
                <a:moveTo>
                  <a:pt x="32842" y="0"/>
                </a:moveTo>
                <a:lnTo>
                  <a:pt x="32842" y="21600"/>
                </a:lnTo>
                <a:lnTo>
                  <a:pt x="31442" y="20200"/>
                </a:lnTo>
                <a:lnTo>
                  <a:pt x="31442" y="1400"/>
                </a:lnTo>
                <a:close/>
              </a:path>
              <a:path fill="darkenLess" w="32842" h="21600">
                <a:moveTo>
                  <a:pt x="328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442" y="20200"/>
                </a:lnTo>
                <a:close/>
              </a:path>
              <a:path fill="lighten" w="328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842" h="21600">
                <a:moveTo>
                  <a:pt x="9415" y="10800"/>
                </a:moveTo>
                <a:lnTo>
                  <a:pt x="23427" y="3794"/>
                </a:lnTo>
                <a:lnTo>
                  <a:pt x="23427" y="17806"/>
                </a:lnTo>
                <a:close/>
              </a:path>
            </a:pathLst>
          </a:custGeom>
          <a:solidFill>
            <a:srgbClr val="66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" action="ppaction://hlinkshowjump?jump=nextslide"/>
          </p:cNvPr>
          <p:cNvSpPr/>
          <p:nvPr/>
        </p:nvSpPr>
        <p:spPr>
          <a:xfrm>
            <a:off x="6705720" y="6095880"/>
            <a:ext cx="1042920" cy="762120"/>
          </a:xfrm>
          <a:custGeom>
            <a:avLst/>
            <a:gdLst>
              <a:gd name="textAreaLeft" fmla="*/ 49320 w 1042920"/>
              <a:gd name="textAreaRight" fmla="*/ 993600 w 1042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555" h="21600">
                <a:moveTo>
                  <a:pt x="0" y="0"/>
                </a:moveTo>
                <a:lnTo>
                  <a:pt x="29555" y="0"/>
                </a:lnTo>
                <a:lnTo>
                  <a:pt x="29555" y="21600"/>
                </a:lnTo>
                <a:lnTo>
                  <a:pt x="0" y="21600"/>
                </a:lnTo>
                <a:close/>
              </a:path>
              <a:path fill="lightenLess" w="29555" h="21600">
                <a:moveTo>
                  <a:pt x="0" y="0"/>
                </a:moveTo>
                <a:lnTo>
                  <a:pt x="29555" y="0"/>
                </a:lnTo>
                <a:lnTo>
                  <a:pt x="28155" y="1400"/>
                </a:lnTo>
                <a:lnTo>
                  <a:pt x="1400" y="1400"/>
                </a:lnTo>
                <a:close/>
              </a:path>
              <a:path fill="darken" w="29555" h="21600">
                <a:moveTo>
                  <a:pt x="29555" y="0"/>
                </a:moveTo>
                <a:lnTo>
                  <a:pt x="29555" y="21600"/>
                </a:lnTo>
                <a:lnTo>
                  <a:pt x="28155" y="20200"/>
                </a:lnTo>
                <a:lnTo>
                  <a:pt x="28155" y="1400"/>
                </a:lnTo>
                <a:close/>
              </a:path>
              <a:path fill="darkenLess" w="29555" h="21600">
                <a:moveTo>
                  <a:pt x="29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155" y="20200"/>
                </a:lnTo>
                <a:close/>
              </a:path>
              <a:path fill="lighten" w="29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555" h="21600">
                <a:moveTo>
                  <a:pt x="7771" y="3794"/>
                </a:moveTo>
                <a:lnTo>
                  <a:pt x="21784" y="10800"/>
                </a:lnTo>
                <a:lnTo>
                  <a:pt x="7771" y="17806"/>
                </a:lnTo>
                <a:close/>
              </a:path>
            </a:pathLst>
          </a:custGeom>
          <a:solidFill>
            <a:srgbClr val="66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99ff66"/>
            </a:gs>
            <a:gs pos="100000">
              <a:srgbClr val="00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808080"/>
                </a:solidFill>
                <a:latin typeface="Comic Sans MS"/>
              </a:rPr>
              <a:t>Ending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t the end of the story the problem is resolve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943600" y="1143000"/>
            <a:ext cx="2719440" cy="41148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267080" y="2819520"/>
            <a:ext cx="1981440" cy="4038480"/>
          </a:xfrm>
          <a:prstGeom prst="rect">
            <a:avLst/>
          </a:prstGeom>
          <a:ln w="0">
            <a:noFill/>
          </a:ln>
        </p:spPr>
      </p:pic>
      <p:sp>
        <p:nvSpPr>
          <p:cNvPr id="82" name="">
            <a:hlinkClick r:id="" action="ppaction://hlinkshowjump?jump=previousslide"/>
          </p:cNvPr>
          <p:cNvSpPr/>
          <p:nvPr/>
        </p:nvSpPr>
        <p:spPr>
          <a:xfrm>
            <a:off x="1600200" y="6095880"/>
            <a:ext cx="1042920" cy="762120"/>
          </a:xfrm>
          <a:custGeom>
            <a:avLst/>
            <a:gdLst>
              <a:gd name="textAreaLeft" fmla="*/ 49320 w 1042920"/>
              <a:gd name="textAreaRight" fmla="*/ 993600 w 1042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555" h="21600">
                <a:moveTo>
                  <a:pt x="0" y="0"/>
                </a:moveTo>
                <a:lnTo>
                  <a:pt x="29555" y="0"/>
                </a:lnTo>
                <a:lnTo>
                  <a:pt x="29555" y="21600"/>
                </a:lnTo>
                <a:lnTo>
                  <a:pt x="0" y="21600"/>
                </a:lnTo>
                <a:close/>
              </a:path>
              <a:path fill="lightenLess" w="29555" h="21600">
                <a:moveTo>
                  <a:pt x="0" y="0"/>
                </a:moveTo>
                <a:lnTo>
                  <a:pt x="29555" y="0"/>
                </a:lnTo>
                <a:lnTo>
                  <a:pt x="28155" y="1400"/>
                </a:lnTo>
                <a:lnTo>
                  <a:pt x="1400" y="1400"/>
                </a:lnTo>
                <a:close/>
              </a:path>
              <a:path fill="darken" w="29555" h="21600">
                <a:moveTo>
                  <a:pt x="29555" y="0"/>
                </a:moveTo>
                <a:lnTo>
                  <a:pt x="29555" y="21600"/>
                </a:lnTo>
                <a:lnTo>
                  <a:pt x="28155" y="20200"/>
                </a:lnTo>
                <a:lnTo>
                  <a:pt x="28155" y="1400"/>
                </a:lnTo>
                <a:close/>
              </a:path>
              <a:path fill="darkenLess" w="29555" h="21600">
                <a:moveTo>
                  <a:pt x="29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155" y="20200"/>
                </a:lnTo>
                <a:close/>
              </a:path>
              <a:path fill="lighten" w="29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555" h="21600">
                <a:moveTo>
                  <a:pt x="7771" y="10800"/>
                </a:moveTo>
                <a:lnTo>
                  <a:pt x="21784" y="3794"/>
                </a:lnTo>
                <a:lnTo>
                  <a:pt x="21784" y="17806"/>
                </a:lnTo>
                <a:close/>
              </a:path>
            </a:pathLst>
          </a:cu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" action="ppaction://hlinkshowjump?jump=nextslide"/>
          </p:cNvPr>
          <p:cNvSpPr/>
          <p:nvPr/>
        </p:nvSpPr>
        <p:spPr>
          <a:xfrm>
            <a:off x="6477120" y="6095880"/>
            <a:ext cx="1042920" cy="762120"/>
          </a:xfrm>
          <a:custGeom>
            <a:avLst/>
            <a:gdLst>
              <a:gd name="textAreaLeft" fmla="*/ 49320 w 1042920"/>
              <a:gd name="textAreaRight" fmla="*/ 993600 w 1042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555" h="21600">
                <a:moveTo>
                  <a:pt x="0" y="0"/>
                </a:moveTo>
                <a:lnTo>
                  <a:pt x="29555" y="0"/>
                </a:lnTo>
                <a:lnTo>
                  <a:pt x="29555" y="21600"/>
                </a:lnTo>
                <a:lnTo>
                  <a:pt x="0" y="21600"/>
                </a:lnTo>
                <a:close/>
              </a:path>
              <a:path fill="lightenLess" w="29555" h="21600">
                <a:moveTo>
                  <a:pt x="0" y="0"/>
                </a:moveTo>
                <a:lnTo>
                  <a:pt x="29555" y="0"/>
                </a:lnTo>
                <a:lnTo>
                  <a:pt x="28155" y="1400"/>
                </a:lnTo>
                <a:lnTo>
                  <a:pt x="1400" y="1400"/>
                </a:lnTo>
                <a:close/>
              </a:path>
              <a:path fill="darken" w="29555" h="21600">
                <a:moveTo>
                  <a:pt x="29555" y="0"/>
                </a:moveTo>
                <a:lnTo>
                  <a:pt x="29555" y="21600"/>
                </a:lnTo>
                <a:lnTo>
                  <a:pt x="28155" y="20200"/>
                </a:lnTo>
                <a:lnTo>
                  <a:pt x="28155" y="1400"/>
                </a:lnTo>
                <a:close/>
              </a:path>
              <a:path fill="darkenLess" w="29555" h="21600">
                <a:moveTo>
                  <a:pt x="29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155" y="20200"/>
                </a:lnTo>
                <a:close/>
              </a:path>
              <a:path fill="lighten" w="29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555" h="21600">
                <a:moveTo>
                  <a:pt x="7771" y="3794"/>
                </a:moveTo>
                <a:lnTo>
                  <a:pt x="21784" y="10800"/>
                </a:lnTo>
                <a:lnTo>
                  <a:pt x="7771" y="17806"/>
                </a:lnTo>
                <a:close/>
              </a:path>
            </a:pathLst>
          </a:cu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Plot your own story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09480" y="2514600"/>
            <a:ext cx="7772400" cy="2819520"/>
          </a:xfrm>
          <a:prstGeom prst="rect">
            <a:avLst/>
          </a:prstGeom>
          <a:ln w="0">
            <a:noFill/>
          </a:ln>
        </p:spPr>
      </p:pic>
      <p:sp>
        <p:nvSpPr>
          <p:cNvPr id="86" name="">
            <a:hlinkClick r:id="" action="ppaction://hlinkshowjump?jump=previousslide"/>
          </p:cNvPr>
          <p:cNvSpPr/>
          <p:nvPr/>
        </p:nvSpPr>
        <p:spPr>
          <a:xfrm>
            <a:off x="1523880" y="6172200"/>
            <a:ext cx="1043280" cy="685800"/>
          </a:xfrm>
          <a:custGeom>
            <a:avLst/>
            <a:gdLst>
              <a:gd name="textAreaLeft" fmla="*/ 44280 w 1043280"/>
              <a:gd name="textAreaRight" fmla="*/ 999000 w 10432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2853" h="21600">
                <a:moveTo>
                  <a:pt x="0" y="0"/>
                </a:moveTo>
                <a:lnTo>
                  <a:pt x="32853" y="0"/>
                </a:lnTo>
                <a:lnTo>
                  <a:pt x="32853" y="21600"/>
                </a:lnTo>
                <a:lnTo>
                  <a:pt x="0" y="21600"/>
                </a:lnTo>
                <a:close/>
              </a:path>
              <a:path fill="lightenLess" w="32853" h="21600">
                <a:moveTo>
                  <a:pt x="0" y="0"/>
                </a:moveTo>
                <a:lnTo>
                  <a:pt x="32853" y="0"/>
                </a:lnTo>
                <a:lnTo>
                  <a:pt x="31453" y="1400"/>
                </a:lnTo>
                <a:lnTo>
                  <a:pt x="1400" y="1400"/>
                </a:lnTo>
                <a:close/>
              </a:path>
              <a:path fill="darken" w="32853" h="21600">
                <a:moveTo>
                  <a:pt x="32853" y="0"/>
                </a:moveTo>
                <a:lnTo>
                  <a:pt x="32853" y="21600"/>
                </a:lnTo>
                <a:lnTo>
                  <a:pt x="31453" y="20200"/>
                </a:lnTo>
                <a:lnTo>
                  <a:pt x="31453" y="1400"/>
                </a:lnTo>
                <a:close/>
              </a:path>
              <a:path fill="darkenLess" w="32853" h="21600">
                <a:moveTo>
                  <a:pt x="32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453" y="20200"/>
                </a:lnTo>
                <a:close/>
              </a:path>
              <a:path fill="lighten" w="32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853" h="21600">
                <a:moveTo>
                  <a:pt x="9420" y="10800"/>
                </a:moveTo>
                <a:lnTo>
                  <a:pt x="23433" y="3794"/>
                </a:lnTo>
                <a:lnTo>
                  <a:pt x="23433" y="17806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" action="ppaction://hlinkshowjump?jump=nextslide"/>
          </p:cNvPr>
          <p:cNvSpPr/>
          <p:nvPr/>
        </p:nvSpPr>
        <p:spPr>
          <a:xfrm>
            <a:off x="6172200" y="6095880"/>
            <a:ext cx="1042920" cy="762120"/>
          </a:xfrm>
          <a:custGeom>
            <a:avLst/>
            <a:gdLst>
              <a:gd name="textAreaLeft" fmla="*/ 49320 w 1042920"/>
              <a:gd name="textAreaRight" fmla="*/ 993600 w 1042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555" h="21600">
                <a:moveTo>
                  <a:pt x="0" y="0"/>
                </a:moveTo>
                <a:lnTo>
                  <a:pt x="29555" y="0"/>
                </a:lnTo>
                <a:lnTo>
                  <a:pt x="29555" y="21600"/>
                </a:lnTo>
                <a:lnTo>
                  <a:pt x="0" y="21600"/>
                </a:lnTo>
                <a:close/>
              </a:path>
              <a:path fill="lightenLess" w="29555" h="21600">
                <a:moveTo>
                  <a:pt x="0" y="0"/>
                </a:moveTo>
                <a:lnTo>
                  <a:pt x="29555" y="0"/>
                </a:lnTo>
                <a:lnTo>
                  <a:pt x="28155" y="1400"/>
                </a:lnTo>
                <a:lnTo>
                  <a:pt x="1400" y="1400"/>
                </a:lnTo>
                <a:close/>
              </a:path>
              <a:path fill="darken" w="29555" h="21600">
                <a:moveTo>
                  <a:pt x="29555" y="0"/>
                </a:moveTo>
                <a:lnTo>
                  <a:pt x="29555" y="21600"/>
                </a:lnTo>
                <a:lnTo>
                  <a:pt x="28155" y="20200"/>
                </a:lnTo>
                <a:lnTo>
                  <a:pt x="28155" y="1400"/>
                </a:lnTo>
                <a:close/>
              </a:path>
              <a:path fill="darkenLess" w="29555" h="21600">
                <a:moveTo>
                  <a:pt x="29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155" y="20200"/>
                </a:lnTo>
                <a:close/>
              </a:path>
              <a:path fill="lighten" w="29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555" h="21600">
                <a:moveTo>
                  <a:pt x="7771" y="3794"/>
                </a:moveTo>
                <a:lnTo>
                  <a:pt x="21784" y="10800"/>
                </a:lnTo>
                <a:lnTo>
                  <a:pt x="7771" y="17806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0080" y="5257800"/>
            <a:ext cx="842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00"/>
                </a:solidFill>
                <a:latin typeface="Comic Sans MS"/>
              </a:rPr>
              <a:t>Copy this graphic on your pap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8T17:44:34Z</dcterms:created>
  <dc:creator>Hazelwood School District</dc:creator>
  <dc:description/>
  <dc:language>en-US</dc:language>
  <cp:lastModifiedBy>Cheryl Davis</cp:lastModifiedBy>
  <dcterms:modified xsi:type="dcterms:W3CDTF">2000-01-19T15:04:37Z</dcterms:modified>
  <cp:revision>15</cp:revision>
  <dc:subject/>
  <dc:title>Plot Development</dc:title>
</cp:coreProperties>
</file>