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034-366F-4FA3-A878-A023270D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DAA-AA83-48B1-AAEC-B101D6B4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CCB-4BBB-4B73-959B-A9A80505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69E-3FCB-4037-A514-751529C9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FCB-6CFA-48DA-B3C6-A39F23A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06A-4691-4147-A051-D66F73B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2A8-B0E2-4275-9658-3A28B9C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427-DD7F-4F31-8224-CCECD3E3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174-0156-4C5F-8E04-7FDBDBC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D6F-5D87-48DE-9460-CC6645E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AE5-C49B-4193-BF70-7DE962B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ABB-CDD0-4665-A238-DE6033A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32BD-B425-4D94-A33C-47C64704B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ooking Up A Pl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3rd Grade, 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y Ruebus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cCurd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048120" cy="304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90920" y="1066680"/>
            <a:ext cx="47908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rite a Story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5715000" y="5967360"/>
            <a:ext cx="2209680" cy="890640"/>
          </a:xfrm>
          <a:custGeom>
            <a:avLst/>
            <a:gdLst>
              <a:gd name="textAreaLeft" fmla="*/ 57600 w 2209680"/>
              <a:gd name="textAreaRight" fmla="*/ 2152080 w 220968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53577" h="21600">
                <a:moveTo>
                  <a:pt x="0" y="0"/>
                </a:moveTo>
                <a:lnTo>
                  <a:pt x="53577" y="0"/>
                </a:lnTo>
                <a:lnTo>
                  <a:pt x="53577" y="21600"/>
                </a:lnTo>
                <a:lnTo>
                  <a:pt x="0" y="21600"/>
                </a:lnTo>
                <a:close/>
              </a:path>
              <a:path fill="lightenLess" w="53577" h="21600">
                <a:moveTo>
                  <a:pt x="0" y="0"/>
                </a:moveTo>
                <a:lnTo>
                  <a:pt x="53577" y="0"/>
                </a:lnTo>
                <a:lnTo>
                  <a:pt x="52177" y="1400"/>
                </a:lnTo>
                <a:lnTo>
                  <a:pt x="1400" y="1400"/>
                </a:lnTo>
                <a:close/>
              </a:path>
              <a:path fill="darken" w="53577" h="21600">
                <a:moveTo>
                  <a:pt x="53577" y="0"/>
                </a:moveTo>
                <a:lnTo>
                  <a:pt x="53577" y="21600"/>
                </a:lnTo>
                <a:lnTo>
                  <a:pt x="52177" y="20200"/>
                </a:lnTo>
                <a:lnTo>
                  <a:pt x="52177" y="1400"/>
                </a:lnTo>
                <a:close/>
              </a:path>
              <a:path fill="darkenLess" w="53577" h="21600">
                <a:moveTo>
                  <a:pt x="53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77" y="20200"/>
                </a:lnTo>
                <a:close/>
              </a:path>
              <a:path fill="lighten" w="53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int:  A Story Middle may have many part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1447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8120" y="4044960"/>
          <a:ext cx="3352680" cy="28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04496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are your story chart with a partn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16002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880" y="3048120"/>
            <a:ext cx="73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is easier to write a w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lanned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4479840"/>
            <a:ext cx="2133360" cy="194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8720" y="533088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t development involves creating a problem and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plot will help a story to have a beginning, middle, and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629400" y="6019920"/>
            <a:ext cx="1119240" cy="838080"/>
          </a:xfrm>
          <a:custGeom>
            <a:avLst/>
            <a:gdLst>
              <a:gd name="textAreaLeft" fmla="*/ 54000 w 1119240"/>
              <a:gd name="textAreaRight" fmla="*/ 1065240 w 1119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8843" h="21600">
                <a:moveTo>
                  <a:pt x="0" y="0"/>
                </a:moveTo>
                <a:lnTo>
                  <a:pt x="28843" y="0"/>
                </a:lnTo>
                <a:lnTo>
                  <a:pt x="28843" y="21600"/>
                </a:lnTo>
                <a:lnTo>
                  <a:pt x="0" y="21600"/>
                </a:lnTo>
                <a:close/>
              </a:path>
              <a:path fill="lightenLess" w="28843" h="21600">
                <a:moveTo>
                  <a:pt x="0" y="0"/>
                </a:moveTo>
                <a:lnTo>
                  <a:pt x="28843" y="0"/>
                </a:lnTo>
                <a:lnTo>
                  <a:pt x="27443" y="1400"/>
                </a:lnTo>
                <a:lnTo>
                  <a:pt x="1400" y="1400"/>
                </a:lnTo>
                <a:close/>
              </a:path>
              <a:path fill="darken" w="28843" h="21600">
                <a:moveTo>
                  <a:pt x="28843" y="0"/>
                </a:moveTo>
                <a:lnTo>
                  <a:pt x="28843" y="21600"/>
                </a:lnTo>
                <a:lnTo>
                  <a:pt x="27443" y="20200"/>
                </a:lnTo>
                <a:lnTo>
                  <a:pt x="27443" y="1400"/>
                </a:lnTo>
                <a:close/>
              </a:path>
              <a:path fill="darkenLess" w="28843" h="21600">
                <a:moveTo>
                  <a:pt x="2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3" y="20200"/>
                </a:lnTo>
                <a:close/>
              </a:path>
              <a:path fill="lighten" w="2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3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141588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:  The students will pract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graphic to make a story p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2240" y="2762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the slides, reading and discussing the cont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 students will plot a story on a graphic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They should then share their story plot with a part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7560" y="14940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15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66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ting a plot together is a little like cook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6120" y="2397240"/>
            <a:ext cx="64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ut the pie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well, the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nderf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573440"/>
            <a:ext cx="2286000" cy="22845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2057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867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99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446200" cy="22622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4771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960" y="214200"/>
            <a:ext cx="70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can use a plot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plan your st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Comic Sans MS"/>
              </a:rPr>
              <a:t>Beginn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tory beginning should show the character, the setting, and set up the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3880" y="619596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10800"/>
                </a:moveTo>
                <a:lnTo>
                  <a:pt x="24022" y="3794"/>
                </a:lnTo>
                <a:lnTo>
                  <a:pt x="24022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99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M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38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iddle of the story is where the proble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ction happens in the m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4604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144792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7057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ff66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Comic Sans MS"/>
              </a:rPr>
              <a:t>End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the end of the story the problem is res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71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98144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600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47712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lot your own stor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23880" y="6172200"/>
            <a:ext cx="1043280" cy="685800"/>
          </a:xfrm>
          <a:custGeom>
            <a:avLst/>
            <a:gdLst>
              <a:gd name="textAreaLeft" fmla="*/ 44280 w 1043280"/>
              <a:gd name="textAreaRight" fmla="*/ 999000 w 1043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53" h="21600">
                <a:moveTo>
                  <a:pt x="0" y="0"/>
                </a:moveTo>
                <a:lnTo>
                  <a:pt x="32853" y="0"/>
                </a:lnTo>
                <a:lnTo>
                  <a:pt x="32853" y="21600"/>
                </a:lnTo>
                <a:lnTo>
                  <a:pt x="0" y="21600"/>
                </a:lnTo>
                <a:close/>
              </a:path>
              <a:path fill="lightenLess" w="32853" h="21600">
                <a:moveTo>
                  <a:pt x="0" y="0"/>
                </a:moveTo>
                <a:lnTo>
                  <a:pt x="32853" y="0"/>
                </a:lnTo>
                <a:lnTo>
                  <a:pt x="31453" y="1400"/>
                </a:lnTo>
                <a:lnTo>
                  <a:pt x="1400" y="1400"/>
                </a:lnTo>
                <a:close/>
              </a:path>
              <a:path fill="darken" w="32853" h="21600">
                <a:moveTo>
                  <a:pt x="32853" y="0"/>
                </a:moveTo>
                <a:lnTo>
                  <a:pt x="32853" y="21600"/>
                </a:lnTo>
                <a:lnTo>
                  <a:pt x="31453" y="20200"/>
                </a:lnTo>
                <a:lnTo>
                  <a:pt x="31453" y="1400"/>
                </a:lnTo>
                <a:close/>
              </a:path>
              <a:path fill="darkenLess" w="32853" h="21600">
                <a:moveTo>
                  <a:pt x="32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53" y="20200"/>
                </a:lnTo>
                <a:close/>
              </a:path>
              <a:path fill="lighten" w="32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53" h="21600">
                <a:moveTo>
                  <a:pt x="9420" y="10800"/>
                </a:moveTo>
                <a:lnTo>
                  <a:pt x="23433" y="3794"/>
                </a:lnTo>
                <a:lnTo>
                  <a:pt x="23433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17220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3794"/>
                </a:moveTo>
                <a:lnTo>
                  <a:pt x="21784" y="10800"/>
                </a:lnTo>
                <a:lnTo>
                  <a:pt x="7771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0080" y="525780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Comic Sans MS"/>
              </a:rPr>
              <a:t>Copy this graphic on your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44:34Z</dcterms:created>
  <dc:creator>Hazelwood School District</dc:creator>
  <dc:description/>
  <dc:language>en-US</dc:language>
  <cp:lastModifiedBy>Cheryl Davis</cp:lastModifiedBy>
  <dcterms:modified xsi:type="dcterms:W3CDTF">2000-01-19T15:04:37Z</dcterms:modified>
  <cp:revision>15</cp:revision>
  <dc:subject/>
  <dc:title>Plot Development</dc:title>
</cp:coreProperties>
</file>