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F26-B97F-4DEA-9473-1C93DC1B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6B7-F0E4-4020-AA78-393F81E1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456-A978-4B6B-BF25-FC4CFDC6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9AD-41A7-4CA4-B035-1BB7C21E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C5E6-5CCB-4D52-BEE8-DC6E545A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1C3A-E63E-4A25-AA1E-520AF6AF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3AEE-E9F7-4D09-887B-7387D0FB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DD6A-FB27-4091-BDBD-62CF1FBA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2C66-4341-4EC1-8259-A183BC0A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8597-31DC-45BA-A1DD-029FB987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E3B9-5AC4-4468-80F3-A871EF5C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314-BF32-4F6A-8634-38F70329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BA1C-AA84-4637-8522-F38CD9A2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0A20-4A7E-43A6-9D44-2771E2C7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B567-BFD4-4E81-BB38-1C5ADE60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7C21-119E-4D8D-8B13-89597AFD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F61C-80A1-413D-A055-4F9F2CB7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D57-4844-4C21-80BD-49ACD126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EAC-0D17-4654-8DDB-617BD2CC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28B-FE3A-4996-9BA1-4BE5B440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74A-A4A6-41E2-8157-EBB5628C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908-76CF-4EC4-96E8-102132FF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F17-0A5A-421D-BEE1-617F2A65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B33-F2C1-4E63-AF0D-1C331C9F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EE92-8CEB-46A5-AD9C-E124815F94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0D52-48BD-4755-A59B-03188C9D15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ath Flash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Place Value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74360" y="1828800"/>
            <a:ext cx="396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973,10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0240" y="3909960"/>
            <a:ext cx="64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seventy-thre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, one hundred 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619640" y="1828800"/>
            <a:ext cx="599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384,133,472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7280" y="3909960"/>
            <a:ext cx="806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ree hundred eighty-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hundred thirty-thre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hundred seventy-tw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84000" y="190512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1,874,304,039,270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505320"/>
            <a:ext cx="900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trillion, eight hundred sev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illion, three hundred 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r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wo hundred seven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560" y="3505320"/>
            <a:ext cx="853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eight hundred twen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fiv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member that each period ha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ree place values within the perio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6000">
            <a:off x="-30528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6000">
            <a:off x="1294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6000">
            <a:off x="2970720" y="2667240"/>
            <a:ext cx="3124080" cy="14464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6000">
            <a:off x="4723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6000">
            <a:off x="647604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  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8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350532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51480" y="3581280"/>
            <a:ext cx="34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4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720" y="3581280"/>
            <a:ext cx="207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9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5480" y="358128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6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912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938320" y="2057400"/>
            <a:ext cx="36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06640" y="4075200"/>
            <a:ext cx="36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5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80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7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86080" y="358128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8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56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34,789,10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524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64,789,13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13640" y="358128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190512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Ninety thousand, four hundred eigh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59240" y="3767040"/>
            <a:ext cx="227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90,408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981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even million, twenty-two thousand, two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2960" y="376704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2,2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expande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049560" y="228600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1,5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2400" y="4038480"/>
            <a:ext cx="786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7,000,000 + 20,000 + 1,000 + 500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200" y="342900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000 + 300 + 60 + 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82880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6,80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51160" y="3429000"/>
            <a:ext cx="62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0,000 + 6,000 + 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80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373392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82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5200" y="198108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000 + 800 + 2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wo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540600" y="1828800"/>
            <a:ext cx="21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280" y="3581280"/>
            <a:ext cx="85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four thousand, three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ixty-seve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re the periods of this 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6000">
            <a:off x="-38088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12952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8954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64832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640080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read large numbers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97400" y="548640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6000">
            <a:off x="74520" y="3731760"/>
            <a:ext cx="221004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7524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33526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50673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68961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09480"/>
            <a:ext cx="9144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Read the numbers before the comma as if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you were reading in the one’s column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Say the period you are in when you get to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the comma except for the one’s period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163960" y="1828800"/>
            <a:ext cx="483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4,371,02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0840" y="3909960"/>
            <a:ext cx="797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three hundred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venty-one thousand, tw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4:49:56Z</dcterms:created>
  <dc:creator>Monica/Bob Yuskaitis</dc:creator>
  <dc:description/>
  <dc:language>en-US</dc:language>
  <cp:lastModifiedBy>darci.mock</cp:lastModifiedBy>
  <dcterms:modified xsi:type="dcterms:W3CDTF">2006-09-08T01:54:57Z</dcterms:modified>
  <cp:revision>7</cp:revision>
  <dc:subject/>
  <dc:title>Math Flash</dc:title>
</cp:coreProperties>
</file>