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377-8749-4F33-804C-9627C97D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F1B-EBB9-453D-A292-FC036CD1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E05-41EE-4E90-A75E-A41907C5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159-81DA-409B-8741-BE7D785F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1027-B545-465C-B564-EC17861E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6CEF-4C29-4CD2-A1E6-B801EBB6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D894-531D-4540-9587-11998CA9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577E-6D8A-427B-B526-AC2BC18D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82D1-9D9C-466B-B93C-2396E41A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3B74-EEFE-48F5-AC46-EC26D484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380E-1705-4708-BF8F-6C8CDB08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5EA-A93E-4C20-8E71-15357C9E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41AE-EF35-4438-8D2D-1ABE3A40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1664-ECC7-4498-AECD-B238BFD1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B0E0-F167-4CEB-AEBD-2B9E800A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0113-E5C3-427C-842D-954ED0BC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81AD-C398-4F75-A99A-4001906D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305-A95A-4B21-B19E-6698AD7B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67E-E5C2-4C8A-8388-473407A5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9C9-68C8-4D4E-A1D7-CACA4D9B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586-AC1E-4F5C-8CF9-3CE747FA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A19-C931-4D79-BC01-D1E4E33C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149-5E55-4B26-997B-9E45B335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8D4-ED05-494F-A13D-E8902F46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E61E-16F2-4FBC-8239-9AEB5107D5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DFD2-A914-4C8F-8671-43C72348CD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ath Flash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Place Value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By Monica Yuskaiti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74360" y="1828800"/>
            <a:ext cx="396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973,104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0240" y="3909960"/>
            <a:ext cx="641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ine hundred seventy-thre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ousand, one hundred 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619640" y="1828800"/>
            <a:ext cx="599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384,133,472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7280" y="3909960"/>
            <a:ext cx="806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ree hundred eighty-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ne hundred thirty-thre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hundred seventy-tw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684000" y="1905120"/>
            <a:ext cx="80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1,874,304,039,270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505320"/>
            <a:ext cx="900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ne trillion, eight hundred seventy-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billion, three hundred 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irty-nin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wo hundred seven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9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5560" y="3505320"/>
            <a:ext cx="8536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eight hundred twenty-nin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ine hundred fiv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member that each period ha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ree place values within the perio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97400" y="487692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6000">
            <a:off x="-30528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6000">
            <a:off x="129456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 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6000">
            <a:off x="2970720" y="2667240"/>
            <a:ext cx="3124080" cy="14464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6000">
            <a:off x="472356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6000">
            <a:off x="647604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   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8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9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3505320"/>
            <a:ext cx="45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2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51480" y="3581280"/>
            <a:ext cx="34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4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720" y="3581280"/>
            <a:ext cx="207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9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5480" y="3581280"/>
            <a:ext cx="26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6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65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9120" y="358128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standa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938320" y="2057400"/>
            <a:ext cx="36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4,367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06640" y="4075200"/>
            <a:ext cx="36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4,367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5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654,82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800" y="3581280"/>
            <a:ext cx="30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7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54,72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86080" y="3581280"/>
            <a:ext cx="45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2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54,78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560" y="358128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3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34,789,104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5240" y="3581280"/>
            <a:ext cx="30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3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64,789,134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13640" y="358128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standar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1905120"/>
            <a:ext cx="60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Ninety thousand, four hundred eigh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59240" y="3767040"/>
            <a:ext cx="227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90,408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standar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9810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Seven million, twenty-two thousand, two hundr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2960" y="376704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7,022,200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expande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049560" y="228600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7,021,500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2400" y="4038480"/>
            <a:ext cx="786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7,000,000 + 20,000 + 1,000 + 500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expande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16002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367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200" y="3429000"/>
            <a:ext cx="72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000 + 300 + 60 + 7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expande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82880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56,803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51160" y="3429000"/>
            <a:ext cx="62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50,000 + 6,000 + 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800 + 3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standa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373392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,823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5200" y="1981080"/>
            <a:ext cx="72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,000 + 800 + 20 + 3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wo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540600" y="1828800"/>
            <a:ext cx="214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367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280" y="3581280"/>
            <a:ext cx="85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four thousand, three hundr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sixty-seve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are the periods of this 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797400" y="487692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6000">
            <a:off x="-38088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1295280" y="2742840"/>
            <a:ext cx="31240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2895480" y="2742840"/>
            <a:ext cx="31240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464832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640080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read large numbers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797400" y="548640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6000">
            <a:off x="74520" y="3731760"/>
            <a:ext cx="221004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752480" y="3733560"/>
            <a:ext cx="22096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3352680" y="3733560"/>
            <a:ext cx="22096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5067360" y="3772080"/>
            <a:ext cx="228600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6896160" y="3772080"/>
            <a:ext cx="228600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09480"/>
            <a:ext cx="91440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Read the numbers before the comma as if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you were reading in the one’s column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Say the period you are in when you get to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the comma except for the one’s period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163960" y="1828800"/>
            <a:ext cx="483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4,371,024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0840" y="3909960"/>
            <a:ext cx="797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million, three hundred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eventy-one thousand, twenty-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4:49:56Z</dcterms:created>
  <dc:creator>Monica/Bob Yuskaitis</dc:creator>
  <dc:description/>
  <dc:language>en-US</dc:language>
  <cp:lastModifiedBy>darci.mock</cp:lastModifiedBy>
  <dcterms:modified xsi:type="dcterms:W3CDTF">2006-09-08T01:54:57Z</dcterms:modified>
  <cp:revision>7</cp:revision>
  <dc:subject/>
  <dc:title>Math Flash</dc:title>
</cp:coreProperties>
</file>