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6E6-FAE5-4CBA-B73B-95177E5F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2E-6C35-438E-A72B-C427849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7C7-FAA3-44FA-9CF6-745BDC7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CE1-C26F-4E3B-86A1-183400F6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AC7-3790-423A-98A4-837F3035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A5B5-1011-41FE-AC78-1C5379F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A9D-C643-4ABE-BE67-EB8101F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B9B9-3804-4267-8CA2-2890C579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AB3F-4388-43E1-84DE-9FCF1A1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2AB6-DAA2-4316-9039-11E5DFF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8A9-049B-4A52-8D7D-B37ECB0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A23-8FD3-444A-B109-45EFA678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9885-D69B-4FE4-BBB9-D4C70D6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3458-77CF-4764-87BD-467D091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47B-19CE-4849-A5C0-DB2ACA8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070-1813-4249-98DE-2325A805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6A45-E946-4188-B440-477F842F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670-F789-4257-8934-4E55FB6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27B-EB5C-4326-8698-9BDBDBE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37E-7CE8-4789-8047-8D12BC3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A89-B510-46BA-9EBF-2DEDFEA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7A2-104A-4A63-A78B-B634A2D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5FF-C44F-447F-B26E-F508B08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2A4-FD9E-4A86-9A28-2EF1852B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F3D7-C2BD-4A90-9E40-606D70533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FF5E-2D64-4FF6-8738-4848E1164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arci.mock</cp:lastModifiedBy>
  <dcterms:modified xsi:type="dcterms:W3CDTF">2006-09-08T01:54:57Z</dcterms:modified>
  <cp:revision>7</cp:revision>
  <dc:subject/>
  <dc:title>Math Flash</dc:title>
</cp:coreProperties>
</file>