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0576-4CFB-40A3-BE8F-6EF8EEDA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D34E-ABB4-44EE-8CE1-BA7CD322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9658-BE8C-45E2-A62D-94BB6F13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780F-C716-4742-B07E-4823F39E1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F2A9-73AD-4E80-82A9-0695DCFE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E452-2EE1-4B59-9865-7E11DA54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B8C3-548D-49E8-B564-4EFB8547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69A4-9BB3-42CF-848B-07A9CB01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16F1-48EE-4CB5-B0D2-574ABE1C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4FD2-EBF3-494E-83FF-DE8B18EE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210A-4979-46E4-90A1-40FF44D5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EA7D-8082-45EE-8E82-6B6D3C93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8BC3-CA19-47FE-9863-5BBE1525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42DD-AED4-4D01-BE34-F6CBC6F2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1896-8FD9-4977-98AF-CF24627F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09CF-E19A-4196-A908-7D92BBC01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8E37-4A44-4838-8D91-232A267B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39BF-5B63-45FF-8B7A-6EC8C355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85CF-834D-4105-965C-04ED31D1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B139-4417-4513-A7EE-7DE1F21B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64D0-63AF-424C-949F-29186FEF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3BF8-BB99-4517-B9AE-6A58E2CC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03F7-8BE8-4C77-9451-B99BD3F0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BFB8-582D-49C1-888B-8CC8522F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64DC-BD8C-4D9D-BB3A-BF74FB196A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F78F-766B-4E90-89D3-5697406CF1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Math Flash</a:t>
            </a:r>
            <a:br>
              <a:rPr sz="5400"/>
            </a:b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Place Value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By Monica Yuskaitis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 this num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74360" y="1828800"/>
            <a:ext cx="396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ecff"/>
                </a:solidFill>
                <a:latin typeface="Tahoma"/>
              </a:rPr>
              <a:t>973,104</a:t>
            </a:r>
            <a:endParaRPr b="0" lang="en-US" sz="8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80240" y="3909960"/>
            <a:ext cx="641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nine hundred seventy-three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ousand, one hundred fou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 this num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619640" y="1828800"/>
            <a:ext cx="599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ecff"/>
                </a:solidFill>
                <a:latin typeface="Tahoma"/>
              </a:rPr>
              <a:t>384,133,472</a:t>
            </a:r>
            <a:endParaRPr b="0" lang="en-US" sz="8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7280" y="3909960"/>
            <a:ext cx="8069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ree hundred eighty-four million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one hundred thirty-three thousand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four hundred seventy-tw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 this num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684000" y="1905120"/>
            <a:ext cx="801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1,874,304,039,270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3505320"/>
            <a:ext cx="9001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one trillion, eight hundred seventy-fou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billion, three hundred four million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irty-nine thousand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wo hundred sevent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 this num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1905120"/>
            <a:ext cx="48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4,829,905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5560" y="3505320"/>
            <a:ext cx="8536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four million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eight hundred twenty-nine thousand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nine hundred fiv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member that each period ha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ree place values within the perio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797400" y="4876920"/>
            <a:ext cx="759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684,367,671,690,492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6000">
            <a:off x="-305280" y="2667600"/>
            <a:ext cx="3124080" cy="14461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Hundred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Tens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    Tr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On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6000">
            <a:off x="1294560" y="2667600"/>
            <a:ext cx="3124080" cy="14461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Hundred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Tens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     B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On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6206000">
            <a:off x="2970720" y="2667240"/>
            <a:ext cx="3124080" cy="14464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Hundred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Tens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    M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On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206000">
            <a:off x="4723560" y="2667600"/>
            <a:ext cx="3124080" cy="14461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Hundred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Tens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Thousand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On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6206000">
            <a:off x="6476040" y="2667600"/>
            <a:ext cx="3124080" cy="14461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Hundred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Tens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       One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On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8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1905120"/>
            <a:ext cx="48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4,829,905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94000" y="3505320"/>
            <a:ext cx="452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Hundred thousand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2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1905120"/>
            <a:ext cx="48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4,829,105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51480" y="3581280"/>
            <a:ext cx="343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en thousand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4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1905120"/>
            <a:ext cx="48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4,829,105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29720" y="3581280"/>
            <a:ext cx="207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Millio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9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1905120"/>
            <a:ext cx="48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4,829,105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65480" y="3581280"/>
            <a:ext cx="260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ousand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6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9051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654,829,105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89120" y="3581280"/>
            <a:ext cx="411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Hundred millio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e standard form of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2938320" y="2057400"/>
            <a:ext cx="36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ecff"/>
                </a:solidFill>
                <a:latin typeface="Tahoma"/>
              </a:rPr>
              <a:t>4,367 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06640" y="4075200"/>
            <a:ext cx="363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ecff"/>
                </a:solidFill>
                <a:latin typeface="Tahoma"/>
              </a:rPr>
              <a:t>4,367 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5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19051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654,829,103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33800" y="3581280"/>
            <a:ext cx="30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en millio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7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19051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254,729,103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86080" y="3581280"/>
            <a:ext cx="452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Hundred thousand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2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76520" y="19051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254,789,103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90560" y="3581280"/>
            <a:ext cx="411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Hundred millio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3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234,789,104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35240" y="3581280"/>
            <a:ext cx="30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en millio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3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19051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264,789,134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13640" y="3581280"/>
            <a:ext cx="126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e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is number in standard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or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1905120"/>
            <a:ext cx="601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Ninety thousand, four hundred eigh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59240" y="3767040"/>
            <a:ext cx="227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90,408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is number in standard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or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9810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Seven million, twenty-two thousand, two hundred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82960" y="3767040"/>
            <a:ext cx="322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7,022,200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is number in expanded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or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049560" y="2286000"/>
            <a:ext cx="322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7,021,500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2400" y="4038480"/>
            <a:ext cx="786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7,000,000 + 20,000 + 1,000 + 500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e expanded form of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1600200"/>
            <a:ext cx="274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4,367</a:t>
            </a:r>
            <a:r>
              <a:rPr b="1" lang="en-US" sz="96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200" y="3429000"/>
            <a:ext cx="725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4,000 + 300 + 60 + 7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e expanded form of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1828800"/>
            <a:ext cx="327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56,803</a:t>
            </a:r>
            <a:r>
              <a:rPr b="1" lang="en-US" sz="96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51160" y="3429000"/>
            <a:ext cx="620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50,000 + 6,000 + 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800 + 3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e standard form of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200400" y="3733920"/>
            <a:ext cx="274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6,823</a:t>
            </a:r>
            <a:r>
              <a:rPr b="1" lang="en-US" sz="96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5200" y="1981080"/>
            <a:ext cx="725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6,000 + 800 + 20 + 3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e word form of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540600" y="1828800"/>
            <a:ext cx="214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4,367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0280" y="3581280"/>
            <a:ext cx="85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four thousand, three hundred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sixty-seve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are the periods of this 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797400" y="4876920"/>
            <a:ext cx="759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684,367,671,690,492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6000">
            <a:off x="-380880" y="2743200"/>
            <a:ext cx="3124080" cy="12952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Tr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1295280" y="2742840"/>
            <a:ext cx="312408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B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2895480" y="2742840"/>
            <a:ext cx="312408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M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4648320" y="2743200"/>
            <a:ext cx="3124080" cy="12952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Thousand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6400800" y="2743200"/>
            <a:ext cx="3124080" cy="12952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One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to read large numbers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797400" y="5486400"/>
            <a:ext cx="759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684,367,671,690,492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6000">
            <a:off x="74520" y="3731760"/>
            <a:ext cx="221004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Tr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752480" y="3733560"/>
            <a:ext cx="220968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B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3352680" y="3733560"/>
            <a:ext cx="220968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M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5067360" y="3772080"/>
            <a:ext cx="2286000" cy="12952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Thousand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6896160" y="3772080"/>
            <a:ext cx="2286000" cy="12952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One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09480"/>
            <a:ext cx="914400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Read the numbers before the comma as if 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you were reading in the one’s column.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Say the period you are in when you get to 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the comma except for the one’s period.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 this num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163960" y="1828800"/>
            <a:ext cx="483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ecff"/>
                </a:solidFill>
                <a:latin typeface="Tahoma"/>
              </a:rPr>
              <a:t>4,371,024</a:t>
            </a:r>
            <a:endParaRPr b="0" lang="en-US" sz="8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0840" y="3909960"/>
            <a:ext cx="797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four million, three hundred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eventy-one thousand, twenty-fou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5T04:49:56Z</dcterms:created>
  <dc:creator>Monica/Bob Yuskaitis</dc:creator>
  <dc:description/>
  <dc:language>en-US</dc:language>
  <cp:lastModifiedBy>darci.mock</cp:lastModifiedBy>
  <dcterms:modified xsi:type="dcterms:W3CDTF">2006-09-08T01:54:57Z</dcterms:modified>
  <cp:revision>7</cp:revision>
  <dc:subject/>
  <dc:title>Math Flash</dc:title>
</cp:coreProperties>
</file>