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9BB-BE59-49F2-809E-E9A91A5C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E90-96B6-4FC9-BA3A-471A020C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A56-92E7-4A27-83A9-8F4EAE7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F4B-6FFE-40DC-BB9D-FF443279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BC8-E888-45E0-A8B0-09599786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B86-22C3-4BDF-B1BB-56A75D1C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F4A-CF8A-4207-B047-948C34BA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392-42BF-4D69-9A8E-3C800629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738-9C14-404B-8339-71872306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A7F-7347-427C-A69E-8881D35D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008-199D-4ECC-876B-0C16030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061-5332-413E-AA2E-3B37296A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9F60-B6DE-400A-B014-825C9AEA7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a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4720" y="1514520"/>
            <a:ext cx="1293840" cy="1295280"/>
            <a:chOff x="504720" y="1514520"/>
            <a:chExt cx="1293840" cy="1295280"/>
          </a:xfrm>
        </p:grpSpPr>
        <p:sp>
          <p:nvSpPr>
            <p:cNvPr id="42" name=""/>
            <p:cNvSpPr/>
            <p:nvPr/>
          </p:nvSpPr>
          <p:spPr>
            <a:xfrm>
              <a:off x="504720" y="1514520"/>
              <a:ext cx="1293840" cy="1295280"/>
            </a:xfrm>
            <a:custGeom>
              <a:avLst/>
              <a:gdLst/>
              <a:ahLst/>
              <a:rect l="l" t="t" r="r" b="b"/>
              <a:pathLst>
                <a:path w="815" h="816">
                  <a:moveTo>
                    <a:pt x="0" y="0"/>
                  </a:moveTo>
                  <a:lnTo>
                    <a:pt x="814" y="0"/>
                  </a:lnTo>
                  <a:lnTo>
                    <a:pt x="814" y="815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4440" y="2152800"/>
              <a:ext cx="12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3000" y="151452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476440" y="1800360"/>
            <a:ext cx="2594160" cy="2593800"/>
            <a:chOff x="2476440" y="1800360"/>
            <a:chExt cx="2594160" cy="2593800"/>
          </a:xfrm>
        </p:grpSpPr>
        <p:grpSp>
          <p:nvGrpSpPr>
            <p:cNvPr id="46" name=""/>
            <p:cNvGrpSpPr/>
            <p:nvPr/>
          </p:nvGrpSpPr>
          <p:grpSpPr>
            <a:xfrm>
              <a:off x="2476440" y="1800360"/>
              <a:ext cx="2594160" cy="2593800"/>
              <a:chOff x="2476440" y="1800360"/>
              <a:chExt cx="2594160" cy="2593800"/>
            </a:xfrm>
          </p:grpSpPr>
          <p:sp>
            <p:nvSpPr>
              <p:cNvPr id="47" name=""/>
              <p:cNvSpPr/>
              <p:nvPr/>
            </p:nvSpPr>
            <p:spPr>
              <a:xfrm>
                <a:off x="2476440" y="1800360"/>
                <a:ext cx="2594160" cy="2593800"/>
              </a:xfrm>
              <a:custGeom>
                <a:avLst/>
                <a:gdLst/>
                <a:ahLst/>
                <a:rect l="l" t="t" r="r" b="b"/>
                <a:pathLst>
                  <a:path w="1634" h="1634">
                    <a:moveTo>
                      <a:pt x="0" y="0"/>
                    </a:moveTo>
                    <a:lnTo>
                      <a:pt x="1633" y="0"/>
                    </a:lnTo>
                    <a:lnTo>
                      <a:pt x="1633" y="1633"/>
                    </a:lnTo>
                    <a:lnTo>
                      <a:pt x="0" y="16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782880" y="1809720"/>
                <a:ext cx="0" cy="257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2494080" y="3087720"/>
              <a:ext cx="255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5680" y="133200"/>
            <a:ext cx="647640" cy="64800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11448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7915"/>
          </a:solidFill>
          <a:ln cap="rnd" w="12600">
            <a:solidFill>
              <a:srgbClr val="ff682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2600" y="1429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9bff06"/>
          </a:solidFill>
          <a:ln cap="rnd" w="12600">
            <a:solidFill>
              <a:srgbClr val="7ce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8628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fdfd"/>
          </a:solidFill>
          <a:ln cap="rnd" w="12600">
            <a:solidFill>
              <a:srgbClr val="37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084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868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292ff"/>
          </a:solidFill>
          <a:ln cap="rnd" w="12600">
            <a:solidFill>
              <a:srgbClr val="808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81360" y="11448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c46aff"/>
          </a:solidFill>
          <a:ln cap="rnd" w="12600">
            <a:solidFill>
              <a:srgbClr val="c46a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0fff"/>
          </a:solidFill>
          <a:ln cap="rnd" w="12600">
            <a:solidFill>
              <a:srgbClr val="ff0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76800" y="11448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33200" y="10440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b0000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88560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c46700"/>
          </a:solidFill>
          <a:ln cap="rnd" w="12600">
            <a:solidFill>
              <a:srgbClr val="bb62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39040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1bd700"/>
          </a:solidFill>
          <a:ln cap="rnd" w="12600">
            <a:solidFill>
              <a:srgbClr val="17bb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15252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a8b0"/>
          </a:solidFill>
          <a:ln cap="rnd" w="12600">
            <a:solidFill>
              <a:srgbClr val="00a8b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64736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dfbe00"/>
          </a:solidFill>
          <a:ln cap="rnd" w="12600">
            <a:solidFill>
              <a:srgbClr val="dfbe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88584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10d9"/>
          </a:solidFill>
          <a:ln cap="rnd" w="12600">
            <a:solidFill>
              <a:srgbClr val="001bd5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63824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4d0075"/>
          </a:solidFill>
          <a:ln cap="rnd" w="12600">
            <a:solidFill>
              <a:srgbClr val="530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538128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7a007d"/>
          </a:solidFill>
          <a:ln cap="rnd" w="12600">
            <a:solidFill>
              <a:srgbClr val="97009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612432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19840" y="11448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6867360" y="10440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dfdfdf"/>
          </a:solidFill>
          <a:ln cap="rnd" w="12600">
            <a:solidFill>
              <a:srgbClr val="e1e1e1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440" y="1050840"/>
            <a:ext cx="17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1. Start with this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84480" y="1012680"/>
            <a:ext cx="31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2. Then fill the quad with your block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0560" y="1003320"/>
            <a:ext cx="184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3. Once you have a quad, group it. Copy and paste it onto the next p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3080" y="1289160"/>
            <a:ext cx="28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ckwell"/>
              </a:rPr>
              <a:t>Remember that you can rotate and flip your block however you wa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6880" y="3003480"/>
            <a:ext cx="1676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Try to make an interesting patter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When you have it done: Group it, copy it, and paste it 4 tim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72080" y="1857240"/>
            <a:ext cx="1666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56240" y="2098800"/>
            <a:ext cx="180324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Some helpful hotke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opy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Paste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Group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Ungroup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Lock =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Unlock =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a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840" y="250920"/>
            <a:ext cx="223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4. Resize your quads* to fit into the block patterns. Change the quad into an infinite clon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52600" y="1257480"/>
            <a:ext cx="1293840" cy="1295280"/>
            <a:chOff x="552600" y="1257480"/>
            <a:chExt cx="1293840" cy="1295280"/>
          </a:xfrm>
        </p:grpSpPr>
        <p:grpSp>
          <p:nvGrpSpPr>
            <p:cNvPr id="79" name=""/>
            <p:cNvGrpSpPr/>
            <p:nvPr/>
          </p:nvGrpSpPr>
          <p:grpSpPr>
            <a:xfrm>
              <a:off x="552600" y="1257480"/>
              <a:ext cx="1293840" cy="1295280"/>
              <a:chOff x="552600" y="1257480"/>
              <a:chExt cx="1293840" cy="12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552600" y="1257480"/>
                <a:ext cx="1293840" cy="129528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880" y="189540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1190520" y="125748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638440" y="952560"/>
            <a:ext cx="4543560" cy="4475160"/>
            <a:chOff x="2638440" y="952560"/>
            <a:chExt cx="4543560" cy="4475160"/>
          </a:xfrm>
        </p:grpSpPr>
        <p:grpSp>
          <p:nvGrpSpPr>
            <p:cNvPr id="84" name=""/>
            <p:cNvGrpSpPr/>
            <p:nvPr/>
          </p:nvGrpSpPr>
          <p:grpSpPr>
            <a:xfrm>
              <a:off x="2638440" y="952560"/>
              <a:ext cx="4543560" cy="4475160"/>
              <a:chOff x="2638440" y="952560"/>
              <a:chExt cx="4543560" cy="44751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638440" y="952560"/>
                <a:ext cx="4543560" cy="1293840"/>
                <a:chOff x="2638440" y="952560"/>
                <a:chExt cx="4543560" cy="12938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888160" y="95256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2638440" y="952560"/>
                  <a:ext cx="1293840" cy="1293840"/>
                  <a:chOff x="2638440" y="952560"/>
                  <a:chExt cx="1293840" cy="129384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2638440" y="952560"/>
                    <a:ext cx="1293840" cy="1293840"/>
                    <a:chOff x="2638440" y="952560"/>
                    <a:chExt cx="1293840" cy="129384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2638440" y="95256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3292560" y="95256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2655720" y="15890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3932280" y="952560"/>
                  <a:ext cx="1292040" cy="1293840"/>
                  <a:chOff x="3932280" y="952560"/>
                  <a:chExt cx="1292040" cy="1293840"/>
                </a:xfrm>
              </p:grpSpPr>
              <p:grpSp>
                <p:nvGrpSpPr>
                  <p:cNvPr id="93" name=""/>
                  <p:cNvGrpSpPr/>
                  <p:nvPr/>
                </p:nvGrpSpPr>
                <p:grpSpPr>
                  <a:xfrm>
                    <a:off x="3932280" y="952560"/>
                    <a:ext cx="1292040" cy="1293840"/>
                    <a:chOff x="3932280" y="952560"/>
                    <a:chExt cx="1292040" cy="1293840"/>
                  </a:xfrm>
                </p:grpSpPr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3932280" y="95256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4586400" y="95256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" name=""/>
                  <p:cNvSpPr/>
                  <p:nvPr/>
                </p:nvSpPr>
                <p:spPr>
                  <a:xfrm>
                    <a:off x="3949560" y="15890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5221440" y="952560"/>
                  <a:ext cx="1292040" cy="1293840"/>
                  <a:chOff x="5221440" y="952560"/>
                  <a:chExt cx="1292040" cy="12938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221440" y="95256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875200" y="95256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5238720" y="158904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886360" y="158904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638440" y="2238480"/>
                <a:ext cx="4543560" cy="1293840"/>
                <a:chOff x="2638440" y="2238480"/>
                <a:chExt cx="4543560" cy="129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888160" y="223848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2638440" y="2238480"/>
                  <a:ext cx="1293840" cy="1293840"/>
                  <a:chOff x="2638440" y="2238480"/>
                  <a:chExt cx="1293840" cy="12938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2638440" y="2238480"/>
                    <a:ext cx="1293840" cy="1293840"/>
                    <a:chOff x="2638440" y="2238480"/>
                    <a:chExt cx="1293840" cy="12938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638440" y="223848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294000" y="22384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2655720" y="28749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3932280" y="2238480"/>
                  <a:ext cx="1292040" cy="1293840"/>
                  <a:chOff x="3932280" y="2238480"/>
                  <a:chExt cx="1292040" cy="129384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3932280" y="2238480"/>
                    <a:ext cx="1292040" cy="1293840"/>
                    <a:chOff x="3932280" y="2238480"/>
                    <a:chExt cx="1292040" cy="129384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932280" y="223848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4586400" y="22384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" name=""/>
                  <p:cNvSpPr/>
                  <p:nvPr/>
                </p:nvSpPr>
                <p:spPr>
                  <a:xfrm>
                    <a:off x="3949560" y="28749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5221440" y="2238480"/>
                  <a:ext cx="1292040" cy="1293840"/>
                  <a:chOff x="5221440" y="2238480"/>
                  <a:chExt cx="1292040" cy="12938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5221440" y="223848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5875200" y="223848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5238720" y="287496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86360" y="287496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638440" y="3524400"/>
                <a:ext cx="4543560" cy="1293840"/>
                <a:chOff x="2638440" y="3524400"/>
                <a:chExt cx="4543560" cy="12938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888160" y="352440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2638440" y="3524400"/>
                  <a:ext cx="1293840" cy="1293840"/>
                  <a:chOff x="2638440" y="3524400"/>
                  <a:chExt cx="1293840" cy="1293840"/>
                </a:xfrm>
              </p:grpSpPr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2638440" y="3524400"/>
                    <a:ext cx="1293840" cy="1293840"/>
                    <a:chOff x="2638440" y="3524400"/>
                    <a:chExt cx="1293840" cy="12938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638440" y="352440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294000" y="35244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"/>
                  <p:cNvSpPr/>
                  <p:nvPr/>
                </p:nvSpPr>
                <p:spPr>
                  <a:xfrm>
                    <a:off x="2655720" y="41608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932280" y="3524400"/>
                  <a:ext cx="1292040" cy="1293840"/>
                  <a:chOff x="3932280" y="3524400"/>
                  <a:chExt cx="1292040" cy="129384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3932280" y="3524400"/>
                    <a:ext cx="1292040" cy="1293840"/>
                    <a:chOff x="3932280" y="3524400"/>
                    <a:chExt cx="1292040" cy="129384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3932280" y="352440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586400" y="35244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>
                    <a:off x="3949560" y="41608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5221440" y="3524400"/>
                  <a:ext cx="1292040" cy="1293840"/>
                  <a:chOff x="5221440" y="3524400"/>
                  <a:chExt cx="1292040" cy="12938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221440" y="352440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875200" y="352440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"/>
                <p:cNvSpPr/>
                <p:nvPr/>
              </p:nvSpPr>
              <p:spPr>
                <a:xfrm>
                  <a:off x="5238720" y="416088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886360" y="416088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2638440" y="4133880"/>
                <a:ext cx="4543560" cy="1293840"/>
                <a:chOff x="2638440" y="4133880"/>
                <a:chExt cx="4543560" cy="1293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888160" y="413388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2638440" y="4133880"/>
                  <a:ext cx="1293840" cy="1293840"/>
                  <a:chOff x="2638440" y="4133880"/>
                  <a:chExt cx="1293840" cy="129384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638440" y="4133880"/>
                    <a:ext cx="1293840" cy="1293840"/>
                    <a:chOff x="2638440" y="4133880"/>
                    <a:chExt cx="1293840" cy="1293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638440" y="413388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3294000" y="41338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>
                    <a:off x="2655720" y="47703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3932280" y="4133880"/>
                  <a:ext cx="1292040" cy="1293840"/>
                  <a:chOff x="3932280" y="4133880"/>
                  <a:chExt cx="1292040" cy="129384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3932280" y="4133880"/>
                    <a:ext cx="1292040" cy="1293840"/>
                    <a:chOff x="3932280" y="4133880"/>
                    <a:chExt cx="1292040" cy="12938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3932280" y="413388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586400" y="41338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3949560" y="47703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5221440" y="4133880"/>
                  <a:ext cx="1292040" cy="1293840"/>
                  <a:chOff x="5221440" y="4133880"/>
                  <a:chExt cx="1292040" cy="12938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221440" y="413388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875200" y="413388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5238720" y="477036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886360" y="477036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"/>
            <p:cNvGrpSpPr/>
            <p:nvPr/>
          </p:nvGrpSpPr>
          <p:grpSpPr>
            <a:xfrm>
              <a:off x="2962440" y="1270080"/>
              <a:ext cx="3875040" cy="3868560"/>
              <a:chOff x="2962440" y="1270080"/>
              <a:chExt cx="3875040" cy="38685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962440" y="2556000"/>
                <a:ext cx="3875040" cy="1293840"/>
                <a:chOff x="2962440" y="2556000"/>
                <a:chExt cx="3875040" cy="129384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962440" y="2556000"/>
                  <a:ext cx="1293480" cy="1293840"/>
                  <a:chOff x="2962440" y="2556000"/>
                  <a:chExt cx="1293480" cy="129384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962440" y="2556000"/>
                    <a:ext cx="1293480" cy="1293840"/>
                    <a:chOff x="2962440" y="2556000"/>
                    <a:chExt cx="1293480" cy="129384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962440" y="255600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61800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" name=""/>
                  <p:cNvSpPr/>
                  <p:nvPr/>
                </p:nvSpPr>
                <p:spPr>
                  <a:xfrm>
                    <a:off x="297972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255920" y="2556000"/>
                  <a:ext cx="1292400" cy="1293840"/>
                  <a:chOff x="4255920" y="2556000"/>
                  <a:chExt cx="1292400" cy="1293840"/>
                </a:xfrm>
              </p:grpSpPr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4255920" y="2556000"/>
                    <a:ext cx="1292400" cy="1293840"/>
                    <a:chOff x="4255920" y="2556000"/>
                    <a:chExt cx="1292400" cy="129384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4255920" y="25560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491004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4" name=""/>
                  <p:cNvSpPr/>
                  <p:nvPr/>
                </p:nvSpPr>
                <p:spPr>
                  <a:xfrm>
                    <a:off x="427356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5545080" y="2556000"/>
                  <a:ext cx="1292400" cy="1293840"/>
                  <a:chOff x="5545080" y="2556000"/>
                  <a:chExt cx="1292400" cy="129384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545080" y="2556000"/>
                    <a:ext cx="1292400" cy="1293840"/>
                    <a:chOff x="5545080" y="2556000"/>
                    <a:chExt cx="1292400" cy="129384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545080" y="25560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619920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" name=""/>
                  <p:cNvSpPr/>
                  <p:nvPr/>
                </p:nvSpPr>
                <p:spPr>
                  <a:xfrm>
                    <a:off x="556272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2962440" y="3844800"/>
                <a:ext cx="3875040" cy="1293840"/>
                <a:chOff x="2962440" y="3844800"/>
                <a:chExt cx="3875040" cy="129384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962440" y="3844800"/>
                  <a:ext cx="1293480" cy="1293840"/>
                  <a:chOff x="2962440" y="3844800"/>
                  <a:chExt cx="1293480" cy="129384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962440" y="3844800"/>
                    <a:ext cx="1293480" cy="1293840"/>
                    <a:chOff x="2962440" y="3844800"/>
                    <a:chExt cx="1293480" cy="1293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962440" y="384480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61800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297972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4255920" y="3844800"/>
                  <a:ext cx="1292400" cy="1293840"/>
                  <a:chOff x="4255920" y="3844800"/>
                  <a:chExt cx="1292400" cy="1293840"/>
                </a:xfrm>
              </p:grpSpPr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4255920" y="3844800"/>
                    <a:ext cx="1292400" cy="1293840"/>
                    <a:chOff x="4255920" y="3844800"/>
                    <a:chExt cx="1292400" cy="12938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255920" y="38448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91004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0" name=""/>
                  <p:cNvSpPr/>
                  <p:nvPr/>
                </p:nvSpPr>
                <p:spPr>
                  <a:xfrm>
                    <a:off x="427356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545080" y="3844800"/>
                  <a:ext cx="1292400" cy="1293840"/>
                  <a:chOff x="5545080" y="3844800"/>
                  <a:chExt cx="1292400" cy="129384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5545080" y="3844800"/>
                    <a:ext cx="1292400" cy="1293840"/>
                    <a:chOff x="5545080" y="3844800"/>
                    <a:chExt cx="1292400" cy="129384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5545080" y="38448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19920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556272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2962440" y="1270080"/>
                <a:ext cx="3875040" cy="1293840"/>
                <a:chOff x="2962440" y="1270080"/>
                <a:chExt cx="3875040" cy="12938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962440" y="1270080"/>
                  <a:ext cx="1293480" cy="1293840"/>
                  <a:chOff x="2962440" y="1270080"/>
                  <a:chExt cx="1293480" cy="129384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962440" y="1270080"/>
                    <a:ext cx="1293480" cy="1293840"/>
                    <a:chOff x="2962440" y="1270080"/>
                    <a:chExt cx="1293480" cy="129384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2962440" y="127008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61800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297972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255920" y="1270080"/>
                  <a:ext cx="1292400" cy="1293840"/>
                  <a:chOff x="4255920" y="1270080"/>
                  <a:chExt cx="1292400" cy="12938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255920" y="1270080"/>
                    <a:ext cx="1292400" cy="1293840"/>
                    <a:chOff x="4255920" y="1270080"/>
                    <a:chExt cx="1292400" cy="12938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255920" y="127008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1004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>
                    <a:off x="427356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545080" y="1270080"/>
                  <a:ext cx="1292400" cy="1293840"/>
                  <a:chOff x="5545080" y="1270080"/>
                  <a:chExt cx="1292400" cy="129384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545080" y="1270080"/>
                    <a:ext cx="1292400" cy="1293840"/>
                    <a:chOff x="5545080" y="1270080"/>
                    <a:chExt cx="1292400" cy="12938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545080" y="127008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619920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"/>
                  <p:cNvSpPr/>
                  <p:nvPr/>
                </p:nvSpPr>
                <p:spPr>
                  <a:xfrm>
                    <a:off x="556272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2" name=""/>
          <p:cNvGrpSpPr/>
          <p:nvPr/>
        </p:nvGrpSpPr>
        <p:grpSpPr>
          <a:xfrm>
            <a:off x="561960" y="2685960"/>
            <a:ext cx="1293840" cy="1295640"/>
            <a:chOff x="561960" y="2685960"/>
            <a:chExt cx="1293840" cy="1295640"/>
          </a:xfrm>
        </p:grpSpPr>
        <p:grpSp>
          <p:nvGrpSpPr>
            <p:cNvPr id="203" name=""/>
            <p:cNvGrpSpPr/>
            <p:nvPr/>
          </p:nvGrpSpPr>
          <p:grpSpPr>
            <a:xfrm>
              <a:off x="561960" y="2685960"/>
              <a:ext cx="1293840" cy="1295640"/>
              <a:chOff x="561960" y="2685960"/>
              <a:chExt cx="1293840" cy="129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561960" y="2685960"/>
                <a:ext cx="1293840" cy="129564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9600" y="332424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200240" y="2685960"/>
              <a:ext cx="0" cy="12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1960" y="4152960"/>
            <a:ext cx="1293840" cy="1295280"/>
            <a:chOff x="561960" y="4152960"/>
            <a:chExt cx="1293840" cy="1295280"/>
          </a:xfrm>
        </p:grpSpPr>
        <p:grpSp>
          <p:nvGrpSpPr>
            <p:cNvPr id="208" name=""/>
            <p:cNvGrpSpPr/>
            <p:nvPr/>
          </p:nvGrpSpPr>
          <p:grpSpPr>
            <a:xfrm>
              <a:off x="561960" y="4152960"/>
              <a:ext cx="1293840" cy="1295280"/>
              <a:chOff x="561960" y="4152960"/>
              <a:chExt cx="1293840" cy="1295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61960" y="4152960"/>
                <a:ext cx="1293840" cy="129528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9600" y="479124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200240" y="415296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336760" y="241200"/>
            <a:ext cx="516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5. Drag from cloner, place, rotate, flip, slide, and overlap your quads into the pattern block. Start with border quads unless you want a solid bord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8120" y="622440"/>
            <a:ext cx="484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ckwell"/>
              </a:rPr>
              <a:t>*To change the border color: Unlock the grid and change the fill or line colo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5240" y="765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ckwell"/>
              </a:rPr>
              <a:t>*Use the extra block patterns if you are using more than one qu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3:29:08Z</dcterms:created>
  <dc:creator>Discovery Elementary</dc:creator>
  <dc:description/>
  <dc:language>en-US</dc:language>
  <cp:lastModifiedBy>Discovery Elementary</cp:lastModifiedBy>
  <dcterms:modified xsi:type="dcterms:W3CDTF">2007-01-26T23:29:08Z</dcterms:modified>
  <cp:revision>1</cp:revision>
  <dc:subject/>
  <dc:title>Slide 1</dc:title>
</cp:coreProperties>
</file>