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733-6EF4-48D5-9500-65A603F6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FF1-387D-4EF6-B8EA-0911A3B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A7A-0403-412C-8A1B-9260CFB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900-46DA-43DB-B687-46AD91FB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205-20C4-4016-944B-BBF852E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8A7-7D5C-4CCC-B83B-33A9E84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27B-32B5-4249-804A-E64B78A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C6B-92F1-4D9B-B8BA-EDFC357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961-7A31-4651-8F6E-9E10D99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669-0772-44FA-836B-928BCF2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E91-CE10-40D3-B209-46705E3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7DA-8A3C-4EF7-BC23-6E014DB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537C-9525-4C41-AB50-417E7226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4720" y="1514520"/>
            <a:ext cx="1293840" cy="1295280"/>
            <a:chOff x="504720" y="1514520"/>
            <a:chExt cx="1293840" cy="1295280"/>
          </a:xfrm>
        </p:grpSpPr>
        <p:sp>
          <p:nvSpPr>
            <p:cNvPr id="42" name=""/>
            <p:cNvSpPr/>
            <p:nvPr/>
          </p:nvSpPr>
          <p:spPr>
            <a:xfrm>
              <a:off x="504720" y="1514520"/>
              <a:ext cx="1293840" cy="1295280"/>
            </a:xfrm>
            <a:custGeom>
              <a:avLst/>
              <a:gdLst/>
              <a:ahLst/>
              <a:rect l="l" t="t" r="r" b="b"/>
              <a:pathLst>
                <a:path w="815" h="816">
                  <a:moveTo>
                    <a:pt x="0" y="0"/>
                  </a:moveTo>
                  <a:lnTo>
                    <a:pt x="814" y="0"/>
                  </a:lnTo>
                  <a:lnTo>
                    <a:pt x="814" y="815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4440" y="2152800"/>
              <a:ext cx="12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151452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476440" y="1800360"/>
            <a:ext cx="2594160" cy="2593800"/>
            <a:chOff x="2476440" y="1800360"/>
            <a:chExt cx="2594160" cy="2593800"/>
          </a:xfrm>
        </p:grpSpPr>
        <p:grpSp>
          <p:nvGrpSpPr>
            <p:cNvPr id="46" name=""/>
            <p:cNvGrpSpPr/>
            <p:nvPr/>
          </p:nvGrpSpPr>
          <p:grpSpPr>
            <a:xfrm>
              <a:off x="2476440" y="1800360"/>
              <a:ext cx="2594160" cy="2593800"/>
              <a:chOff x="2476440" y="1800360"/>
              <a:chExt cx="2594160" cy="2593800"/>
            </a:xfrm>
          </p:grpSpPr>
          <p:sp>
            <p:nvSpPr>
              <p:cNvPr id="47" name=""/>
              <p:cNvSpPr/>
              <p:nvPr/>
            </p:nvSpPr>
            <p:spPr>
              <a:xfrm>
                <a:off x="2476440" y="1800360"/>
                <a:ext cx="2594160" cy="2593800"/>
              </a:xfrm>
              <a:custGeom>
                <a:avLst/>
                <a:gdLst/>
                <a:ahLst/>
                <a:rect l="l" t="t" r="r" b="b"/>
                <a:pathLst>
                  <a:path w="1634" h="1634">
                    <a:moveTo>
                      <a:pt x="0" y="0"/>
                    </a:moveTo>
                    <a:lnTo>
                      <a:pt x="1633" y="0"/>
                    </a:lnTo>
                    <a:lnTo>
                      <a:pt x="1633" y="1633"/>
                    </a:lnTo>
                    <a:lnTo>
                      <a:pt x="0" y="16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782880" y="1809720"/>
                <a:ext cx="0" cy="257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494080" y="3087720"/>
              <a:ext cx="25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5680" y="133200"/>
            <a:ext cx="647640" cy="64800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7915"/>
          </a:solidFill>
          <a:ln cap="rnd" w="12600">
            <a:solidFill>
              <a:srgbClr val="ff682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2600" y="1429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9bff06"/>
          </a:solidFill>
          <a:ln cap="rnd" w="12600">
            <a:solidFill>
              <a:srgbClr val="7ce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fdfd"/>
          </a:solidFill>
          <a:ln cap="rnd" w="12600">
            <a:solidFill>
              <a:srgbClr val="37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084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86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292ff"/>
          </a:solidFill>
          <a:ln cap="rnd" w="12600">
            <a:solidFill>
              <a:srgbClr val="808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aff"/>
          </a:solidFill>
          <a:ln cap="rnd" w="12600">
            <a:solidFill>
              <a:srgbClr val="c46a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fff"/>
          </a:solidFill>
          <a:ln cap="rnd" w="12600">
            <a:solidFill>
              <a:srgbClr val="ff0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7680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3320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b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88560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700"/>
          </a:solidFill>
          <a:ln cap="rnd" w="12600">
            <a:solidFill>
              <a:srgbClr val="bb62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39040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1bd700"/>
          </a:solidFill>
          <a:ln cap="rnd" w="12600">
            <a:solidFill>
              <a:srgbClr val="17bb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15252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a8b0"/>
          </a:solidFill>
          <a:ln cap="rnd" w="12600">
            <a:solidFill>
              <a:srgbClr val="00a8b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64736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be00"/>
          </a:solidFill>
          <a:ln cap="rnd" w="12600">
            <a:solidFill>
              <a:srgbClr val="dfbe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8858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10d9"/>
          </a:solidFill>
          <a:ln cap="rnd" w="12600">
            <a:solidFill>
              <a:srgbClr val="001bd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6382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4d0075"/>
          </a:solidFill>
          <a:ln cap="rnd" w="12600">
            <a:solidFill>
              <a:srgbClr val="53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38128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7a007d"/>
          </a:solidFill>
          <a:ln cap="rnd" w="12600">
            <a:solidFill>
              <a:srgbClr val="97009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612432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1984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6736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cap="rnd" w="12600">
            <a:solidFill>
              <a:srgbClr val="e1e1e1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440" y="1050840"/>
            <a:ext cx="17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1. Start with this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84480" y="1012680"/>
            <a:ext cx="31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2. Then fill the quad with your block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1003320"/>
            <a:ext cx="18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3. Once you have a quad, group it. Copy and paste it onto the next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1289160"/>
            <a:ext cx="28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ckwell"/>
              </a:rPr>
              <a:t>Remember that you can rotate and flip your block however you wa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6880" y="3003480"/>
            <a:ext cx="167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Try to make an interesting pa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When you have it done: Group it, copy it, and paste it 4 ti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72080" y="1857240"/>
            <a:ext cx="1666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6240" y="2098800"/>
            <a:ext cx="18032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Some helpful hotke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opy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Paste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840" y="250920"/>
            <a:ext cx="223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4. Resize your quads* to fit into the block patterns. Change the quad into an infinite clon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2600" y="1257480"/>
            <a:ext cx="1293840" cy="1295280"/>
            <a:chOff x="552600" y="1257480"/>
            <a:chExt cx="129384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552600" y="1257480"/>
              <a:ext cx="1293840" cy="1295280"/>
              <a:chOff x="552600" y="1257480"/>
              <a:chExt cx="1293840" cy="12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552600" y="125748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880" y="189540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190520" y="125748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638440" y="952560"/>
            <a:ext cx="4543560" cy="4475160"/>
            <a:chOff x="2638440" y="952560"/>
            <a:chExt cx="4543560" cy="4475160"/>
          </a:xfrm>
        </p:grpSpPr>
        <p:grpSp>
          <p:nvGrpSpPr>
            <p:cNvPr id="84" name=""/>
            <p:cNvGrpSpPr/>
            <p:nvPr/>
          </p:nvGrpSpPr>
          <p:grpSpPr>
            <a:xfrm>
              <a:off x="2638440" y="952560"/>
              <a:ext cx="4543560" cy="4475160"/>
              <a:chOff x="2638440" y="952560"/>
              <a:chExt cx="4543560" cy="44751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638440" y="952560"/>
                <a:ext cx="4543560" cy="1293840"/>
                <a:chOff x="2638440" y="952560"/>
                <a:chExt cx="4543560" cy="12938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888160" y="95256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638440" y="952560"/>
                  <a:ext cx="1293840" cy="1293840"/>
                  <a:chOff x="2638440" y="952560"/>
                  <a:chExt cx="1293840" cy="129384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2638440" y="952560"/>
                    <a:ext cx="1293840" cy="1293840"/>
                    <a:chOff x="2638440" y="952560"/>
                    <a:chExt cx="1293840" cy="129384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2638440" y="95256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329256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265572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932280" y="952560"/>
                  <a:ext cx="1292040" cy="1293840"/>
                  <a:chOff x="3932280" y="952560"/>
                  <a:chExt cx="1292040" cy="129384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932280" y="952560"/>
                    <a:ext cx="1292040" cy="1293840"/>
                    <a:chOff x="3932280" y="952560"/>
                    <a:chExt cx="1292040" cy="129384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32280" y="95256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58640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394956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221440" y="952560"/>
                  <a:ext cx="1292040" cy="1293840"/>
                  <a:chOff x="5221440" y="952560"/>
                  <a:chExt cx="1292040" cy="1293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221440" y="95256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875200" y="95256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238720" y="158904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886360" y="158904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638440" y="2238480"/>
                <a:ext cx="4543560" cy="1293840"/>
                <a:chOff x="2638440" y="2238480"/>
                <a:chExt cx="4543560" cy="129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888160" y="22384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2638440" y="2238480"/>
                  <a:ext cx="1293840" cy="1293840"/>
                  <a:chOff x="2638440" y="2238480"/>
                  <a:chExt cx="1293840" cy="12938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2638440" y="2238480"/>
                    <a:ext cx="1293840" cy="1293840"/>
                    <a:chOff x="2638440" y="2238480"/>
                    <a:chExt cx="1293840" cy="12938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638440" y="22384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2940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265572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3932280" y="2238480"/>
                  <a:ext cx="1292040" cy="1293840"/>
                  <a:chOff x="3932280" y="2238480"/>
                  <a:chExt cx="1292040" cy="129384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932280" y="2238480"/>
                    <a:ext cx="1292040" cy="1293840"/>
                    <a:chOff x="3932280" y="2238480"/>
                    <a:chExt cx="1292040" cy="12938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932280" y="22384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5864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"/>
                  <p:cNvSpPr/>
                  <p:nvPr/>
                </p:nvSpPr>
                <p:spPr>
                  <a:xfrm>
                    <a:off x="394956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5221440" y="2238480"/>
                  <a:ext cx="1292040" cy="1293840"/>
                  <a:chOff x="5221440" y="2238480"/>
                  <a:chExt cx="1292040" cy="12938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221440" y="22384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875200" y="22384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5238720" y="28749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86360" y="28749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8440" y="3524400"/>
                <a:ext cx="4543560" cy="1293840"/>
                <a:chOff x="2638440" y="3524400"/>
                <a:chExt cx="4543560" cy="12938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888160" y="352440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2638440" y="3524400"/>
                  <a:ext cx="1293840" cy="1293840"/>
                  <a:chOff x="2638440" y="3524400"/>
                  <a:chExt cx="1293840" cy="1293840"/>
                </a:xfrm>
              </p:grpSpPr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638440" y="3524400"/>
                    <a:ext cx="1293840" cy="1293840"/>
                    <a:chOff x="2638440" y="3524400"/>
                    <a:chExt cx="1293840" cy="1293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638440" y="352440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2940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"/>
                  <p:cNvSpPr/>
                  <p:nvPr/>
                </p:nvSpPr>
                <p:spPr>
                  <a:xfrm>
                    <a:off x="265572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932280" y="3524400"/>
                  <a:ext cx="1292040" cy="1293840"/>
                  <a:chOff x="3932280" y="3524400"/>
                  <a:chExt cx="1292040" cy="129384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932280" y="3524400"/>
                    <a:ext cx="1292040" cy="1293840"/>
                    <a:chOff x="3932280" y="3524400"/>
                    <a:chExt cx="1292040" cy="129384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932280" y="352440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5864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394956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221440" y="3524400"/>
                  <a:ext cx="1292040" cy="1293840"/>
                  <a:chOff x="5221440" y="3524400"/>
                  <a:chExt cx="1292040" cy="1293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221440" y="352440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875200" y="352440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5238720" y="416088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86360" y="416088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638440" y="4133880"/>
                <a:ext cx="4543560" cy="1293840"/>
                <a:chOff x="2638440" y="4133880"/>
                <a:chExt cx="4543560" cy="1293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88160" y="41338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2638440" y="4133880"/>
                  <a:ext cx="1293840" cy="1293840"/>
                  <a:chOff x="2638440" y="4133880"/>
                  <a:chExt cx="1293840" cy="129384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638440" y="4133880"/>
                    <a:ext cx="1293840" cy="1293840"/>
                    <a:chOff x="2638440" y="4133880"/>
                    <a:chExt cx="1293840" cy="1293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638440" y="41338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940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265572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932280" y="4133880"/>
                  <a:ext cx="1292040" cy="1293840"/>
                  <a:chOff x="3932280" y="4133880"/>
                  <a:chExt cx="1292040" cy="12938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932280" y="4133880"/>
                    <a:ext cx="1292040" cy="1293840"/>
                    <a:chOff x="3932280" y="4133880"/>
                    <a:chExt cx="1292040" cy="1293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932280" y="41338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864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394956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21440" y="4133880"/>
                  <a:ext cx="1292040" cy="1293840"/>
                  <a:chOff x="5221440" y="4133880"/>
                  <a:chExt cx="1292040" cy="12938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21440" y="41338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875200" y="41338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5238720" y="47703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86360" y="47703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62440" y="1270080"/>
              <a:ext cx="3875040" cy="3868560"/>
              <a:chOff x="2962440" y="1270080"/>
              <a:chExt cx="3875040" cy="38685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962440" y="2556000"/>
                <a:ext cx="3875040" cy="1293840"/>
                <a:chOff x="2962440" y="2556000"/>
                <a:chExt cx="3875040" cy="12938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962440" y="2556000"/>
                  <a:ext cx="1293480" cy="1293840"/>
                  <a:chOff x="2962440" y="2556000"/>
                  <a:chExt cx="1293480" cy="12938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962440" y="2556000"/>
                    <a:ext cx="1293480" cy="1293840"/>
                    <a:chOff x="2962440" y="2556000"/>
                    <a:chExt cx="1293480" cy="129384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962440" y="25560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6180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2979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55920" y="2556000"/>
                  <a:ext cx="1292400" cy="1293840"/>
                  <a:chOff x="4255920" y="2556000"/>
                  <a:chExt cx="1292400" cy="129384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255920" y="2556000"/>
                    <a:ext cx="1292400" cy="1293840"/>
                    <a:chOff x="4255920" y="2556000"/>
                    <a:chExt cx="1292400" cy="12938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25592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91004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427356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5545080" y="2556000"/>
                  <a:ext cx="1292400" cy="1293840"/>
                  <a:chOff x="5545080" y="2556000"/>
                  <a:chExt cx="1292400" cy="129384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545080" y="2556000"/>
                    <a:ext cx="1292400" cy="1293840"/>
                    <a:chOff x="5545080" y="2556000"/>
                    <a:chExt cx="1292400" cy="129384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54508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992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5562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2962440" y="3844800"/>
                <a:ext cx="3875040" cy="1293840"/>
                <a:chOff x="2962440" y="3844800"/>
                <a:chExt cx="3875040" cy="12938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962440" y="3844800"/>
                  <a:ext cx="1293480" cy="1293840"/>
                  <a:chOff x="2962440" y="3844800"/>
                  <a:chExt cx="1293480" cy="12938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962440" y="3844800"/>
                    <a:ext cx="1293480" cy="1293840"/>
                    <a:chOff x="2962440" y="3844800"/>
                    <a:chExt cx="1293480" cy="1293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962440" y="38448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6180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979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4255920" y="3844800"/>
                  <a:ext cx="1292400" cy="1293840"/>
                  <a:chOff x="4255920" y="3844800"/>
                  <a:chExt cx="1292400" cy="1293840"/>
                </a:xfrm>
              </p:grpSpPr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4255920" y="3844800"/>
                    <a:ext cx="1292400" cy="1293840"/>
                    <a:chOff x="4255920" y="3844800"/>
                    <a:chExt cx="1292400" cy="12938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25592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91004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>
                    <a:off x="427356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545080" y="3844800"/>
                  <a:ext cx="1292400" cy="1293840"/>
                  <a:chOff x="5545080" y="3844800"/>
                  <a:chExt cx="1292400" cy="12938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5545080" y="3844800"/>
                    <a:ext cx="1292400" cy="1293840"/>
                    <a:chOff x="5545080" y="3844800"/>
                    <a:chExt cx="1292400" cy="12938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54508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1992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562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962440" y="1270080"/>
                <a:ext cx="3875040" cy="1293840"/>
                <a:chOff x="2962440" y="1270080"/>
                <a:chExt cx="3875040" cy="12938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962440" y="1270080"/>
                  <a:ext cx="1293480" cy="1293840"/>
                  <a:chOff x="2962440" y="1270080"/>
                  <a:chExt cx="1293480" cy="12938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962440" y="1270080"/>
                    <a:ext cx="1293480" cy="1293840"/>
                    <a:chOff x="2962440" y="1270080"/>
                    <a:chExt cx="1293480" cy="12938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962440" y="127008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6180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2979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55920" y="1270080"/>
                  <a:ext cx="1292400" cy="1293840"/>
                  <a:chOff x="4255920" y="1270080"/>
                  <a:chExt cx="1292400" cy="1293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55920" y="1270080"/>
                    <a:ext cx="1292400" cy="1293840"/>
                    <a:chOff x="4255920" y="1270080"/>
                    <a:chExt cx="1292400" cy="1293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5592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1004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27356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545080" y="1270080"/>
                  <a:ext cx="1292400" cy="1293840"/>
                  <a:chOff x="5545080" y="1270080"/>
                  <a:chExt cx="1292400" cy="129384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545080" y="1270080"/>
                    <a:ext cx="1292400" cy="1293840"/>
                    <a:chOff x="5545080" y="1270080"/>
                    <a:chExt cx="1292400" cy="1293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54508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61992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5562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2" name=""/>
          <p:cNvGrpSpPr/>
          <p:nvPr/>
        </p:nvGrpSpPr>
        <p:grpSpPr>
          <a:xfrm>
            <a:off x="561960" y="2685960"/>
            <a:ext cx="1293840" cy="1295640"/>
            <a:chOff x="561960" y="2685960"/>
            <a:chExt cx="1293840" cy="1295640"/>
          </a:xfrm>
        </p:grpSpPr>
        <p:grpSp>
          <p:nvGrpSpPr>
            <p:cNvPr id="203" name=""/>
            <p:cNvGrpSpPr/>
            <p:nvPr/>
          </p:nvGrpSpPr>
          <p:grpSpPr>
            <a:xfrm>
              <a:off x="561960" y="2685960"/>
              <a:ext cx="1293840" cy="1295640"/>
              <a:chOff x="561960" y="2685960"/>
              <a:chExt cx="1293840" cy="129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1960" y="2685960"/>
                <a:ext cx="1293840" cy="129564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9600" y="3324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200240" y="2685960"/>
              <a:ext cx="0" cy="12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1960" y="4152960"/>
            <a:ext cx="1293840" cy="1295280"/>
            <a:chOff x="561960" y="4152960"/>
            <a:chExt cx="1293840" cy="1295280"/>
          </a:xfrm>
        </p:grpSpPr>
        <p:grpSp>
          <p:nvGrpSpPr>
            <p:cNvPr id="208" name=""/>
            <p:cNvGrpSpPr/>
            <p:nvPr/>
          </p:nvGrpSpPr>
          <p:grpSpPr>
            <a:xfrm>
              <a:off x="561960" y="4152960"/>
              <a:ext cx="1293840" cy="1295280"/>
              <a:chOff x="561960" y="4152960"/>
              <a:chExt cx="1293840" cy="129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61960" y="415296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9600" y="4791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00240" y="415296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36760" y="241200"/>
            <a:ext cx="516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5. Drag from cloner, place, rotate, flip, slide, and overlap your quads into the pattern block. Start with border quads unless you want a solid bord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8120" y="622440"/>
            <a:ext cx="484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To change the border color: Unlock the grid and change the fill or line col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5240" y="765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Use the extra block patterns if you are using more than one qu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3:29:08Z</dcterms:created>
  <dc:creator>Discovery Elementary</dc:creator>
  <dc:description/>
  <dc:language>en-US</dc:language>
  <cp:lastModifiedBy>Discovery Elementary</cp:lastModifiedBy>
  <dcterms:modified xsi:type="dcterms:W3CDTF">2007-01-26T23:29:08Z</dcterms:modified>
  <cp:revision>1</cp:revision>
  <dc:subject/>
  <dc:title>Slide 1</dc:title>
</cp:coreProperties>
</file>