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463-95C3-450F-901B-90B5B786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BD5-0EC8-478F-A908-E4C9A88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A75-AB36-4E47-946C-C318F4BD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03B-C81F-4FFC-A7E6-5F841821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D0A2-E7FD-47A3-BC57-4D40AFA1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334-4833-4D1B-BA3E-FCE25F6A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4C55-74CE-4858-9AEA-180A6CE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5A6B-8F4D-49CD-A27B-70B482D8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575C-69E9-4B83-9C86-10F0BFAF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C363-DF88-4FB5-B04D-60FDFD93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5F42-59E8-474C-8E23-3363DCC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795-DB3B-4F6E-903A-451D706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0A19-C6E1-4EF5-90E2-DFFEAED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0D79-5C56-46F0-BECD-9F3ED2F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AF25-D401-41FB-9052-E654FD88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1F2C-E18C-4EE4-93B5-1678E5EB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B22C-45F5-4500-9909-232FA273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FF2-82BC-4018-A58E-CE51D0E3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E76-1B71-4D39-B5A9-4E7E63ED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0C0-1AA5-4B5D-BA17-C857C156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2B9-4003-468F-8BC0-CD88D75B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A22-E59C-490E-ABAA-CD2CA3E6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D6E-ACDC-4D48-BE9F-742C11B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188-2186-4DF3-BF13-9CD72B5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B926-893A-40AC-96B2-730CA3DBE0F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6ACB-93C4-4F7A-A2CA-A0280DCA2BF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,  6,  7,  8       56 = 7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 5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1981440" cy="153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213372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2133720" cy="1390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315200" y="4419720"/>
            <a:ext cx="143820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3 = 9 lives of a c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33523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3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7 = 21 lucky a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7 = 2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510552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7 = 49er Gold Min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 x 7 = 4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1036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lf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men walked on 6 fee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layed 18 holes of go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 1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097520" cy="43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6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eep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You can drive a 4 x 4 when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urn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 1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563868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76360" y="31240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4 x 7 went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ot there late on February 28th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 2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76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410080" y="3260880"/>
            <a:ext cx="3733920" cy="3308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2010000">
            <a:off x="6923880" y="4241880"/>
            <a:ext cx="1084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6 x 7 was going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ut landed in Peru,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 4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837720" y="1905120"/>
            <a:ext cx="76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en he got back he was 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76800" y="2438280"/>
            <a:ext cx="2738520" cy="3986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1972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809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202824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8480" y="2057400"/>
            <a:ext cx="3228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m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09492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112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1720" y="2057400"/>
            <a:ext cx="3777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reez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j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x 8 is a d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24 hou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 x 8 = 2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6480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Broderbund   ClickArt 125,000 Deluxe Image Pa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Corel Gallery by Corel Corp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4 x 8 is a freezing st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32 degr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 x 8 = 32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103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77320" y="220968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5257800"/>
            <a:ext cx="76212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9600" y="4419720"/>
            <a:ext cx="1522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501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3809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4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8x8 plate fell on the floor, when I picked it up it was 6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8 x 8 = 6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12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8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, 2, 3, 4       12 = 3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1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600200" cy="10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981080" cy="1094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190512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934320" y="449748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52Z</dcterms:modified>
  <cp:revision>12</cp:revision>
  <dc:subject/>
  <dc:title>Learning the Multiplication Facts</dc:title>
</cp:coreProperties>
</file>