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195-E3CE-4BFC-A11A-8C500713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1D6-B5CE-482A-9E57-9BAA4D9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A38-9367-45A1-A5B7-AC3214AA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B6B-8E3B-44BB-8B9D-9D39D862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3DE-901E-4C53-998B-73EDF64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BFCE-31AD-478B-95AF-79A175B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747-C8A9-45BD-BA20-8CB4312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815D-FA04-4763-AE24-EAE700E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4C2-391C-4E01-B5B2-F9D32AF6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FBC8-5B00-4E90-B06D-CC91573F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834-A70A-4BDA-910A-E4D1944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C1D-B79A-4E7C-B562-F5124C56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6B89-CB9A-48D9-B8CB-4360FFA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E33-181E-4EF0-BF05-1CBA56A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5A39-83A3-4E0C-91B5-3DB1A8C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3D4A-9DF4-4AA5-98AE-070A1F88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2CCB-8C7A-4460-B9D3-849E9116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F19-91B4-4590-BE3F-2302198D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EDC-5721-460E-90F5-6ED571F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5CC-3543-436F-90FC-1BA5974A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27A-9AA5-42CC-A143-BD6288E9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829-7799-4815-B6EC-6A3EEFF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FB5-9A65-4FC4-B8A2-25DFE7A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093-78F8-41F4-8626-20FD017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494-121D-401C-AFDA-29216979367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6D4A-C916-4E76-A97E-8A4698B18B4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arning the 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onica Yuskait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rot="20452200">
            <a:off x="611280" y="45684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40000">
            <a:off x="6360480" y="52668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8 =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4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,  6,  7,  8       56 = 7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 5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198144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2971800"/>
            <a:ext cx="213372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213372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43820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3 = 9 lives of a c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3 =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3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5400" y="2971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7 = 21 lucky a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x 7 = 2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51055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&amp; 7 are always lucky numb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7 = 49er Gold Min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 x 7 = 4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103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lf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men walked on 6 fee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layed 18 holes of gol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 1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9752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ltiplication Fa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e easiest to learn when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find pattern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rhym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use stori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 relate them to what you already know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6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eep Sto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You can drive a 4 x 4 when yo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urn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 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563868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6360" y="31240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4 x 7 went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t there late on February 28t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 2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76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410080" y="3260880"/>
            <a:ext cx="3733920" cy="3308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010000">
            <a:off x="6923880" y="4241880"/>
            <a:ext cx="1084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venth Heaven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6 x 7 was going to heave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ut landed in Peru,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 4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837720" y="1905120"/>
            <a:ext cx="76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en he got back he was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76800" y="2438280"/>
            <a:ext cx="2738520" cy="398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1972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035800" y="3138480"/>
            <a:ext cx="356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2680" y="31384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202824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8480" y="2057400"/>
            <a:ext cx="3228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ucky m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94920" y="2057400"/>
            <a:ext cx="201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3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7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112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clue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1720" y="2057400"/>
            <a:ext cx="377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reez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j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hea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x 8 is a 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24 h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 x 8 = 2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are the answers f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076480"/>
            <a:ext cx="2228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8 x 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 x 7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64800" y="2057400"/>
            <a:ext cx="82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Broderbund   ClickArt 125,000 Deluxe Image Pa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part from Corel Gallery by Corel Corp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3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 x 8 is a freezing st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f 32 degr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x 8 = 32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103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77320" y="220968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5257800"/>
            <a:ext cx="76212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4419720"/>
            <a:ext cx="15228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501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3809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4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hyming 8’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8x8 plate fell on the floor, when I picked it up it was 6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8 x 8 = 64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12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2971800"/>
            <a:ext cx="361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8 x 8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5040" y="2971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nting Clu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, 2, 3, 4       12 = 3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 x 4 = 1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600200" cy="10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981080" cy="109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0512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49748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2:47:02Z</dcterms:created>
  <dc:creator>Monica/Bob Yuskaitis</dc:creator>
  <dc:description/>
  <dc:language>en-US</dc:language>
  <cp:lastModifiedBy>darci.mock</cp:lastModifiedBy>
  <dcterms:modified xsi:type="dcterms:W3CDTF">2006-09-08T01:53:52Z</dcterms:modified>
  <cp:revision>12</cp:revision>
  <dc:subject/>
  <dc:title>Learning the Multiplication Facts</dc:title>
</cp:coreProperties>
</file>