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1B6-7196-4ABF-817E-25A38551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EAC-AE93-4C71-A0E1-A4FAF01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155-A8DB-40B6-B0B2-BF205A2C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302-9570-4B94-8ACB-E7E24DF3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B45-AAA4-4640-8CCB-DC6FC78C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31A-4D7D-486E-B144-55D833E0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EB81-AB68-4CCE-A109-C758DB2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E120-E2EC-48EA-BFC8-BF9E0FD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44E7-8B7C-4777-B9D8-00046F65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D3AF-7AB8-4C15-8AB6-9F12A184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0936-34C2-4490-B271-38F3A37E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524-48AD-41BD-8816-E3C3FB29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F963-1B07-41B1-9745-456DEB7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B607-33B6-4A62-B545-CE9C6620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DA2-2C72-4DCC-9E8E-0CBB9554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FB5D-AF8F-447D-A983-C357C058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80C-50DC-4058-8A89-919CC8AC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FA1-7FD1-4138-9D75-CC7BAFC8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C6F-EE25-4F52-8FD5-2F3002BA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B39-9DEB-4746-9A3E-CDB2333B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178-B84E-4754-BD05-F706D0BB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370-EDDD-4A76-89C2-9589A417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E01-A02F-4A4C-8FA7-16AE110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CCD-C659-4978-92DF-9CD1B03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37EE-CB85-43F9-B2E8-F4480355140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5A91-58EC-46D0-A1B4-B6F54950533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,  6,  7,  8       56 = 7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 5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1981440" cy="153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213372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2133720" cy="1390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315200" y="4419720"/>
            <a:ext cx="143820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3 = 9 lives of a c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33523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3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7 = 21 lucky a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7 = 2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510552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7 = 49er Gold Min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 x 7 = 4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1036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lf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men walked on 6 fee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layed 18 holes of go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 1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097520" cy="43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6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eep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You can drive a 4 x 4 when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urn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 1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563868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76360" y="31240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4 x 7 went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ot there late on February 28th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 2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76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410080" y="3260880"/>
            <a:ext cx="3733920" cy="3308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2010000">
            <a:off x="6923880" y="4241880"/>
            <a:ext cx="1084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6 x 7 was going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ut landed in Peru,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 4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837720" y="1905120"/>
            <a:ext cx="76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en he got back he was 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76800" y="2438280"/>
            <a:ext cx="2738520" cy="3986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1972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809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202824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8480" y="2057400"/>
            <a:ext cx="3228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m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09492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112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1720" y="2057400"/>
            <a:ext cx="3777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reez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j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x 8 is a d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24 hou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 x 8 = 2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6480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Broderbund   ClickArt 125,000 Deluxe Image Pa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Corel Gallery by Corel Corp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4 x 8 is a freezing st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32 degr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 x 8 = 32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103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77320" y="220968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5257800"/>
            <a:ext cx="76212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9600" y="4419720"/>
            <a:ext cx="1522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501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3809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4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8x8 plate fell on the floor, when I picked it up it was 6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8 x 8 = 6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12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8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, 2, 3, 4       12 = 3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1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600200" cy="10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981080" cy="1094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190512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934320" y="449748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52Z</dcterms:modified>
  <cp:revision>12</cp:revision>
  <dc:subject/>
  <dc:title>Learning the Multiplication Facts</dc:title>
</cp:coreProperties>
</file>