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4D4-3718-4E30-A5FF-B98690F2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B95-8759-47B1-A81E-C124D91C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81F-9AFB-4810-8F6C-CF9E4C80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784-CBAF-44F5-AED2-5E6B2086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61C9-427D-460D-B165-395B53DA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0C6A-3FAD-4909-BE44-525B0AEA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1FA1-1694-4997-AF44-EE3D4D3A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5C36-B142-4714-8F8C-87AB724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3240-EB04-4640-923D-4920DBDA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1DCC-5F14-449B-BCC0-FE2C9279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78BA-1698-4E54-955B-CEB761D1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668-BA45-4845-B8C5-4E371F09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2014-1461-46DF-B329-F8C9766B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D5D5-AF2E-4AF5-932C-22F9CD5B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A77B-1606-422E-B423-415C8124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48BE-BEFC-42AF-A0DA-8DDEBEE8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F8B8-DFA0-4672-9383-914AB061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042-6638-4C9D-A365-6248E94F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DEC-69E2-4CCE-96B3-B06C1CBC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138-58CA-4EE9-9FD3-3C9C32DB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B4B-8810-47A1-B1A9-46A5F669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AB7-C60F-475C-968B-342038A4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208-6F88-4E4C-8673-5A9F92A5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6AA-C62A-4B52-B9DF-6AC7D49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7817-3071-42E5-8D95-FB1BD5969AA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604E-CD06-4B6D-89D5-88E9806A8CC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arning the 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onica Yuskait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rot="20452200">
            <a:off x="611280" y="456840"/>
            <a:ext cx="19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40000">
            <a:off x="6360480" y="52668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 x 8 =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4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unting Clu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,  6,  7,  8       56 = 7 x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 5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1981440" cy="153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29400" y="2971800"/>
            <a:ext cx="2133720" cy="107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29200" y="3886200"/>
            <a:ext cx="2133720" cy="1390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315200" y="4419720"/>
            <a:ext cx="1438200" cy="18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7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3 = 9 lives of a c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3352320"/>
            <a:ext cx="3047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5333760" cy="40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3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7 = 21 lucky ag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x 7 = 2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510552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7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 x 7 = 49er Gold Min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 x 7 = 4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1036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7 x 7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lf Sto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men walked on 6 feet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layed 18 holes of gol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 1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097520" cy="43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e easiest to learn when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find pattern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rhym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stori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relate them to what you already know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6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eep Sto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You can drive a 4 x 4 when you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urn 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 1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563868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76360" y="31240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venth Heaven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4 x 7 went to heave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ot there late on February 28th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 2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09880" cy="3763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410080" y="3260880"/>
            <a:ext cx="3733920" cy="3308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2010000">
            <a:off x="6923880" y="4241880"/>
            <a:ext cx="1084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52680" y="31384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venth Heaven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6 x 7 was going to heave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ut landed in Peru,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 4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837720" y="1905120"/>
            <a:ext cx="76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en he got back he was 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76800" y="2438280"/>
            <a:ext cx="2738520" cy="3986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19720" y="3429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8098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52680" y="31384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clue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2028240" y="2057400"/>
            <a:ext cx="201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3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8480" y="2057400"/>
            <a:ext cx="3228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m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o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answer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094920" y="2057400"/>
            <a:ext cx="201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3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41120" y="2057400"/>
            <a:ext cx="82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clue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2076480"/>
            <a:ext cx="2228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8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81720" y="2057400"/>
            <a:ext cx="3777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reez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j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hea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hea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 x 8 is a d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f 24 hou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3 x 8 = 24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answer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076480"/>
            <a:ext cx="2228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8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64800" y="2057400"/>
            <a:ext cx="82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part from Broderbund   ClickArt 125,000 Deluxe Image Pa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part from Corel Gallery by Corel Corp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4 x 8 is a freezing st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f 32 degre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4 x 8 = 32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103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077320" y="2209680"/>
            <a:ext cx="457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680" y="5257800"/>
            <a:ext cx="76212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29600" y="4419720"/>
            <a:ext cx="1522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50160" y="3657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10480" y="38098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4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8x8 plate fell on the floor, when I picked it up it was 6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8 x 8 = 64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810240" cy="12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8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unting Clu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, 2, 3, 4       12 = 3 x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1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600200" cy="104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1981080" cy="1094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00600" y="4267080"/>
            <a:ext cx="1905120" cy="109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934320" y="4497480"/>
            <a:ext cx="18288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12:47:02Z</dcterms:created>
  <dc:creator>Monica/Bob Yuskaitis</dc:creator>
  <dc:description/>
  <dc:language>en-US</dc:language>
  <cp:lastModifiedBy>darci.mock</cp:lastModifiedBy>
  <dcterms:modified xsi:type="dcterms:W3CDTF">2006-09-08T01:53:52Z</dcterms:modified>
  <cp:revision>12</cp:revision>
  <dc:subject/>
  <dc:title>Learning the Multiplication Facts</dc:title>
</cp:coreProperties>
</file>