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9A89-BD76-4A43-B0EF-562BC9939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5E93-D658-4990-BA5F-9F23669D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186E-7B60-4DC7-841C-66630D1E1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BAA8-CEC8-476B-846A-6A0A3C2B6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52AE-55DE-422E-8134-681FAD309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FA48-F478-420E-8D1C-9763A75B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1BC2-A05B-4918-9D4D-44990775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6B4B-32AE-4D8F-AEED-361A68CE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A101-CA42-4C0B-8D19-716B06DA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E5FC-1372-4385-8455-6CB50923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5969-05DE-4096-ACF7-19C4A605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3BAA-A207-4627-ABD5-6C9A6D7B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6853-2125-4C1E-8056-065E92AD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A8DC-B354-4B44-9479-6D6806BE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0A96-0E75-4AC8-A8F7-DD7B8FA1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7FF2-9CA2-4CE2-84C8-69E74676A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13FC-A69F-4DF9-877E-EE42B2ABC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25F5-D233-489D-80C8-493BB829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04C8-C179-4EE6-AE03-AE244CBC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6903-74C2-405D-B796-CB4B71E8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13FB-16D9-455B-B13F-D21311A5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8898-D03A-4711-BE19-D6166391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2078-8820-48E2-8E2B-0FB1FE44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8B68-6799-4857-B8DC-EDE4BA2A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A11F-3544-463B-9DAD-5C086C2F21E8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23D9-29DB-454B-B4BB-0B5DC2FB8B68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earning the Multiplication Fac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art 1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y Monica Yuskait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 rot="20452200">
            <a:off x="611280" y="456840"/>
            <a:ext cx="19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 x 3 =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140000">
            <a:off x="6360480" y="526680"/>
            <a:ext cx="237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 x 8 = 3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228960" y="228600"/>
            <a:ext cx="9906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ive’s Pattern - Step 2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If you are multiplying an odd number, drop the decimal poin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3 =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7 =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5 =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1 =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9 =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372280" y="2133720"/>
          <a:ext cx="2361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72280" y="2133720"/>
                    <a:ext cx="2361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150000" y="21178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24040" y="211788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35800" y="21178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2879640"/>
            <a:ext cx="52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24040" y="287964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35800" y="28796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0000" y="35654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24040" y="356544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35800" y="35654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24040" y="434340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35800" y="43275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50000" y="50896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24040" y="508968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35800" y="50896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5 x 7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86600" y="31240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5 x 3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86600" y="31240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5 x 9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86600" y="31240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5 x 5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86600" y="31240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228960" y="228600"/>
            <a:ext cx="9906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ive’s Pattern - Step 3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If you are multiplying an even number, just add a zero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2 =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6 =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4 =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8 =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10 =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372280" y="2133720"/>
          <a:ext cx="2361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72280" y="2133720"/>
                    <a:ext cx="2361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3150000" y="21178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59840" y="21337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2879640"/>
            <a:ext cx="52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59840" y="28954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50000" y="35654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59840" y="35812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59840" y="43434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00400" y="5089680"/>
            <a:ext cx="52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5089680"/>
            <a:ext cx="52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4343400"/>
            <a:ext cx="66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5 x 8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0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5 x 6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0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5 x 4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0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5 x 2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0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ultiplication Fac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re easiest to learn when..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You find patterns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You use rhymes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You use stories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You relate them to what you already know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ine’s Pattern - Step 1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ubtract 1 from number you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re multiplying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 x 3 =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 x 7 = 6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 x 8 = 7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 x 1 = 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 x 2 = 1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 x 6 = 5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5638680" y="2133720"/>
          <a:ext cx="21322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133720"/>
                    <a:ext cx="2132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3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3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3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3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3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3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3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3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3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3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3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3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ine’s Pattern - Step 2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dd a 2nd number that totals nine with the 1st number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 x 3 =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 x 7 = 6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 x 8 = 7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 x 1 = 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 x 2 = 1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 x 6 = 5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638680" y="2133720"/>
          <a:ext cx="21322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133720"/>
                    <a:ext cx="2132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3683520" y="21337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57600" y="2879640"/>
            <a:ext cx="52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83520" y="35812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83520" y="43434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83520" y="50896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683520" y="57913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30440" y="22860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30440" y="29718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30440" y="37339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0440" y="44956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30440" y="51814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30440" y="58672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41440" y="23623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41440" y="31240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41440" y="3809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41440" y="44956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41440" y="51814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41440" y="59436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33560" y="22287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49400" y="2949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633560" y="3600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49400" y="4397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49400" y="5083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33560" y="581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9 x 7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9 x 8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9 x 9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9 x 6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4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9 x 5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8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9 x 3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9 x 4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6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9 x 2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Zero Patter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0 times any number is 0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0 x 3 = 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0 x 7 = 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0 x 4 = 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0 x 1 = 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0 x 0 = 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0 x 9 = 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34120" y="2057400"/>
          <a:ext cx="291780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057400"/>
                    <a:ext cx="29178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ix’s Pattern (even #’s only)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tep #1 Cut the number you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re multiplying in half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360" y="2666520"/>
            <a:ext cx="38098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 x 2 = 1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 x 4 =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 x 6 = 3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 x 8 = 4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5603760" y="2133720"/>
            <a:ext cx="18972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ix’s Pattern (even #’s only)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tep #2 The number you ar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ultiplying by 6 is the 2nd #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440" y="2742840"/>
            <a:ext cx="38098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 x 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= 1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 x 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=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 x 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= 3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 x 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8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= 4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638680" y="2133720"/>
            <a:ext cx="2178000" cy="43434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3683520" y="27432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83520" y="34290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683520" y="41911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83520" y="49528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6 x 6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6 x 2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6 x 8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2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6 x 4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999040" y="31384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934320" y="31240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2135520" y="2971800"/>
            <a:ext cx="361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0 x 8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45400" y="29718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ne’s Patter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1 times any number is the same number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 x 3 = 3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 x 7 = 7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 x 4 = 4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 x 1 = 1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 x 2 =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 x 9 = 9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562720" y="2133720"/>
          <a:ext cx="219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2133720"/>
                    <a:ext cx="219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3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3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2135520" y="2971800"/>
            <a:ext cx="361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1 x 5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5400" y="29718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wo’s Patter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2 times any number is tha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number doubled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 x 3 = 6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 x 7 = 14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 x 4 = 8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 x 1 =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 x 2 = 4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 x 9 = 18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638680" y="2133720"/>
          <a:ext cx="2111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133720"/>
                    <a:ext cx="2111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3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3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2135520" y="2971800"/>
            <a:ext cx="361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2 x 5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5040" y="297180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ive’s Pattern - Step 1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ut the number you are multiplying in half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3 = 1.5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7 = 3.5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8 = 4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1 = .5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2 = 1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 x 6 = 3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372280" y="2133720"/>
          <a:ext cx="2361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72280" y="2133720"/>
                    <a:ext cx="2361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3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3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3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3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3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3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3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3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5T12:47:02Z</dcterms:created>
  <dc:creator>Monica/Bob Yuskaitis</dc:creator>
  <dc:description/>
  <dc:language>en-US</dc:language>
  <cp:lastModifiedBy>darci.mock</cp:lastModifiedBy>
  <dcterms:modified xsi:type="dcterms:W3CDTF">2006-09-08T01:53:22Z</dcterms:modified>
  <cp:revision>7</cp:revision>
  <dc:subject/>
  <dc:title>Learning the Multiplication Facts</dc:title>
</cp:coreProperties>
</file>