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0C3-2E30-4D8C-93C5-338AA013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D70-35C0-4076-8D7D-D0783A3A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8E7-FB91-462E-B835-631C0BFB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107-8CF8-4604-B5CB-36C62239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8617-C6B5-4614-84CC-41029843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DF56-E87F-49FA-B9AD-F05E8B06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B783-47A4-4415-8A13-34EEE265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8071-219F-4642-AE81-901228CC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BA7C-9D49-445C-B2FE-577EBEE4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51AB-6236-44F2-B9AF-3F34568E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87EF-ADFE-45B7-9610-99E279D3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7DE-DB8E-4F59-890A-82DCEC40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08DA-3992-4C59-880D-2408926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FEE2-0E3B-4735-A31C-FB72C6AA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ADA7-C595-4724-8DB0-94AC6820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2255-FD86-43AA-89B1-5D4BF3A2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95DB-5B3D-4851-A99F-05444009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400-B7C9-4232-9503-602A746F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5D5-E42E-4BE4-88C7-DAB4752D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37A-608E-4803-9B17-26DE052C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750-37BF-42EB-B68C-68EAD498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05E-FA80-4EAA-A0F0-901F482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E9D-F8B8-4F6C-853F-29085BB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80F-CD1B-4A59-93EF-CB50A093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59AC-C88F-4028-9C90-27D047809BA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F92D-2E2F-4FFB-BBEB-AB6969266A1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arning the 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onica Yuskait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rot="20452200">
            <a:off x="611280" y="456840"/>
            <a:ext cx="19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40000">
            <a:off x="6360480" y="52668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 x 8 =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228960" y="228600"/>
            <a:ext cx="9906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2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If you are multiplying an odd number, drop the decimal poin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3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7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5 =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9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1500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24040" y="2117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358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24040" y="28796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35800" y="287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00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24040" y="35654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358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24040" y="43434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35800" y="43275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5000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24040" y="50896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580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3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9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5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228960" y="228600"/>
            <a:ext cx="9906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3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If you are multiplying an even number, just add a zero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2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6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4 =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8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0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1500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9840" y="21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59840" y="28954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500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59840" y="3581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59840" y="4343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08968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508968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34340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e easiest to learn when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find pattern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rhym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stori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relate them to what you already know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ine’s Pattern - Step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ubtract 1 from number yo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re multiply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3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7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8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6 =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638680" y="2133720"/>
          <a:ext cx="2132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32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ine’s Pattern - Step 2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 a 2nd number that totals nine with the 1st numb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3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7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8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6 =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638680" y="2133720"/>
          <a:ext cx="2132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32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683520" y="21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3520" y="3581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3520" y="4343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8352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83520" y="5791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30440" y="2286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30440" y="2971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3044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0440" y="4495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30440" y="518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0440" y="5867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41440" y="236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1440" y="3124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1440" y="3809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41440" y="4495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41440" y="518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41440" y="5943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33560" y="2228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9400" y="294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33560" y="36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9400" y="439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9400" y="5083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33560" y="581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9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5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3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Zero Patter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0 times any number is 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3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7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4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0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9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4120" y="2057400"/>
          <a:ext cx="2917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2917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x’s Pattern (even #’s only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 #1 Cut the number you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re multiplying in half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4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6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8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603760" y="2133720"/>
            <a:ext cx="1897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x’s Pattern (even #’s only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 #2 The number you ar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ltiplying by 6 is the 2nd #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2178000" cy="4343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683520" y="2743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83520" y="3429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83520" y="4191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83520" y="4952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0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e’s Patte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times any number is the same numb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3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7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4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1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2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9 =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562720" y="2133720"/>
          <a:ext cx="219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219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1 x 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’s Patte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times any number is tha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umber doubled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3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7 = 1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4 = 8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1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2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9 = 18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638680" y="2133720"/>
          <a:ext cx="2111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11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2 x 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ut the number you are multiplying in hal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3 = 1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7 = 3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8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 = 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6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2:47:02Z</dcterms:created>
  <dc:creator>Monica/Bob Yuskaitis</dc:creator>
  <dc:description/>
  <dc:language>en-US</dc:language>
  <cp:lastModifiedBy>darci.mock</cp:lastModifiedBy>
  <dcterms:modified xsi:type="dcterms:W3CDTF">2006-09-08T01:53:22Z</dcterms:modified>
  <cp:revision>7</cp:revision>
  <dc:subject/>
  <dc:title>Learning the Multiplication Facts</dc:title>
</cp:coreProperties>
</file>