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8F40-73D2-4F01-BEDC-AC828A73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D628-5926-4EEB-A59D-3F41D2A5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CBD9-7059-4D16-B17B-344BACC9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DCC3-4C17-431B-9DA8-C0E3AA53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17F4-45D3-422E-90C6-1491FDFB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C325-DE0B-406B-8010-24288C9C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177B-82BC-4171-87E6-EF12330F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3CE8-84C5-4951-A037-DDF6814F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D7AE-41B2-4532-8676-559E5008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9364-6B69-49D8-A406-4ACF8658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EE39-4429-4DD6-80DB-80760AF6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D979-E60E-451D-B974-1423AE6A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9938-2E0C-4C5D-BD90-3C4328F0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7A8E-D457-407C-84C7-7A8E1E23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D66D-AA26-44F9-9EDF-6CE1BFEE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F228-C01D-4D4C-A215-F3DFC7E2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E1BA-8215-48D9-9582-50242D25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DAA2-93E8-4932-8B5E-92A5E0C3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8E0D-6D27-4A12-B9DD-C9984BB1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9204-2BB6-4E55-B70F-CCCEEABF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EE05-3F1A-49B7-8AC8-A600F84B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E115-E850-415B-AE79-A0AE7C86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1487-AF80-4F60-956E-16AD1CDC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0625-391D-4809-BABC-1FDDA6C7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05AC-5B6D-4034-85AC-E268AFE654E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0C5B-FADC-4BF1-9AEF-6CDD96B7FD8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earning the Multiplication Fac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rt 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y Monica Yuskait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 rot="20452200">
            <a:off x="611280" y="456840"/>
            <a:ext cx="19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 x 3 =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140000">
            <a:off x="6360480" y="526680"/>
            <a:ext cx="237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 x 8 = 3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228960" y="228600"/>
            <a:ext cx="9906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ve’s Pattern - Step 2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If you are multiplying an odd number, drop the decimal poin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3 =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7 =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5 =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1 =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9 =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72280" y="2133720"/>
          <a:ext cx="2361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2133720"/>
                    <a:ext cx="2361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150000" y="21178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24040" y="21178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35800" y="21178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2879640"/>
            <a:ext cx="5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24040" y="287964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35800" y="2879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0000" y="3565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24040" y="356544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35800" y="3565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24040" y="434340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35800" y="43275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50000" y="50896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24040" y="50896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35800" y="50896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5 x 7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86600" y="31240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5 x 3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31240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5 x 9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31240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5 x 5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31240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228960" y="228600"/>
            <a:ext cx="9906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ve’s Pattern - Step 3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If you are multiplying an even number, just add a zero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2 =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6 =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4 =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8 =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10 =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72280" y="2133720"/>
          <a:ext cx="2361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2133720"/>
                    <a:ext cx="2361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3150000" y="21178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59840" y="2133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2879640"/>
            <a:ext cx="5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59840" y="28954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50000" y="3565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59840" y="3581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59840" y="43434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5089680"/>
            <a:ext cx="5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5089680"/>
            <a:ext cx="5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4343400"/>
            <a:ext cx="66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5 x 8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5 x 6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5 x 4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5 x 2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ultiplication Fac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re easiest to learn when..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find patterns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use rhymes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use stories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relate them to what you already know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ine’s Pattern - Step 1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ubtract 1 from number you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re multiplying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3 =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7 = 6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8 = 7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1 = 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2 =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6 = 5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5638680" y="2133720"/>
          <a:ext cx="2132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133720"/>
                    <a:ext cx="2132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3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3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3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3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3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3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3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3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3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3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3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3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ine’s Pattern - Step 2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dd a 2nd number that totals nine with the 1st numbe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3 =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7 = 6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8 = 7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1 = 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2 =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6 = 5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638680" y="2133720"/>
          <a:ext cx="2132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133720"/>
                    <a:ext cx="2132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3683520" y="2133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57600" y="2879640"/>
            <a:ext cx="5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83520" y="3581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3520" y="43434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83520" y="50896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83520" y="57913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30440" y="2286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30440" y="2971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30440" y="3733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0440" y="44956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30440" y="5181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30440" y="5867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41440" y="2362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41440" y="31240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1440" y="3809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41440" y="44956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41440" y="5181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41440" y="59436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33560" y="2228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9400" y="2949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33560" y="3600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49400" y="4397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49400" y="5083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33560" y="581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9 x 7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9 x 8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9 x 9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9 x 6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4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9 x 5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8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9 x 3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9 x 4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9 x 2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Zero Patter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0 times any number is 0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 x 3 = 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 x 7 = 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 x 4 = 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 x 1 = 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 x 0 = 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 x 9 = 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4120" y="2057400"/>
          <a:ext cx="291780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057400"/>
                    <a:ext cx="2917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ix’s Pattern (even #’s only)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tep #1 Cut the number you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re multiplying in half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360" y="2666520"/>
            <a:ext cx="3809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 x 2 =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 x 4 =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 x 6 = 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 x 8 =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5603760" y="2133720"/>
            <a:ext cx="18972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ix’s Pattern (even #’s only)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tep #2 The number you ar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ultiplying by 6 is the 2nd #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3809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 x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=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 x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=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 x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= 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 x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=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638680" y="2133720"/>
            <a:ext cx="2178000" cy="43434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683520" y="27432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83520" y="34290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683520" y="41911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83520" y="49528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6 x 6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6 x 2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6 x 8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6 x 4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0 x 8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5400" y="29718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ne’s Patter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 times any number is the same numbe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 x 3 = 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 x 7 = 7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 x 4 =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 x 1 =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 x 2 =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 x 9 = 9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562720" y="2133720"/>
          <a:ext cx="219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133720"/>
                    <a:ext cx="219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1 x 5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5400" y="29718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wo’s Patter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 times any number is tha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number doubled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 x 3 = 6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 x 7 = 1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 x 4 = 8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 x 1 =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 x 2 =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 x 9 = 18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638680" y="2133720"/>
          <a:ext cx="2111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133720"/>
                    <a:ext cx="2111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2 x 5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ve’s Pattern - Step 1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ut the number you are multiplying in half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3 = 1.5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7 = 3.5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8 =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1 = .5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2 =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6 = 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72280" y="2133720"/>
          <a:ext cx="2361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2133720"/>
                    <a:ext cx="2361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3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3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5T12:47:02Z</dcterms:created>
  <dc:creator>Monica/Bob Yuskaitis</dc:creator>
  <dc:description/>
  <dc:language>en-US</dc:language>
  <cp:lastModifiedBy>darci.mock</cp:lastModifiedBy>
  <dcterms:modified xsi:type="dcterms:W3CDTF">2006-09-08T01:53:22Z</dcterms:modified>
  <cp:revision>7</cp:revision>
  <dc:subject/>
  <dc:title>Learning the Multiplication Facts</dc:title>
</cp:coreProperties>
</file>