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5DB-79FC-4C47-98DA-03E53877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36A-2B74-4A97-8229-E1E97A6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DE0-BAE6-4B1D-A789-19790A15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6D6-CB35-4898-97EE-F3B52B3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02C-04EE-42F7-905F-1EDD529A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120-F8DF-4520-AD6B-224455A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579E-D69F-4770-A994-239D819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3E8C-1669-4AD5-9E57-4E0D06A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B29-6AB8-4257-A136-5FE1501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8C4B-59A5-4865-855C-330A9AF1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8DC-B684-4338-818C-CD33AC2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3A7-C882-4ED8-BF74-CFBCC611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D08-C1FB-4568-BFF5-51824DC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BAE-91A2-4D94-9486-DCBBCC3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680-6277-432E-BF69-E504E7D0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5CB-6716-4547-9083-0327221D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69FF-3637-47C6-AE7D-790FE715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502-0C48-4759-96AA-18234A6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13C-B049-4A1A-8CD1-A3F30F0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10F-C645-4BDC-A423-92A57D9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E56-8673-42DA-AAEE-27C7DE4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940-A0F8-410E-8C8F-D91CBD0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27E-683A-44C9-B036-1D55C94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E17-B429-4A57-ACEC-0B12957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E0C-471E-4D92-93AA-959ABAEAA8D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308-FEB6-469A-8EA9-A865CDC94CC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odd number, drop the decimal poi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5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24040" y="2117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358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4040" y="28796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35800" y="287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4040" y="3565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358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4040" y="43434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5800" y="4327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500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24040" y="50896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8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even number, just add a zer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4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0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9840" y="28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984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984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896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08968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3434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tract 1 from number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a 2nd number that totals nine with the 1st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68352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352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352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8352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8352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440" y="2971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04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0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0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0440" y="5867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41440" y="236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44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144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1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41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1440" y="594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33560" y="2228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9400" y="294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3560" y="36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9400" y="439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9400" y="508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335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ero Patter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0 times any number is 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3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7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4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0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9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4120" y="2057400"/>
          <a:ext cx="2917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2917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1 Cut the number yo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 in hal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4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03760" y="2133720"/>
            <a:ext cx="1897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2 The number you a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plying by 6 is the 2nd #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17800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683520" y="274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83520" y="342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83520" y="419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352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0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times any number is the same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3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7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4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1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2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9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62720" y="2133720"/>
          <a:ext cx="219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219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times any number is th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mber double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3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7 = 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4 = 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1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2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9 = 1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33720"/>
          <a:ext cx="2111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11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t the number you are multiplying in ha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 1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 3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 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22Z</dcterms:modified>
  <cp:revision>7</cp:revision>
  <dc:subject/>
  <dc:title>Learning the Multiplication Facts</dc:title>
</cp:coreProperties>
</file>