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9AD-B13D-45E5-933E-B1EC8CAE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B89-1763-4E17-B7D7-43CAE380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D08-9FC2-4CEE-B219-5D4FCAAB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9371-2899-40DF-B377-DF06BA1C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04AE-8072-413E-B2CA-FEB334AE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6E63-CB1C-478D-A0F0-E2557F5D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BDA4-D867-47B6-85A1-CA4B251A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6089-15A3-4CA6-9184-5AB19213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848D-022D-4131-A877-3C62AA01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8CBD-087B-4317-883D-55721817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0CE7-7E43-48AE-93A0-661B3653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F4A-0E9E-4F86-9014-426D24F8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56CD-87C7-4FE6-A9F3-A5F1331B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6BF1-B23D-4E33-80BB-9AA65FD2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020C-BAC1-42D6-AE13-E2D1DB85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4C63-C11C-4924-A4BF-BDFD0CE6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E375-ECAA-4F58-9A1D-7EAEC851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BE8-BEDA-40EC-AC58-335364C5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88B-6E96-4A60-9F2C-56F8323E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948-4D60-4A06-BE95-25321064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874-C2E0-4190-ABB1-ABB5D81D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896-C258-4E11-B360-3A5253B4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9F7-1A80-4E78-860D-7324E17E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467-8416-4C1D-BA7A-406FA844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99FE-1091-4850-AD9B-F176DBEF498A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2971-363B-4A10-B26F-71B18367B1AD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ong Division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ith 2 Digit Divis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7760" y="19047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onica Yuska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14400" y="2666880"/>
          <a:ext cx="99864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2666880"/>
                    <a:ext cx="998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429000" y="2590920"/>
          <a:ext cx="12859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5909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105520" y="2666880"/>
          <a:ext cx="1447560" cy="13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2666880"/>
                    <a:ext cx="14475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7086600" y="2819520"/>
          <a:ext cx="10270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28195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343400" y="4343400"/>
          <a:ext cx="1195560" cy="163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343400"/>
                    <a:ext cx="119556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2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3000" y="3429000"/>
            <a:ext cx="44956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your divisor, 21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your new nu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quotient,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47242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your 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und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295280" y="1143000"/>
          <a:ext cx="12859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371600" y="2666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9164400">
            <a:off x="6171480" y="2133360"/>
            <a:ext cx="1940040" cy="323640"/>
          </a:xfrm>
          <a:prstGeom prst="leftArrow">
            <a:avLst>
              <a:gd name="adj1" fmla="val 50000"/>
              <a:gd name="adj2" fmla="val 1498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61280" y="514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2940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15200" y="44197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2468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3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line under the bottom number, 1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40384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subtraction 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Sub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66680" y="1143000"/>
          <a:ext cx="144792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1447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295280" y="2362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48520" y="487692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72200" y="5257800"/>
            <a:ext cx="2438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6680" y="4876920"/>
            <a:ext cx="397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&amp; place 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th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24680" y="51055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2468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15200" y="43434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4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re is nothing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down, go to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6880" y="1676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Br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371600" y="1295280"/>
          <a:ext cx="102708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10270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295280" y="23623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4852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52578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924680" y="51055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2940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468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17000" y="43434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229600" y="30481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5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342900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21 will not divide into your new number, 3, &amp; there is nothing to bring down, you are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1676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peat or Rema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19320" y="1143000"/>
          <a:ext cx="1195200" cy="16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119520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1221120" y="261612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72200" y="52578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20120" y="5105520"/>
            <a:ext cx="62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0199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92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722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448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2448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12080" y="43434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0600" y="198108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289548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12080" y="28954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924680" y="31240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22096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0120" y="1295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27880" y="5248440"/>
            <a:ext cx="45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your left over 3 as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der next to the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02440" y="137160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R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3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276720" y="13604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6088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219320" y="1752480"/>
          <a:ext cx="99828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99828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2286000" y="4648320"/>
          <a:ext cx="12859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6483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7467480" y="1219320"/>
          <a:ext cx="1447920" cy="13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1219320"/>
                    <a:ext cx="1447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6477120" y="3276720"/>
          <a:ext cx="10270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32767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7620120" y="4876920"/>
          <a:ext cx="1195200" cy="163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876920"/>
                    <a:ext cx="11952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1295280" y="3429000"/>
          <a:ext cx="182880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34290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1143000" y="380880"/>
          <a:ext cx="2209680" cy="173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380880"/>
                    <a:ext cx="220968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1222560" y="60948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 wor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4120" y="3429000"/>
            <a:ext cx="175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m pro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629400" y="304920"/>
          <a:ext cx="1981080" cy="144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29400" y="304920"/>
                    <a:ext cx="19810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7011720" y="380880"/>
            <a:ext cx="12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7391520" y="2666880"/>
          <a:ext cx="1447560" cy="1737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91520" y="2666880"/>
                    <a:ext cx="144756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7470000" y="2743200"/>
            <a:ext cx="12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4267080"/>
          <a:ext cx="2057400" cy="949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5880" y="4267080"/>
                    <a:ext cx="20574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6251760" y="43434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w-wow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33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62520" y="49528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10080" y="480060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3809520" y="3124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1880" y="33526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62520" y="342900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07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0734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16765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335268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91120" y="25909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02400" y="2590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28195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1905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00600" y="990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9907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92760" y="106668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40384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33526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Monica Yuska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ions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l Gallery by Corel Co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derbund Co. Art T/Maker 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22560" y="4029120"/>
            <a:ext cx="764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ing of this software must be approv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ca Yuskaitis, Walter White Elementary, CU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oftware may only be us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es Unified School Distr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ong Division With 2 Digit Divis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ur family to help you remember the steps in long di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00200" y="2895480"/>
          <a:ext cx="99864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998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286080" y="2819520"/>
          <a:ext cx="12859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28195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181480" y="2895480"/>
          <a:ext cx="1447920" cy="13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2895480"/>
                    <a:ext cx="1447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162920" y="3048120"/>
          <a:ext cx="10270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30481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343400" y="4343400"/>
          <a:ext cx="1195560" cy="163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343400"/>
                    <a:ext cx="119556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690560" y="434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4343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4343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5200" y="589284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erson represents a step in the long division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2438280"/>
          <a:ext cx="8766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8766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219320" y="4267080"/>
          <a:ext cx="109368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267080"/>
                    <a:ext cx="10936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724280" y="1905120"/>
          <a:ext cx="1295640" cy="11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905120"/>
                    <a:ext cx="129564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876920" y="3352680"/>
          <a:ext cx="95400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352680"/>
                    <a:ext cx="95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76920" y="4648320"/>
          <a:ext cx="1084320" cy="14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648320"/>
                    <a:ext cx="10843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37160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5562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4191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8360" y="6019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24240" y="258120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Di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23520" y="46386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Multi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58880" y="212400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35200" y="349560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Bring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35560" y="4791240"/>
            <a:ext cx="20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Repeat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1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0388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21 into first number in the divid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886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will not go into 9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look at 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3346560"/>
          <a:ext cx="3505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346560"/>
                    <a:ext cx="3505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257800" y="3276720"/>
          <a:ext cx="3481560" cy="33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276720"/>
                    <a:ext cx="34815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715000" y="350532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20’s will go into 90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0804800">
            <a:off x="6171840" y="2590560"/>
            <a:ext cx="614520" cy="226800"/>
          </a:xfrm>
          <a:prstGeom prst="leftArrow">
            <a:avLst>
              <a:gd name="adj1" fmla="val 50000"/>
              <a:gd name="adj2" fmla="val 677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371600" y="1447920"/>
          <a:ext cx="9986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1447920"/>
                    <a:ext cx="9986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52388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167652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Div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5638680"/>
            <a:ext cx="458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ivide 20 into 90 &amp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your answer above the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724280"/>
            <a:ext cx="37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 off 21 and 94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2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3048120"/>
            <a:ext cx="464832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the divis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the first numbe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your quo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419720"/>
            <a:ext cx="426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your 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und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 or the nu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just divided i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295280"/>
            <a:ext cx="68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562720" y="3757680"/>
          <a:ext cx="297180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757680"/>
                    <a:ext cx="297180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715000" y="3657600"/>
          <a:ext cx="264312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657600"/>
                    <a:ext cx="26431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6629400" y="3581280"/>
            <a:ext cx="8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Multi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43000" y="1219320"/>
          <a:ext cx="128592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193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295280" y="2590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3280200">
            <a:off x="6606720" y="1546200"/>
            <a:ext cx="239760" cy="1414440"/>
          </a:xfrm>
          <a:prstGeom prst="upArrow">
            <a:avLst>
              <a:gd name="adj1" fmla="val 50000"/>
              <a:gd name="adj2" fmla="val 14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312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170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3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line under the 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36576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subtraction sig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to the 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Subtr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2819520"/>
            <a:ext cx="533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19320" y="1295280"/>
          <a:ext cx="144756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14475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447920" y="24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7760" y="4724280"/>
            <a:ext cx="34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84 from 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7040" y="5334120"/>
            <a:ext cx="631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your answer directly below the 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312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70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4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the next number in the dividend to the right of the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236232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44197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n arrow unde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16765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Bring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5486400"/>
            <a:ext cx="50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the 8 down next to the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371600" y="1447920"/>
          <a:ext cx="10270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295280" y="2438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565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804800">
            <a:off x="7772040" y="2590560"/>
            <a:ext cx="223920" cy="3031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5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where you dec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you repeat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steps of divis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441972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r divisor can divide into your new number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, or if you have numbers in the divide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have not been brought down, you repe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5 steps of di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1676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peat or Rema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95280" y="1066680"/>
          <a:ext cx="1195560" cy="16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066680"/>
                    <a:ext cx="119556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1373400" y="259092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1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2640" y="2895480"/>
            <a:ext cx="34290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21 into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number, 1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5257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your answer direc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ve the 8 in your quo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43000" y="1295280"/>
          <a:ext cx="99864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998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21932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3544400">
            <a:off x="5434200" y="3404160"/>
            <a:ext cx="1268640" cy="250920"/>
          </a:xfrm>
          <a:prstGeom prst="leftArrow">
            <a:avLst>
              <a:gd name="adj1" fmla="val 50000"/>
              <a:gd name="adj2" fmla="val 1263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05200" y="3886200"/>
            <a:ext cx="369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 21 and 108 o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your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4800600"/>
            <a:ext cx="31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20 into 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3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3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3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5:42:19Z</dcterms:created>
  <dc:creator>Monica/Bob Yuskaitis</dc:creator>
  <dc:description/>
  <dc:language>en-US</dc:language>
  <cp:lastModifiedBy>Jackie's</cp:lastModifiedBy>
  <dcterms:modified xsi:type="dcterms:W3CDTF">2008-04-03T18:47:58Z</dcterms:modified>
  <cp:revision>92</cp:revision>
  <dc:subject/>
  <dc:title>Short Division</dc:title>
</cp:coreProperties>
</file>