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A7F6-B5B6-42DA-B32B-0C2A95D95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3B99-D750-4E31-9CC2-3A848C85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B0B3-3B10-4FFA-83FC-D28A55C9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7524-D10D-4B0F-9683-FDA58B94F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102E-6306-407A-BC7B-180D64AB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0470-1CE3-4C99-B62A-57EEF63A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A4F2-9F4D-4A57-A37E-3AC9E7C7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EA22-47E1-4E7D-A959-06B9FD2B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4970-2F22-4CC1-B880-31F5F089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BEDD-39E7-4E10-9988-C32A80ED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0C06-B78C-4530-8483-9858A114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039C-62EE-4116-9935-2C08C6F2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BC6A-A15C-4601-A185-1A714776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CB9A-5658-4698-AB55-4D61AE27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21A5-D623-4763-947E-B5EDD6A1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345F-1ADC-4463-AEA5-32F99204A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649F-B361-43FB-94C7-C71A6001F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7424-2EC0-4E32-9E23-4AE0F14D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C2FA-185C-4FB5-9453-7EAB2D3E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6081-7053-4DF6-B3F7-46A5ED87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537C-7FD4-40AA-BC89-C2715054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E725-DD04-4A93-8E33-93A8EA1B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AE2F-FEFC-40B7-BCC7-D04E4C58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1E60-FEF3-4AD1-9424-9B4A3A49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3EED-64D3-4511-AC11-0A44651F6523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759F-1CED-44B5-AAE5-457EB52E10A8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ong Division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ith 2 Digit Diviso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7760" y="1904760"/>
            <a:ext cx="3886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Monica Yuska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814400" y="2666880"/>
          <a:ext cx="998640" cy="12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4400" y="2666880"/>
                    <a:ext cx="99864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429000" y="2590920"/>
          <a:ext cx="1285920" cy="15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590920"/>
                    <a:ext cx="12859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105520" y="2666880"/>
          <a:ext cx="1447560" cy="131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2666880"/>
                    <a:ext cx="144756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7086600" y="2819520"/>
          <a:ext cx="102708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2819520"/>
                    <a:ext cx="10270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343400" y="4343400"/>
          <a:ext cx="1195560" cy="1633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3400" y="4343400"/>
                    <a:ext cx="119556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 2 in 2 Digit Long Div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43000" y="3429000"/>
            <a:ext cx="449568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your divisor, 21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your new numb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quotient, 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95280" y="5638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43000" y="472428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 your answ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ly under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1752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705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666880" y="16765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Multi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295280" y="1143000"/>
          <a:ext cx="12859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143000"/>
                    <a:ext cx="12859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371600" y="26668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6248520" y="34290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29400" y="3657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 1) 9 4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48520" y="23623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315200" y="1295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705720" y="281952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315200" y="365760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317000" y="2819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926480" y="36576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228160" y="3038760"/>
            <a:ext cx="1800" cy="628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400800" y="37339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002800" y="12952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9164400">
            <a:off x="6171480" y="2133360"/>
            <a:ext cx="1940040" cy="323640"/>
          </a:xfrm>
          <a:prstGeom prst="leftArrow">
            <a:avLst>
              <a:gd name="adj1" fmla="val 50000"/>
              <a:gd name="adj2" fmla="val 14986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61280" y="5146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629400" y="43783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315200" y="441972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924680" y="437832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 3 in 2 Digit Long Div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3048120"/>
            <a:ext cx="449604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 a line under the bottom number, 10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95280" y="5638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066680" y="403848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 a subtraction si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86400" y="1752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705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66880" y="16765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Sub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066680" y="1143000"/>
          <a:ext cx="1447920" cy="13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143000"/>
                    <a:ext cx="144792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1295280" y="23623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248520" y="4876920"/>
            <a:ext cx="3808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72200" y="5257800"/>
            <a:ext cx="2438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66680" y="4876920"/>
            <a:ext cx="397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 &amp; place answ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 the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924680" y="510552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248520" y="34290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 1) 9 4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248520" y="23623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15200" y="1295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05720" y="281952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315200" y="365760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317000" y="2819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926480" y="36576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228160" y="3038760"/>
            <a:ext cx="1800" cy="628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00800" y="37339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002800" y="12952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629400" y="43783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924680" y="437832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629400" y="3657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315200" y="434340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3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3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 4 in 2 Digit Long Div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66320" y="3048120"/>
            <a:ext cx="449604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-133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re is nothing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ng down, go to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5638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86400" y="1752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705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666880" y="167652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Br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371600" y="1295280"/>
          <a:ext cx="102708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295280"/>
                    <a:ext cx="102708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1295280" y="23623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248520" y="4876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72200" y="525780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924680" y="510552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6248520" y="34290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 1) 9 4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248520" y="23623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15200" y="1295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705720" y="281952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15200" y="365760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317000" y="2819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926480" y="36576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0800" y="37339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002800" y="12952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629400" y="43783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924680" y="437832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629400" y="3657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317000" y="43434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229600" y="30481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 5 in 2 Digit Long Div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66320" y="3429000"/>
            <a:ext cx="449604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21 will not divide into your new number, 3, &amp; there is nothing to bring down, you are d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95280" y="5638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86400" y="1752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705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38280" y="167652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Repeat or Remai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219320" y="1143000"/>
          <a:ext cx="1195200" cy="16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43000"/>
                    <a:ext cx="119520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"/>
          <p:cNvSpPr/>
          <p:nvPr/>
        </p:nvSpPr>
        <p:spPr>
          <a:xfrm>
            <a:off x="1221120" y="261612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43600" y="4876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172200" y="525780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620120" y="5105520"/>
            <a:ext cx="62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6019920" y="34290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621920" y="36576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172200" y="37339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24480" y="43783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0120" y="437832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324480" y="3657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012080" y="43434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800600" y="198108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 1) 9 4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10280" y="365760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400800" y="289548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012080" y="28954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924680" y="31240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943600" y="22096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010280" y="1295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620120" y="129528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127880" y="5248440"/>
            <a:ext cx="457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your left over 3 as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ainder next to the 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002440" y="1371600"/>
            <a:ext cx="89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R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3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3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3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3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276720" y="136044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60880" y="2316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1219320" y="1752480"/>
          <a:ext cx="998280" cy="12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99828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2286000" y="4648320"/>
          <a:ext cx="1285920" cy="15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4648320"/>
                    <a:ext cx="12859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7467480" y="1219320"/>
          <a:ext cx="1447920" cy="131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67480" y="1219320"/>
                    <a:ext cx="144792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6477120" y="3276720"/>
          <a:ext cx="102708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77120" y="3276720"/>
                    <a:ext cx="10270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7620120" y="4876920"/>
          <a:ext cx="1195200" cy="1633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0120" y="4876920"/>
                    <a:ext cx="1195200" cy="16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1295280" y="3429000"/>
          <a:ext cx="1828800" cy="144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95280" y="3429000"/>
                    <a:ext cx="1828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1143000" y="380880"/>
          <a:ext cx="2209680" cy="1737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43000" y="380880"/>
                    <a:ext cx="2209680" cy="17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"/>
          <p:cNvSpPr/>
          <p:nvPr/>
        </p:nvSpPr>
        <p:spPr>
          <a:xfrm>
            <a:off x="1222560" y="609480"/>
            <a:ext cx="20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er work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374120" y="3429000"/>
            <a:ext cx="175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’m pro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you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6629400" y="304920"/>
          <a:ext cx="1981080" cy="1447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629400" y="304920"/>
                    <a:ext cx="198108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7011720" y="380880"/>
            <a:ext cx="127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y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7391520" y="2666880"/>
          <a:ext cx="1447560" cy="1737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391520" y="2666880"/>
                    <a:ext cx="1447560" cy="17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7470000" y="2743200"/>
            <a:ext cx="124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’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6095880" y="4267080"/>
          <a:ext cx="2057400" cy="949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95880" y="4267080"/>
                    <a:ext cx="205740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"/>
          <p:cNvSpPr/>
          <p:nvPr/>
        </p:nvSpPr>
        <p:spPr>
          <a:xfrm>
            <a:off x="6251760" y="434340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w-wow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733920" y="4572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962520" y="495288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410080" y="480060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3809520" y="31240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1880" y="33526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962520" y="342900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114800" y="407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0080" y="407340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16765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 1) 9 4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800600" y="335268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191120" y="259092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02400" y="25909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15000" y="28195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733920" y="1905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800600" y="990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10080" y="99072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792760" y="1066680"/>
            <a:ext cx="89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403848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335268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redit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19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ten by Monica Yuska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lustrations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el Gallery by Corel Cor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derbund Co. Art T/Maker 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22560" y="4029120"/>
            <a:ext cx="7646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ying of this software must be approved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ica Yuskaitis, Walter White Elementary, CUS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oftware may only be us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es Unified School Distri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ong Division With 2 Digit Diviso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7010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ur family to help you remember the steps in long di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600200" y="2895480"/>
          <a:ext cx="998640" cy="12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895480"/>
                    <a:ext cx="99864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286080" y="2819520"/>
          <a:ext cx="1285920" cy="15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86080" y="2819520"/>
                    <a:ext cx="12859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5181480" y="2895480"/>
          <a:ext cx="1447920" cy="131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2895480"/>
                    <a:ext cx="144792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7162920" y="3048120"/>
          <a:ext cx="102708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3048120"/>
                    <a:ext cx="10270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343400" y="4343400"/>
          <a:ext cx="1195560" cy="1633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3400" y="4343400"/>
                    <a:ext cx="119556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1690560" y="4343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4343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43434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86600" y="4343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5200" y="589284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2 Digit Long Div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7010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person represents a step in the long division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95280" y="2438280"/>
          <a:ext cx="87660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38280"/>
                    <a:ext cx="8766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219320" y="4267080"/>
          <a:ext cx="1093680" cy="12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267080"/>
                    <a:ext cx="109368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724280" y="1905120"/>
          <a:ext cx="1295640" cy="11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1905120"/>
                    <a:ext cx="129564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876920" y="3352680"/>
          <a:ext cx="954000" cy="99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352680"/>
                    <a:ext cx="954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876920" y="4648320"/>
          <a:ext cx="1084320" cy="1481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76920" y="4648320"/>
                    <a:ext cx="108432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37160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5562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00600" y="4191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78360" y="60199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24240" y="2581200"/>
            <a:ext cx="152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Div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23520" y="4638600"/>
            <a:ext cx="186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Multi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58880" y="2124000"/>
            <a:ext cx="18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Sub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35200" y="3495600"/>
            <a:ext cx="23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Bring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35560" y="4791240"/>
            <a:ext cx="202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Repeat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a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 1 in 2 Digit Long Div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3048120"/>
            <a:ext cx="403884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21 into first number in the divid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 1) 9 4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48520" y="23623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5638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388620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1 will not go into 9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look at 9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15200" y="1295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1752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3346560"/>
          <a:ext cx="3505320" cy="27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346560"/>
                    <a:ext cx="350532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5257800" y="3276720"/>
          <a:ext cx="3481560" cy="333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276720"/>
                    <a:ext cx="34815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5715000" y="3505320"/>
            <a:ext cx="259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20’s will go into 90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705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0804800">
            <a:off x="6171840" y="2590560"/>
            <a:ext cx="614520" cy="226800"/>
          </a:xfrm>
          <a:prstGeom prst="leftArrow">
            <a:avLst>
              <a:gd name="adj1" fmla="val 50000"/>
              <a:gd name="adj2" fmla="val 677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371600" y="1447920"/>
          <a:ext cx="998640" cy="123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1447920"/>
                    <a:ext cx="99864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1523880" y="2590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66880" y="1676520"/>
            <a:ext cx="22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Div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5638680"/>
            <a:ext cx="458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divide 20 into 90 &amp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your answer above the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4724280"/>
            <a:ext cx="379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nd off 21 and 94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 2 in 2 Digit Long Div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680" y="3048120"/>
            <a:ext cx="464832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the divis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the first number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your quoti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5280" y="5638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4419720"/>
            <a:ext cx="426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your answ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ly under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4 or the numb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just divided i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1295280"/>
            <a:ext cx="685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1752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562720" y="3757680"/>
          <a:ext cx="2971800" cy="22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3757680"/>
                    <a:ext cx="2971800" cy="22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5715000" y="3657600"/>
          <a:ext cx="2643120" cy="28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3657600"/>
                    <a:ext cx="264312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6629400" y="3581280"/>
            <a:ext cx="83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4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705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66880" y="16765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Multip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143000" y="1219320"/>
          <a:ext cx="128592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1219320"/>
                    <a:ext cx="12859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1295280" y="25909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 1) 9 4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48520" y="23623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15200" y="1295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3280200">
            <a:off x="6606720" y="1546200"/>
            <a:ext cx="239760" cy="1414440"/>
          </a:xfrm>
          <a:prstGeom prst="upArrow">
            <a:avLst>
              <a:gd name="adj1" fmla="val 50000"/>
              <a:gd name="adj2" fmla="val 147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77120" y="4724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31200" y="2819520"/>
            <a:ext cx="56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17000" y="2819520"/>
            <a:ext cx="56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 3 in 2 Digit Long Div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320" y="3048120"/>
            <a:ext cx="449604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 a line under the 8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5638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365760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a subtraction sig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to the 8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86400" y="1752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705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66880" y="16765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Subtr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48520" y="2819520"/>
            <a:ext cx="533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219320" y="1295280"/>
          <a:ext cx="1447560" cy="13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95280"/>
                    <a:ext cx="144756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1447920" y="2438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00800" y="3733920"/>
            <a:ext cx="22096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6248520" y="3429000"/>
            <a:ext cx="3808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7760" y="4724280"/>
            <a:ext cx="342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 84 from 9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7040" y="5334120"/>
            <a:ext cx="631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your answer directly below the 8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29400" y="3657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 1) 9 4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48520" y="23623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315200" y="1295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31200" y="2819520"/>
            <a:ext cx="56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317000" y="2819520"/>
            <a:ext cx="56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15200" y="365760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 4 in 2 Digit Long Div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320" y="3048120"/>
            <a:ext cx="449604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the next number in the dividend to the right of the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67280" y="2362320"/>
            <a:ext cx="2438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5638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441972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an arrow under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86400" y="1752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705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66880" y="16765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Bring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66680" y="5486400"/>
            <a:ext cx="508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ng the 8 down next to the 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371600" y="1447920"/>
          <a:ext cx="102708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47920"/>
                    <a:ext cx="10270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1295280" y="24382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37339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248520" y="34290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629400" y="3657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 1) 9 4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248520" y="23623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315200" y="1295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281952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15200" y="365760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317000" y="2819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7565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0804800">
            <a:off x="7772040" y="2590560"/>
            <a:ext cx="223920" cy="3031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926480" y="36576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28160" y="3038760"/>
            <a:ext cx="1800" cy="628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3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3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3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3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 5 in 2 Digit Long Div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320" y="3048120"/>
            <a:ext cx="449604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where you deci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ther you repeat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steps of divis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5638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66680" y="4419720"/>
            <a:ext cx="7696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r divisor can divide into your new number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8, or if you have numbers in the divide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have not been brought down, you repea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5 steps of di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1752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666880" y="167652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Repeat or Remai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295280" y="1066680"/>
          <a:ext cx="1195560" cy="16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066680"/>
                    <a:ext cx="119556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1373400" y="259092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6248520" y="34290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29400" y="3657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 1) 9 4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248520" y="23623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315200" y="1295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281952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315200" y="365760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17000" y="2819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926480" y="36576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8160" y="3038760"/>
            <a:ext cx="1800" cy="628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00800" y="37339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3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3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 1 in 2 Digit Long Divi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42640" y="2895480"/>
            <a:ext cx="34290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21 into you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number, 10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95280" y="5638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6680" y="525780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 your answer direct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ve the 8 in your quoti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86400" y="1752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705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666880" y="16765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Div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43000" y="1295280"/>
          <a:ext cx="998640" cy="12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95280"/>
                    <a:ext cx="99864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1219320" y="2438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6248520" y="34290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29400" y="3657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05520" y="2133720"/>
            <a:ext cx="358128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 1) 9 4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248520" y="23623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15200" y="1295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05720" y="281952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3657600"/>
            <a:ext cx="56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317000" y="2819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926480" y="36576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228160" y="3038760"/>
            <a:ext cx="1800" cy="628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00800" y="37339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13544400">
            <a:off x="5434200" y="3404160"/>
            <a:ext cx="1268640" cy="250920"/>
          </a:xfrm>
          <a:prstGeom prst="leftArrow">
            <a:avLst>
              <a:gd name="adj1" fmla="val 50000"/>
              <a:gd name="adj2" fmla="val 12639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05200" y="3886200"/>
            <a:ext cx="369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nd 21 and 108 of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your 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66680" y="4800600"/>
            <a:ext cx="316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20 into 1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002800" y="12952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3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3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3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3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3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3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3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3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2T15:42:19Z</dcterms:created>
  <dc:creator>Monica/Bob Yuskaitis</dc:creator>
  <dc:description/>
  <dc:language>en-US</dc:language>
  <cp:lastModifiedBy>Jackie's</cp:lastModifiedBy>
  <dcterms:modified xsi:type="dcterms:W3CDTF">2008-04-03T18:47:58Z</dcterms:modified>
  <cp:revision>92</cp:revision>
  <dc:subject/>
  <dc:title>Short Division</dc:title>
</cp:coreProperties>
</file>