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EB7-B798-478A-AC68-5B079FA2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B92-234E-46E7-B0C1-5447C53A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474-048A-4F62-AE93-85EC8B8A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0F8-65E0-420C-8AB1-E1E1451D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7F44-15E3-410A-9D9D-5EC89A7F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5602-19BE-4EE7-BA7E-A1040541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B58F-917C-443B-9B61-C7EA171B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B8F3-CEC7-4873-BC7E-475683A8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83CB-1A05-4A2E-B1D9-2F4A862C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D1AA-E035-483A-BC1C-4BE9ACBF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4F03-9809-420A-8065-C73DF739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6C3-7269-45B9-B535-B9B239E2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402B-126C-4B71-A653-6906DCA2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B533-F7E5-439A-823D-1160860C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1AAA-F2D4-4372-BAD8-D91D1023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605E-4ECD-4EEC-8AA3-BAF4030B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EC4F-EE15-407D-B943-BEF46947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987-183B-4A35-9BB6-075389E0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0EE0-B003-4ADF-A2D2-009778E6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0E7-B969-453F-8E52-9050A30B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7BB-1834-4D59-8B25-F2A2EE4E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368-A6EF-4ECA-8727-4BF67AA2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8ADE-3425-4289-B059-403910D4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CA5-918B-4EAF-BD71-8CAD81E3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CA35-FBBA-49F4-A8D2-FAD155FEF91A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BB24-0E05-4ADF-AE8C-1BCEF128C3DC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ong Division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ith 2 Digit Divis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7760" y="19047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onica Yuska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814400" y="2666880"/>
          <a:ext cx="99864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2666880"/>
                    <a:ext cx="9986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429000" y="2590920"/>
          <a:ext cx="12859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59092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105520" y="2666880"/>
          <a:ext cx="1447560" cy="13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2666880"/>
                    <a:ext cx="14475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7086600" y="2819520"/>
          <a:ext cx="10270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2819520"/>
                    <a:ext cx="1027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343400" y="4343400"/>
          <a:ext cx="1195560" cy="163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4343400"/>
                    <a:ext cx="119556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2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43000" y="3429000"/>
            <a:ext cx="449568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your divisor, 21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your new num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quotient,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47242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your 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ly under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295280" y="1143000"/>
          <a:ext cx="12859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371600" y="2666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02800" y="1295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9164400">
            <a:off x="6171480" y="2133360"/>
            <a:ext cx="1940040" cy="323640"/>
          </a:xfrm>
          <a:prstGeom prst="leftArrow">
            <a:avLst>
              <a:gd name="adj1" fmla="val 50000"/>
              <a:gd name="adj2" fmla="val 1498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61280" y="514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29400" y="437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15200" y="44197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24680" y="43783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3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line under the bottom number, 1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40384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subtraction 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668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Sub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066680" y="1143000"/>
          <a:ext cx="144792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1447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295280" y="2362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48520" y="4876920"/>
            <a:ext cx="380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72200" y="5257800"/>
            <a:ext cx="2438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66680" y="4876920"/>
            <a:ext cx="397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&amp; place 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the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24680" y="510552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002800" y="1295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29400" y="437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24680" y="43783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15200" y="43434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4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re is nothing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down, go to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66880" y="1676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Br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371600" y="1295280"/>
          <a:ext cx="102708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10270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1295280" y="23623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4852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52578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924680" y="510552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02800" y="1295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29400" y="437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4680" y="43783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17000" y="43434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229600" y="30481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5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342900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21 will not divide into your new number, 3, &amp; there is nothing to bring down, you are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1676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peat or Rema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219320" y="1143000"/>
          <a:ext cx="1195200" cy="16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119520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1221120" y="261612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436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72200" y="52578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20120" y="5105520"/>
            <a:ext cx="62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0199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192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722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24480" y="437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43783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32448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12080" y="43434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00600" y="198108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00800" y="289548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12080" y="28954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924680" y="31240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43600" y="22096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0120" y="12952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27880" y="5248440"/>
            <a:ext cx="45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your left over 3 as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der next to the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002440" y="1371600"/>
            <a:ext cx="89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R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3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3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276720" y="13604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6088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219320" y="1752480"/>
          <a:ext cx="99828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99828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2286000" y="4648320"/>
          <a:ext cx="12859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64832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7467480" y="1219320"/>
          <a:ext cx="1447920" cy="13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1219320"/>
                    <a:ext cx="1447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6477120" y="3276720"/>
          <a:ext cx="10270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3276720"/>
                    <a:ext cx="1027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7620120" y="4876920"/>
          <a:ext cx="1195200" cy="1633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876920"/>
                    <a:ext cx="119520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1295280" y="3429000"/>
          <a:ext cx="182880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95280" y="34290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1143000" y="380880"/>
          <a:ext cx="2209680" cy="1737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380880"/>
                    <a:ext cx="2209680" cy="17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1222560" y="60948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er wor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74120" y="3429000"/>
            <a:ext cx="175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m pro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y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629400" y="304920"/>
          <a:ext cx="1981080" cy="1447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29400" y="304920"/>
                    <a:ext cx="19810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7011720" y="380880"/>
            <a:ext cx="12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y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7391520" y="2666880"/>
          <a:ext cx="1447560" cy="1737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91520" y="2666880"/>
                    <a:ext cx="1447560" cy="17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7470000" y="2743200"/>
            <a:ext cx="124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’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4267080"/>
          <a:ext cx="2057400" cy="949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5880" y="4267080"/>
                    <a:ext cx="20574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6251760" y="43434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w-wow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33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62520" y="495288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10080" y="480060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3809520" y="3124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1880" y="33526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62520" y="342900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407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07340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16765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335268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91120" y="25909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02400" y="25909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15000" y="28195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33920" y="1905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00600" y="990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9907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92760" y="1066680"/>
            <a:ext cx="89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40384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33526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Monica Yuska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ions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el Gallery by Corel Cor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derbund Co. Art T/Maker 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22560" y="4029120"/>
            <a:ext cx="764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ing of this software must be approv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ca Yuskaitis, Walter White Elementary, CU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oftware may only be us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es Unified School Distr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ong Division With 2 Digit Divis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70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ur family to help you remember the steps in long di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00200" y="2895480"/>
          <a:ext cx="99864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9986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286080" y="2819520"/>
          <a:ext cx="12859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281952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181480" y="2895480"/>
          <a:ext cx="1447920" cy="13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2895480"/>
                    <a:ext cx="1447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162920" y="3048120"/>
          <a:ext cx="10270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3048120"/>
                    <a:ext cx="1027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343400" y="4343400"/>
          <a:ext cx="1195560" cy="163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4343400"/>
                    <a:ext cx="119556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690560" y="4343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43434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4343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5200" y="589284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0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erson represents a step in the long division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95280" y="2438280"/>
          <a:ext cx="8766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8766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219320" y="4267080"/>
          <a:ext cx="109368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267080"/>
                    <a:ext cx="10936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724280" y="1905120"/>
          <a:ext cx="1295640" cy="11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905120"/>
                    <a:ext cx="129564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876920" y="3352680"/>
          <a:ext cx="95400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352680"/>
                    <a:ext cx="954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76920" y="4648320"/>
          <a:ext cx="1084320" cy="14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648320"/>
                    <a:ext cx="108432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37160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5562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4191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8360" y="60199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24240" y="258120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Di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23520" y="463860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Multi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58880" y="212400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Sub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35200" y="349560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Bring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35560" y="4791240"/>
            <a:ext cx="202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Repeat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1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0388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21 into first number in the divid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886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will not go into 9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look at 9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3346560"/>
          <a:ext cx="3505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346560"/>
                    <a:ext cx="3505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257800" y="3276720"/>
          <a:ext cx="3481560" cy="33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276720"/>
                    <a:ext cx="34815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5715000" y="350532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20’s will go into 90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0804800">
            <a:off x="6171840" y="2590560"/>
            <a:ext cx="614520" cy="226800"/>
          </a:xfrm>
          <a:prstGeom prst="leftArrow">
            <a:avLst>
              <a:gd name="adj1" fmla="val 50000"/>
              <a:gd name="adj2" fmla="val 677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371600" y="1447920"/>
          <a:ext cx="9986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1447920"/>
                    <a:ext cx="9986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523880" y="2590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167652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Div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5638680"/>
            <a:ext cx="458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ivide 20 into 90 &amp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your answer above the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724280"/>
            <a:ext cx="379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nd off 21 and 94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2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3048120"/>
            <a:ext cx="464832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the divis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the first numbe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your quot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4419720"/>
            <a:ext cx="426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your 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ly under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 or the num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just divided i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1295280"/>
            <a:ext cx="68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562720" y="3757680"/>
          <a:ext cx="2971800" cy="22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757680"/>
                    <a:ext cx="297180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715000" y="3657600"/>
          <a:ext cx="264312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3657600"/>
                    <a:ext cx="26431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6629400" y="3581280"/>
            <a:ext cx="8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1676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Multi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43000" y="1219320"/>
          <a:ext cx="128592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21932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295280" y="2590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3280200">
            <a:off x="6606720" y="1546200"/>
            <a:ext cx="239760" cy="1414440"/>
          </a:xfrm>
          <a:prstGeom prst="upArrow">
            <a:avLst>
              <a:gd name="adj1" fmla="val 50000"/>
              <a:gd name="adj2" fmla="val 14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31200" y="2819520"/>
            <a:ext cx="56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17000" y="2819520"/>
            <a:ext cx="56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3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line under the 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36576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subtraction sig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to the 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1676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Subtr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2819520"/>
            <a:ext cx="533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19320" y="1295280"/>
          <a:ext cx="144756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14475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447920" y="24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7760" y="4724280"/>
            <a:ext cx="34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84 from 9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7040" y="5334120"/>
            <a:ext cx="631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your answer directly below the 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31200" y="2819520"/>
            <a:ext cx="56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7000" y="2819520"/>
            <a:ext cx="56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4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the next number in the dividend to the right of the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236232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44197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n arrow unde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16765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Bring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5486400"/>
            <a:ext cx="50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the 8 down next to the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371600" y="1447920"/>
          <a:ext cx="10270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1027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295280" y="2438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7565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0804800">
            <a:off x="7772040" y="2590560"/>
            <a:ext cx="223920" cy="3031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5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where you deci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you repeat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steps of divis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4419720"/>
            <a:ext cx="769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r divisor can divide into your new number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, or if you have numbers in the divide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have not been brought down, you repe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5 steps of di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66880" y="1676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peat or Rema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95280" y="1066680"/>
          <a:ext cx="1195560" cy="16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066680"/>
                    <a:ext cx="119556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1373400" y="259092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1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42640" y="2895480"/>
            <a:ext cx="34290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21 into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number, 1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52578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your answer direct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ve the 8 in your quot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668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43000" y="1295280"/>
          <a:ext cx="99864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9986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219320" y="243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3544400">
            <a:off x="5434200" y="3404160"/>
            <a:ext cx="1268640" cy="250920"/>
          </a:xfrm>
          <a:prstGeom prst="leftArrow">
            <a:avLst>
              <a:gd name="adj1" fmla="val 50000"/>
              <a:gd name="adj2" fmla="val 1263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05200" y="3886200"/>
            <a:ext cx="369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nd 21 and 108 o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your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4800600"/>
            <a:ext cx="31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20 into 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02800" y="1295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3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3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3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3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15:42:19Z</dcterms:created>
  <dc:creator>Monica/Bob Yuskaitis</dc:creator>
  <dc:description/>
  <dc:language>en-US</dc:language>
  <cp:lastModifiedBy>Jackie's</cp:lastModifiedBy>
  <dcterms:modified xsi:type="dcterms:W3CDTF">2008-04-03T18:47:58Z</dcterms:modified>
  <cp:revision>92</cp:revision>
  <dc:subject/>
  <dc:title>Short Division</dc:title>
</cp:coreProperties>
</file>