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6150-F01E-42A3-AC40-A97B115DF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A8FB-D815-491A-90EA-2DFB2610B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E7AE-1B33-41FE-90E7-D303E0C5D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84A8-807D-4FDF-9473-478178681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0D3AE-0817-4813-BDF0-48835BAB7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711FB-F6A6-43C1-8141-B784E94AB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86CA5-5CC8-4FD4-96BB-3B932B93D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0B0EB-F54D-4376-AC5B-BE0507319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25D2C-E978-4537-9D78-C71A693A8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58B14-1D34-4883-ADA3-46E870F6C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2BCA7-E589-4021-895A-15BF182E4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F179-3216-475C-8740-BCEAD1A27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992A8-07F7-477B-914B-A38CBC133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186EC-E7CC-4CA6-9726-F623C0E6C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A355D-5066-4D5C-86D7-BACD2D05D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E847D-C596-4864-A8EC-DD4846D04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A9811-9F65-4C61-A507-B6786094F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EA30-D4AD-4B18-B0BF-9DD08AAF0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E04C-18E0-40C8-BAFD-87B48BB3D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83EE-A986-4062-8570-9CBF95811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4079-AC8A-4CCB-BBA1-B6D90F29F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1D9F-A52D-4676-8752-57EECEB80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445D-6341-4FDF-A066-FACF48131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EA67-AF72-45F6-87FB-3167528DE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50760"/>
            <a:ext cx="8925840" cy="6743520"/>
            <a:chOff x="0" y="50760"/>
            <a:chExt cx="8925840" cy="6743520"/>
          </a:xfrm>
        </p:grpSpPr>
        <p:grpSp>
          <p:nvGrpSpPr>
            <p:cNvPr id="1" name=""/>
            <p:cNvGrpSpPr/>
            <p:nvPr/>
          </p:nvGrpSpPr>
          <p:grpSpPr>
            <a:xfrm>
              <a:off x="0" y="50760"/>
              <a:ext cx="8925840" cy="6743520"/>
              <a:chOff x="0" y="50760"/>
              <a:chExt cx="8925840" cy="6743520"/>
            </a:xfrm>
          </p:grpSpPr>
          <p:sp>
            <p:nvSpPr>
              <p:cNvPr id="2" name=""/>
              <p:cNvSpPr/>
              <p:nvPr/>
            </p:nvSpPr>
            <p:spPr>
              <a:xfrm>
                <a:off x="528840" y="201960"/>
                <a:ext cx="8397000" cy="6466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50760"/>
                <a:ext cx="1181160" cy="428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"/>
              <p:cNvSpPr/>
              <p:nvPr/>
            </p:nvSpPr>
            <p:spPr>
              <a:xfrm>
                <a:off x="596880" y="4129920"/>
                <a:ext cx="1041120" cy="456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" name="" descr=""/>
              <p:cNvPicPr/>
              <p:nvPr/>
            </p:nvPicPr>
            <p:blipFill>
              <a:blip r:embed="rId3"/>
              <a:srcRect l="0" t="40000" r="0" b="0"/>
              <a:stretch/>
            </p:blipFill>
            <p:spPr>
              <a:xfrm>
                <a:off x="0" y="4222800"/>
                <a:ext cx="1181160" cy="2571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" name=""/>
            <p:cNvGrpSpPr/>
            <p:nvPr/>
          </p:nvGrpSpPr>
          <p:grpSpPr>
            <a:xfrm>
              <a:off x="1149120" y="1543680"/>
              <a:ext cx="7742520" cy="4800600"/>
              <a:chOff x="1149120" y="1543680"/>
              <a:chExt cx="7742520" cy="4800600"/>
            </a:xfrm>
          </p:grpSpPr>
          <p:sp>
            <p:nvSpPr>
              <p:cNvPr id="7" name=""/>
              <p:cNvSpPr/>
              <p:nvPr/>
            </p:nvSpPr>
            <p:spPr>
              <a:xfrm>
                <a:off x="1149120" y="1543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1149120" y="1772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149120" y="20005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1149120" y="2229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149120" y="2458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149120" y="26863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1149120" y="2915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1149120" y="3143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149120" y="33721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49120" y="3601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149120" y="3829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1149120" y="40579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149120" y="4286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149120" y="4515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149120" y="47437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149120" y="4972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49120" y="5201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1149120" y="54295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1149120" y="5658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1149120" y="5887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149120" y="61153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149120" y="6344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body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 type="dt" idx="1"/>
          </p:nvPr>
        </p:nvSpPr>
        <p:spPr>
          <a:xfrm>
            <a:off x="104112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 type="ftr" idx="2"/>
          </p:nvPr>
        </p:nvSpPr>
        <p:spPr>
          <a:xfrm>
            <a:off x="350496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 type="sldNum" idx="3"/>
          </p:nvPr>
        </p:nvSpPr>
        <p:spPr>
          <a:xfrm>
            <a:off x="693396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16033-79BB-4668-BF03-EB5D5C91EE55}" type="slidenum"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dt" idx="4"/>
          </p:nvPr>
        </p:nvSpPr>
        <p:spPr>
          <a:xfrm>
            <a:off x="1117080" y="6114600"/>
            <a:ext cx="193068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ftr" idx="5"/>
          </p:nvPr>
        </p:nvSpPr>
        <p:spPr>
          <a:xfrm>
            <a:off x="3556080" y="611460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sldNum" idx="6"/>
          </p:nvPr>
        </p:nvSpPr>
        <p:spPr>
          <a:xfrm>
            <a:off x="7010280" y="611460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578F9-CEE2-4CCF-9CB9-DE0782121DF6}" type="slidenum"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0.wmf"/><Relationship Id="rId2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Long Division</a:t>
            </a:r>
            <a:br>
              <a:rPr sz="4400"/>
            </a:b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With 2 Digit Divisor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7760" y="1904760"/>
            <a:ext cx="3886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Monica Yuskait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814400" y="2666880"/>
          <a:ext cx="998640" cy="123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14400" y="2666880"/>
                    <a:ext cx="998640" cy="123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3429000" y="2590920"/>
          <a:ext cx="1285920" cy="1523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590920"/>
                    <a:ext cx="128592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5105520" y="2666880"/>
          <a:ext cx="1447560" cy="1317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05520" y="2666880"/>
                    <a:ext cx="1447560" cy="13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7086600" y="2819520"/>
          <a:ext cx="1027080" cy="1066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086600" y="2819520"/>
                    <a:ext cx="102708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4343400" y="4343400"/>
          <a:ext cx="1195560" cy="1633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343400" y="4343400"/>
                    <a:ext cx="1195560" cy="163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Step 2 in 2 Digit Long Divisio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43000" y="3429000"/>
            <a:ext cx="449568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6000"/>
          </a:bodyPr>
          <a:p>
            <a:pPr marL="226080" indent="-226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ply your divisor, 21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th your new numbe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the quotient, 5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295280" y="56386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143000" y="4724280"/>
            <a:ext cx="4038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 your answe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ly under th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8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486400" y="17524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470560" y="2708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666880" y="167652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Multip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1295280" y="1143000"/>
          <a:ext cx="1285920" cy="152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143000"/>
                    <a:ext cx="128592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4" name=""/>
          <p:cNvSpPr/>
          <p:nvPr/>
        </p:nvSpPr>
        <p:spPr>
          <a:xfrm>
            <a:off x="1371600" y="266688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H="1">
            <a:off x="6248520" y="3429000"/>
            <a:ext cx="3808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629400" y="36576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105520" y="2133720"/>
            <a:ext cx="3581280" cy="11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2 1) 9 4 8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48520" y="236232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315200" y="12952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705720" y="2819520"/>
            <a:ext cx="565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315200" y="3657600"/>
            <a:ext cx="565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317000" y="281952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926480" y="365760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8228160" y="3038760"/>
            <a:ext cx="1800" cy="628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400800" y="3733920"/>
            <a:ext cx="2209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8002800" y="129528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rot="9164400">
            <a:off x="6171480" y="2133360"/>
            <a:ext cx="1940040" cy="323640"/>
          </a:xfrm>
          <a:prstGeom prst="leftArrow">
            <a:avLst>
              <a:gd name="adj1" fmla="val 50000"/>
              <a:gd name="adj2" fmla="val 149861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461280" y="51465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629400" y="43783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315200" y="4419720"/>
            <a:ext cx="565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Times New Roman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924680" y="4378320"/>
            <a:ext cx="56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Times New Roman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3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3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3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3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0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Step 3 in 2 Digit Long Divisio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066320" y="3048120"/>
            <a:ext cx="449604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aw a line under the bottom number, 105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295280" y="56386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066680" y="4038480"/>
            <a:ext cx="403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aw a subtraction sig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486400" y="17524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470560" y="2708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666880" y="167652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 Subtra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9" name=""/>
          <p:cNvGraphicFramePr/>
          <p:nvPr/>
        </p:nvGraphicFramePr>
        <p:xfrm>
          <a:off x="1066680" y="1143000"/>
          <a:ext cx="1447920" cy="131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143000"/>
                    <a:ext cx="1447920" cy="13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1" name=""/>
          <p:cNvSpPr/>
          <p:nvPr/>
        </p:nvSpPr>
        <p:spPr>
          <a:xfrm>
            <a:off x="1295280" y="236232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s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248520" y="4876920"/>
            <a:ext cx="38088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172200" y="5257800"/>
            <a:ext cx="243828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066680" y="4876920"/>
            <a:ext cx="397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tract &amp; place answe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der the l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924680" y="5105520"/>
            <a:ext cx="62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6248520" y="3429000"/>
            <a:ext cx="3808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105520" y="2133720"/>
            <a:ext cx="3581280" cy="11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2 1) 9 4 8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248520" y="236232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315200" y="12952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705720" y="2819520"/>
            <a:ext cx="565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315200" y="3657600"/>
            <a:ext cx="565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317000" y="281952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7926480" y="365760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8228160" y="3038760"/>
            <a:ext cx="1800" cy="628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400800" y="3733920"/>
            <a:ext cx="2209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8002800" y="129528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629400" y="43783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7924680" y="4378320"/>
            <a:ext cx="56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629400" y="36576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315200" y="4343400"/>
            <a:ext cx="565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3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3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3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3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3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3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Step 4 in 2 Digit Long Divisio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066320" y="3048120"/>
            <a:ext cx="449604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9000"/>
          </a:bodyPr>
          <a:p>
            <a:pPr marL="133560" indent="-1335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ce there is nothing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3560" indent="-133560">
              <a:spcBef>
                <a:spcPts val="7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ing down, go to st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3560" indent="-133560">
              <a:spcBef>
                <a:spcPts val="7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v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105520" y="2133720"/>
            <a:ext cx="3581280" cy="11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295280" y="56386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486400" y="17524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470560" y="2708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666880" y="1676520"/>
            <a:ext cx="2362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 Bring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8" name=""/>
          <p:cNvGraphicFramePr/>
          <p:nvPr/>
        </p:nvGraphicFramePr>
        <p:xfrm>
          <a:off x="1371600" y="1295280"/>
          <a:ext cx="1027080" cy="106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295280"/>
                    <a:ext cx="1027080" cy="10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1295280" y="236232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r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248520" y="48769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172200" y="5257800"/>
            <a:ext cx="2438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7924680" y="5105520"/>
            <a:ext cx="62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6248520" y="3429000"/>
            <a:ext cx="3808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105520" y="2133720"/>
            <a:ext cx="3581280" cy="11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2 1) 9 4 8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248520" y="236232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315200" y="12952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705720" y="2819520"/>
            <a:ext cx="565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315200" y="3657600"/>
            <a:ext cx="565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317000" y="281952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7926480" y="365760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400800" y="3733920"/>
            <a:ext cx="2209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8002800" y="129528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629400" y="43783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7924680" y="4378320"/>
            <a:ext cx="56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629400" y="36576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317000" y="434340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8229600" y="3048120"/>
            <a:ext cx="0" cy="60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3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3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300" fill="hold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300" fill="hold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300" fill="hold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300" fill="hold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Step 5 in 2 Digit Long Divisio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066320" y="3429000"/>
            <a:ext cx="449604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8000"/>
          </a:bodyPr>
          <a:p>
            <a:pPr marL="198720" indent="-1987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the 21 will not divide into your new number, 3, &amp; there is nothing to bring down, you are do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295280" y="56386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486400" y="17524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470560" y="2708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438280" y="1676520"/>
            <a:ext cx="2362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. Repeat or Remain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5" name=""/>
          <p:cNvGraphicFramePr/>
          <p:nvPr/>
        </p:nvGraphicFramePr>
        <p:xfrm>
          <a:off x="1219320" y="1143000"/>
          <a:ext cx="1195200" cy="163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143000"/>
                    <a:ext cx="1195200" cy="163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7" name=""/>
          <p:cNvSpPr/>
          <p:nvPr/>
        </p:nvSpPr>
        <p:spPr>
          <a:xfrm>
            <a:off x="1221120" y="2616120"/>
            <a:ext cx="110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943600" y="48769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172200" y="5257800"/>
            <a:ext cx="2438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7620120" y="5105520"/>
            <a:ext cx="625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6019920" y="3429000"/>
            <a:ext cx="3808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7621920" y="365760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172200" y="3733920"/>
            <a:ext cx="2209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324480" y="43783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620120" y="4378320"/>
            <a:ext cx="56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324480" y="36576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7012080" y="434340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800600" y="1981080"/>
            <a:ext cx="3581280" cy="11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2 1) 9 4 8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7010280" y="3657600"/>
            <a:ext cx="565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400800" y="2895480"/>
            <a:ext cx="565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7012080" y="289548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7924680" y="31240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943600" y="220968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7010280" y="12952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7620120" y="1295280"/>
            <a:ext cx="56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127880" y="5248440"/>
            <a:ext cx="4578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ite your left over 3 as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mainder next to the 5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8002440" y="1371600"/>
            <a:ext cx="892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R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300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300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3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3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3276720" y="136044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60880" y="2316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1219320" y="1752480"/>
          <a:ext cx="998280" cy="123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752480"/>
                    <a:ext cx="998280" cy="123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2" name=""/>
          <p:cNvGraphicFramePr/>
          <p:nvPr/>
        </p:nvGraphicFramePr>
        <p:xfrm>
          <a:off x="2286000" y="4648320"/>
          <a:ext cx="1285920" cy="1523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0" y="4648320"/>
                    <a:ext cx="128592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4" name=""/>
          <p:cNvGraphicFramePr/>
          <p:nvPr/>
        </p:nvGraphicFramePr>
        <p:xfrm>
          <a:off x="7467480" y="1219320"/>
          <a:ext cx="1447920" cy="1317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2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467480" y="1219320"/>
                    <a:ext cx="1447920" cy="13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6" name=""/>
          <p:cNvGraphicFramePr/>
          <p:nvPr/>
        </p:nvGraphicFramePr>
        <p:xfrm>
          <a:off x="6477120" y="3276720"/>
          <a:ext cx="1027080" cy="1066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2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477120" y="3276720"/>
                    <a:ext cx="102708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8" name=""/>
          <p:cNvGraphicFramePr/>
          <p:nvPr/>
        </p:nvGraphicFramePr>
        <p:xfrm>
          <a:off x="7620120" y="4876920"/>
          <a:ext cx="1195200" cy="1633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2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620120" y="4876920"/>
                    <a:ext cx="1195200" cy="16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0" name=""/>
          <p:cNvGraphicFramePr/>
          <p:nvPr/>
        </p:nvGraphicFramePr>
        <p:xfrm>
          <a:off x="1295280" y="3429000"/>
          <a:ext cx="1828800" cy="14479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3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295280" y="3429000"/>
                    <a:ext cx="182880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2" name=""/>
          <p:cNvGraphicFramePr/>
          <p:nvPr/>
        </p:nvGraphicFramePr>
        <p:xfrm>
          <a:off x="1143000" y="380880"/>
          <a:ext cx="2209680" cy="17370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33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143000" y="380880"/>
                    <a:ext cx="2209680" cy="173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4" name=""/>
          <p:cNvSpPr/>
          <p:nvPr/>
        </p:nvSpPr>
        <p:spPr>
          <a:xfrm>
            <a:off x="1222560" y="609480"/>
            <a:ext cx="208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uper work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374120" y="3429000"/>
            <a:ext cx="1752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’m prou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f you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6" name=""/>
          <p:cNvGraphicFramePr/>
          <p:nvPr/>
        </p:nvGraphicFramePr>
        <p:xfrm>
          <a:off x="6629400" y="304920"/>
          <a:ext cx="1981080" cy="14475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3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629400" y="304920"/>
                    <a:ext cx="1981080" cy="14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8" name=""/>
          <p:cNvSpPr/>
          <p:nvPr/>
        </p:nvSpPr>
        <p:spPr>
          <a:xfrm>
            <a:off x="7011720" y="380880"/>
            <a:ext cx="127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ay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o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9" name=""/>
          <p:cNvGraphicFramePr/>
          <p:nvPr/>
        </p:nvGraphicFramePr>
        <p:xfrm>
          <a:off x="7391520" y="2666880"/>
          <a:ext cx="1447560" cy="17370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440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391520" y="2666880"/>
                    <a:ext cx="1447560" cy="173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1" name=""/>
          <p:cNvSpPr/>
          <p:nvPr/>
        </p:nvSpPr>
        <p:spPr>
          <a:xfrm>
            <a:off x="7470000" y="2743200"/>
            <a:ext cx="1245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ou’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o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2" name=""/>
          <p:cNvGraphicFramePr/>
          <p:nvPr/>
        </p:nvGraphicFramePr>
        <p:xfrm>
          <a:off x="6095880" y="4267080"/>
          <a:ext cx="2057400" cy="9493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443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095880" y="4267080"/>
                    <a:ext cx="2057400" cy="9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4" name=""/>
          <p:cNvSpPr/>
          <p:nvPr/>
        </p:nvSpPr>
        <p:spPr>
          <a:xfrm>
            <a:off x="6251760" y="4343400"/>
            <a:ext cx="177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ow-wow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733920" y="45720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962520" y="4952880"/>
            <a:ext cx="2209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410080" y="4800600"/>
            <a:ext cx="62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H="1">
            <a:off x="3809520" y="3124080"/>
            <a:ext cx="3812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411880" y="335268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962520" y="3429000"/>
            <a:ext cx="2209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114800" y="40734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410080" y="4073400"/>
            <a:ext cx="56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1676520"/>
            <a:ext cx="3581280" cy="11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2 1) 9 4 8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800600" y="3352680"/>
            <a:ext cx="565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191120" y="2590920"/>
            <a:ext cx="565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802400" y="259092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715000" y="2819520"/>
            <a:ext cx="0" cy="60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733920" y="190512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800600" y="9907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410080" y="990720"/>
            <a:ext cx="56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792760" y="1066680"/>
            <a:ext cx="892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R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800600" y="4038480"/>
            <a:ext cx="56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114800" y="3352680"/>
            <a:ext cx="56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redit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7772400" cy="19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ten by Monica Yuskait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llustrations b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rel Gallery by Corel Cor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derbund Co. Art T/Maker C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222560" y="4029120"/>
            <a:ext cx="7646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ying of this software must be approved b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nica Yuskaitis, Walter White Elementary, CUS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software may only be used i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res Unified School Distri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Long Division With 2 Digit Divisor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23880" y="1600200"/>
            <a:ext cx="70106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our family to help you remember the steps in long divis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1600200" y="2895480"/>
          <a:ext cx="998640" cy="123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895480"/>
                    <a:ext cx="998640" cy="123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3286080" y="2819520"/>
          <a:ext cx="1285920" cy="1523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86080" y="2819520"/>
                    <a:ext cx="128592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5181480" y="2895480"/>
          <a:ext cx="1447920" cy="1317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81480" y="2895480"/>
                    <a:ext cx="1447920" cy="13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7162920" y="3048120"/>
          <a:ext cx="1027080" cy="1066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162920" y="3048120"/>
                    <a:ext cx="102708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4343400" y="4343400"/>
          <a:ext cx="1195560" cy="1633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343400" y="4343400"/>
                    <a:ext cx="1195560" cy="163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"/>
          <p:cNvSpPr/>
          <p:nvPr/>
        </p:nvSpPr>
        <p:spPr>
          <a:xfrm>
            <a:off x="1690560" y="43434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276720" y="434340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410080" y="434340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s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086600" y="434340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r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45200" y="5892840"/>
            <a:ext cx="110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3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3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2 Digit Long Divisio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23880" y="1371600"/>
            <a:ext cx="70106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person represents a step in the long division proce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295280" y="2438280"/>
          <a:ext cx="876600" cy="108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438280"/>
                    <a:ext cx="87660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1219320" y="4267080"/>
          <a:ext cx="1093680" cy="1295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9320" y="4267080"/>
                    <a:ext cx="1093680" cy="12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4724280" y="1905120"/>
          <a:ext cx="1295640" cy="1179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24280" y="1905120"/>
                    <a:ext cx="1295640" cy="11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4876920" y="3352680"/>
          <a:ext cx="954000" cy="990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76920" y="3352680"/>
                    <a:ext cx="9540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4876920" y="4648320"/>
          <a:ext cx="1084320" cy="1481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876920" y="4648320"/>
                    <a:ext cx="1084320" cy="14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"/>
          <p:cNvSpPr/>
          <p:nvPr/>
        </p:nvSpPr>
        <p:spPr>
          <a:xfrm>
            <a:off x="1371600" y="3581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219320" y="55627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876920" y="2895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800600" y="41911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r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878360" y="601992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424240" y="2581200"/>
            <a:ext cx="152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 Div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23520" y="4638600"/>
            <a:ext cx="186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Multip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158880" y="2124000"/>
            <a:ext cx="186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 Subtr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235200" y="3495600"/>
            <a:ext cx="232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 Bring dow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235560" y="4791240"/>
            <a:ext cx="2024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. Repeat 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main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Step 1 in 2 Digit Long Divisio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66320" y="3048120"/>
            <a:ext cx="403884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vide 21 into first number in the divide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105520" y="2133720"/>
            <a:ext cx="3581280" cy="11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2 1) 9 4 8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248520" y="236232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295280" y="56386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066680" y="3886200"/>
            <a:ext cx="3962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1 will not go into 9 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look at 9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315200" y="12952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Times New Roman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486400" y="17524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3346560"/>
          <a:ext cx="3505320" cy="270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346560"/>
                    <a:ext cx="3505320" cy="270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5257800" y="3276720"/>
          <a:ext cx="3481560" cy="3333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3276720"/>
                    <a:ext cx="3481560" cy="33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" name=""/>
          <p:cNvSpPr/>
          <p:nvPr/>
        </p:nvSpPr>
        <p:spPr>
          <a:xfrm>
            <a:off x="5715000" y="3505320"/>
            <a:ext cx="2590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many 20’s will go into 90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70560" y="2708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rot="10804800">
            <a:off x="6171840" y="2590560"/>
            <a:ext cx="614520" cy="226800"/>
          </a:xfrm>
          <a:prstGeom prst="leftArrow">
            <a:avLst>
              <a:gd name="adj1" fmla="val 50000"/>
              <a:gd name="adj2" fmla="val 6773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1371600" y="1447920"/>
          <a:ext cx="998640" cy="1238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71600" y="1447920"/>
                    <a:ext cx="998640" cy="123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2" name=""/>
          <p:cNvSpPr/>
          <p:nvPr/>
        </p:nvSpPr>
        <p:spPr>
          <a:xfrm>
            <a:off x="1523880" y="25909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666880" y="1676520"/>
            <a:ext cx="222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 Div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066680" y="5638680"/>
            <a:ext cx="4587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divide 20 into 90 &amp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t your answer above the 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66680" y="4724280"/>
            <a:ext cx="3794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nd off 21 and 94 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r h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3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3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3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Step 2 in 2 Digit Long Divisio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66680" y="3048120"/>
            <a:ext cx="464832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6000"/>
          </a:bodyPr>
          <a:p>
            <a:pPr marL="226080" indent="-226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ply the diviso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s the first number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your quoti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105520" y="2133720"/>
            <a:ext cx="3581280" cy="11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295280" y="56386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066680" y="4419720"/>
            <a:ext cx="4267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ite your answe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ly under th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4 or the numbe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just divided in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248520" y="1295280"/>
            <a:ext cx="6858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486400" y="17524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5562720" y="3757680"/>
          <a:ext cx="2971800" cy="229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62720" y="3757680"/>
                    <a:ext cx="2971800" cy="229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5" name=""/>
          <p:cNvGraphicFramePr/>
          <p:nvPr/>
        </p:nvGraphicFramePr>
        <p:xfrm>
          <a:off x="5715000" y="3657600"/>
          <a:ext cx="2643120" cy="2895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15000" y="3657600"/>
                    <a:ext cx="2643120" cy="28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"/>
          <p:cNvSpPr/>
          <p:nvPr/>
        </p:nvSpPr>
        <p:spPr>
          <a:xfrm>
            <a:off x="6629400" y="3581280"/>
            <a:ext cx="838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x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84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470560" y="2708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666880" y="167652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 Multipl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143000" y="1219320"/>
          <a:ext cx="1285920" cy="1523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43000" y="1219320"/>
                    <a:ext cx="128592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2" name=""/>
          <p:cNvSpPr/>
          <p:nvPr/>
        </p:nvSpPr>
        <p:spPr>
          <a:xfrm>
            <a:off x="1295280" y="259092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105520" y="2133720"/>
            <a:ext cx="3581280" cy="11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2 1) 9 4 8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248520" y="236232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315200" y="12952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rot="3280200">
            <a:off x="6606720" y="1546200"/>
            <a:ext cx="239760" cy="1414440"/>
          </a:xfrm>
          <a:prstGeom prst="upArrow">
            <a:avLst>
              <a:gd name="adj1" fmla="val 50000"/>
              <a:gd name="adj2" fmla="val 14748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477120" y="4724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631200" y="2819520"/>
            <a:ext cx="561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Times New Roman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317000" y="2819520"/>
            <a:ext cx="561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Times New Roman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3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3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3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3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Step 3 in 2 Digit Long Divisio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066320" y="3048120"/>
            <a:ext cx="449604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aw a line under the 8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105520" y="2133720"/>
            <a:ext cx="3581280" cy="11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295280" y="56386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066680" y="3657600"/>
            <a:ext cx="3962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ite a subtraction sig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xt to the 8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486400" y="17524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470560" y="2708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666880" y="167652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. Subtra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248520" y="2819520"/>
            <a:ext cx="53316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1219320" y="1295280"/>
          <a:ext cx="1447560" cy="131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295280"/>
                    <a:ext cx="1447560" cy="13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"/>
          <p:cNvSpPr/>
          <p:nvPr/>
        </p:nvSpPr>
        <p:spPr>
          <a:xfrm>
            <a:off x="1447920" y="243828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s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400800" y="3733920"/>
            <a:ext cx="22096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6248520" y="3429000"/>
            <a:ext cx="38088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067760" y="4724280"/>
            <a:ext cx="342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tract 84 from 9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067040" y="5334120"/>
            <a:ext cx="6315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ite your answer directly below the 8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629400" y="36576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105520" y="2133720"/>
            <a:ext cx="3581280" cy="11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2 1) 9 4 8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248520" y="236232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315200" y="12952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631200" y="2819520"/>
            <a:ext cx="561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317000" y="2819520"/>
            <a:ext cx="561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315200" y="3657600"/>
            <a:ext cx="565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Times New Roman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3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3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3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3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3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3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3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3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Step 4 in 2 Digit Long Divisio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066320" y="3048120"/>
            <a:ext cx="449604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6000"/>
          </a:bodyPr>
          <a:p>
            <a:pPr marL="226080" indent="-226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 to the next number in the dividend to the right of the 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105520" y="2133720"/>
            <a:ext cx="3581280" cy="11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867280" y="2362320"/>
            <a:ext cx="2438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295280" y="56386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066680" y="4419720"/>
            <a:ext cx="426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ite an arrow under t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umb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486400" y="17524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470560" y="2708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666880" y="1676520"/>
            <a:ext cx="236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. Bring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ow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066680" y="5486400"/>
            <a:ext cx="508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ing the 8 down next to the 1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1371600" y="1447920"/>
          <a:ext cx="1027080" cy="106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447920"/>
                    <a:ext cx="102708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5" name=""/>
          <p:cNvSpPr/>
          <p:nvPr/>
        </p:nvSpPr>
        <p:spPr>
          <a:xfrm>
            <a:off x="1295280" y="24382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r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400800" y="3733920"/>
            <a:ext cx="2209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6248520" y="3429000"/>
            <a:ext cx="3808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629400" y="36576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105520" y="2133720"/>
            <a:ext cx="3581280" cy="11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2 1) 9 4 8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248520" y="236232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315200" y="12952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705720" y="2819520"/>
            <a:ext cx="565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315200" y="3657600"/>
            <a:ext cx="565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317000" y="281952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756560" y="2556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rot="10804800">
            <a:off x="7772040" y="2590560"/>
            <a:ext cx="223920" cy="3031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926480" y="365760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Times New Roman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28160" y="3038760"/>
            <a:ext cx="1800" cy="6282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3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3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3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3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3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3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97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Step 5 in 2 Digit Long Divisio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066320" y="3048120"/>
            <a:ext cx="449604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6000"/>
          </a:bodyPr>
          <a:p>
            <a:pPr marL="226080" indent="-226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is where you decid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ther you repeat th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 steps of divisio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105520" y="2133720"/>
            <a:ext cx="3581280" cy="11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295280" y="56386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066680" y="4419720"/>
            <a:ext cx="7696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your divisor can divide into your new number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8, or if you have numbers in the dividen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at have not been brought down, you repea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5 steps of divis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486400" y="17524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666880" y="1676520"/>
            <a:ext cx="2362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. Repeat or Remain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1295280" y="1066680"/>
          <a:ext cx="1195560" cy="163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066680"/>
                    <a:ext cx="1195560" cy="163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8" name=""/>
          <p:cNvSpPr/>
          <p:nvPr/>
        </p:nvSpPr>
        <p:spPr>
          <a:xfrm>
            <a:off x="1373400" y="2590920"/>
            <a:ext cx="110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6248520" y="3429000"/>
            <a:ext cx="3808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629400" y="36576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105520" y="2133720"/>
            <a:ext cx="3581280" cy="11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2 1) 9 4 8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248520" y="236232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315200" y="12952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05720" y="2819520"/>
            <a:ext cx="565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315200" y="3657600"/>
            <a:ext cx="565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317000" y="281952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926480" y="365760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8228160" y="3038760"/>
            <a:ext cx="1800" cy="628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400800" y="3733920"/>
            <a:ext cx="2209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3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3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3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3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Step 1 in 2 Digit Long Divisio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142640" y="2895480"/>
            <a:ext cx="342900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vide 21 into you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spcBef>
                <a:spcPts val="7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 number, 108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295280" y="56386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66680" y="5257800"/>
            <a:ext cx="6629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 your answer directl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ove the 8 in your quoti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486400" y="17524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470560" y="2708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666880" y="167652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Div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1143000" y="1295280"/>
          <a:ext cx="998640" cy="123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295280"/>
                    <a:ext cx="998640" cy="123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9" name=""/>
          <p:cNvSpPr/>
          <p:nvPr/>
        </p:nvSpPr>
        <p:spPr>
          <a:xfrm>
            <a:off x="1219320" y="24382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6248520" y="3429000"/>
            <a:ext cx="3808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629400" y="36576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105520" y="2133720"/>
            <a:ext cx="3581280" cy="11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2 1) 9 4 8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248520" y="236232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315200" y="12952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705720" y="2819520"/>
            <a:ext cx="565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3657600"/>
            <a:ext cx="565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317000" y="281952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926480" y="365760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8228160" y="3038760"/>
            <a:ext cx="1800" cy="628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400800" y="3733920"/>
            <a:ext cx="2209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rot="13544400">
            <a:off x="5434200" y="3404160"/>
            <a:ext cx="1268640" cy="250920"/>
          </a:xfrm>
          <a:prstGeom prst="leftArrow">
            <a:avLst>
              <a:gd name="adj1" fmla="val 50000"/>
              <a:gd name="adj2" fmla="val 12639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105200" y="3886200"/>
            <a:ext cx="369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nd 21 and 108 of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your h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066680" y="4800600"/>
            <a:ext cx="316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vide 20 into 1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002800" y="129528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Times New Roman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3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3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3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3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3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3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3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3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3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3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2T15:42:19Z</dcterms:created>
  <dc:creator>Monica/Bob Yuskaitis</dc:creator>
  <dc:description/>
  <dc:language>en-US</dc:language>
  <cp:lastModifiedBy>Jackie's</cp:lastModifiedBy>
  <dcterms:modified xsi:type="dcterms:W3CDTF">2008-04-03T18:47:58Z</dcterms:modified>
  <cp:revision>92</cp:revision>
  <dc:subject/>
  <dc:title>Short Division</dc:title>
</cp:coreProperties>
</file>